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6A3D-4C28-40E3-93FB-CDA251417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2F92-F882-415C-A161-9E40777B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CE30-39B3-4FD1-8FDA-4C28A081A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D849-6144-4739-BEA7-733FBE8C6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574F-474A-401E-AFC6-66D7B972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840A-6A05-4E21-AD7B-550D540C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299D-800F-4A89-8F44-B4D91ED2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9747-AC29-4067-87E0-5DC95B8F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56A4-9F7D-4DC4-8F70-E141F41F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4D79-74CA-4884-8FF6-C68F5DF2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F315-B493-41E4-9445-5777721D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AE07-3FFA-40E7-A432-5112828A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9564-B4C4-4C41-A9CF-591A8D9ECB5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muzeum-beroun.cz/09/2012/po-talichovi-se-v-beroune-jmenuje-hudebni-skola-i-puvabne-udoli/" TargetMode="External"/><Relationship Id="rId3" Type="http://schemas.openxmlformats.org/officeDocument/2006/relationships/hyperlink" Target="http://muzeum-beroun.cz/09/2012/po-talichovi-se-v-beroune-jmenuje-hudebni-skola-i-puvabne-udoli/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ase-rec.ujc.cas.cz/archiv.php?art=5127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Jeden den v naší zemi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11. květen 1945) </a:t>
            </a:r>
            <a:br>
              <a:rPr sz="2000"/>
            </a:b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Česká žurnalistika v příkladech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VY_32_INOVACE_2320</a:t>
            </a: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titulek"/>
          <p:cNvPicPr/>
          <p:nvPr/>
        </p:nvPicPr>
        <p:blipFill>
          <a:blip r:embed="rId1"/>
          <a:stretch/>
        </p:blipFill>
        <p:spPr>
          <a:xfrm>
            <a:off x="179280" y="1341360"/>
            <a:ext cx="6769080" cy="49276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88000" y="1196640"/>
            <a:ext cx="2376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dle ukázek z dobového tis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harakterizuj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jeden den v naší zemi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záhlaví nov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politická strana, šéfredaktor, cena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b/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úvodní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téma, styl, jazy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2"/>
          <a:stretch/>
        </p:blipFill>
        <p:spPr>
          <a:xfrm>
            <a:off x="8028000" y="6062760"/>
            <a:ext cx="1116000" cy="79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Jeden den v naší zemi</a:t>
            </a:r>
            <a:br>
              <a:rPr sz="2000"/>
            </a:b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Česká žurnalistika v příkladech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VY_32_INOVACE_2320</a:t>
            </a: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titulek_2"/>
          <p:cNvPicPr/>
          <p:nvPr/>
        </p:nvPicPr>
        <p:blipFill>
          <a:blip r:embed="rId1"/>
          <a:stretch/>
        </p:blipFill>
        <p:spPr>
          <a:xfrm>
            <a:off x="522360" y="1125360"/>
            <a:ext cx="4595760" cy="5399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Záhla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formace o noviná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šéfredaktor, sídlo, vydavatel – co tyto informace vypovídají o daném periodiku?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ena –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o čem všem nás může cena inform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2"/>
          <a:stretch/>
        </p:blipFill>
        <p:spPr>
          <a:xfrm>
            <a:off x="7740720" y="5856120"/>
            <a:ext cx="1403280" cy="10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Jeden den v naší zemi</a:t>
            </a:r>
            <a:br>
              <a:rPr sz="2000"/>
            </a:b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Česká žurnalistika v příkladech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VY_32_INOVACE_2320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titulek_3"/>
          <p:cNvPicPr/>
          <p:nvPr/>
        </p:nvPicPr>
        <p:blipFill>
          <a:blip r:embed="rId1"/>
          <a:stretch/>
        </p:blipFill>
        <p:spPr>
          <a:xfrm>
            <a:off x="324000" y="1484280"/>
            <a:ext cx="4294080" cy="4997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dle první strany prezentace – vysvětlete umístění tohoto textu  v novin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č je Masaryk spojován s Lidicemi (zdánlivě nelogicky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ajděte zvláštnosti dobového jazyk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terá slova (slovní spojení) jsou výrazem dobového patosu (pathosu)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"/>
          <p:cNvPicPr/>
          <p:nvPr/>
        </p:nvPicPr>
        <p:blipFill>
          <a:blip r:embed="rId2"/>
          <a:stretch/>
        </p:blipFill>
        <p:spPr>
          <a:xfrm>
            <a:off x="7667640" y="5805360"/>
            <a:ext cx="147636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Jeden den v naší zemi</a:t>
            </a:r>
            <a:br>
              <a:rPr sz="2000"/>
            </a:b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Česká žurnalistika v příkladech 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VY_32_INOVACE_2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České_slovo_11"/>
          <p:cNvPicPr/>
          <p:nvPr/>
        </p:nvPicPr>
        <p:blipFill>
          <a:blip r:embed="rId1"/>
          <a:stretch/>
        </p:blipFill>
        <p:spPr>
          <a:xfrm>
            <a:off x="395280" y="1125360"/>
            <a:ext cx="7416720" cy="47404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60" y="5949720"/>
            <a:ext cx="8101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Druhá strana  „Českého slova“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– porovnejte ji s ukázkou 1. strany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čím se obsahově liší, je obsah závislý také na vydavateli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"/>
          <p:cNvPicPr/>
          <p:nvPr/>
        </p:nvPicPr>
        <p:blipFill>
          <a:blip r:embed="rId2"/>
          <a:stretch/>
        </p:blipFill>
        <p:spPr>
          <a:xfrm>
            <a:off x="7885080" y="5969160"/>
            <a:ext cx="12589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Jeden den v naší zemi</a:t>
            </a:r>
            <a:br>
              <a:rPr sz="2000"/>
            </a:b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Česká žurnalistika v příkladech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VY_32_INOVACE_2320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České_slovo_11"/>
          <p:cNvPicPr/>
          <p:nvPr/>
        </p:nvPicPr>
        <p:blipFill>
          <a:blip r:embed="rId1"/>
          <a:stretch/>
        </p:blipFill>
        <p:spPr>
          <a:xfrm>
            <a:off x="324000" y="1052640"/>
            <a:ext cx="4186080" cy="55162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ext je dokladem zájmu o tělovýchovu a sport hned po osvobození – je v něm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několik zvláštnost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kuste se identifikovat dobové zkrat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ajdi rozdíly mezi současným a dobovým pravopisem (pravidly z r.194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kaž věty, které by bylo v dnešní době nutné přeformulov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7667640" y="5810400"/>
            <a:ext cx="14763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Jeden den v naší zemi</a:t>
            </a:r>
            <a:br>
              <a:rPr sz="2000"/>
            </a:b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Česká žurnalistika v příkladech 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VY_32_INOVACE_2320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České_slovo_11"/>
          <p:cNvPicPr/>
          <p:nvPr/>
        </p:nvPicPr>
        <p:blipFill>
          <a:blip r:embed="rId1"/>
          <a:stretch/>
        </p:blipFill>
        <p:spPr>
          <a:xfrm>
            <a:off x="324000" y="1628640"/>
            <a:ext cx="5400360" cy="30927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24000" y="1600200"/>
            <a:ext cx="29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práva je příkladem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„zhuštění“ tex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aké informace poskytuj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veďte zvláštnosti dobové slovní zásob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539640" y="5084640"/>
            <a:ext cx="518472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66cc"/>
                </a:solidFill>
                <a:uFillTx/>
                <a:latin typeface="Times New Roman"/>
                <a:hlinkClick r:id="rId2"/>
              </a:rPr>
              <a:t>http://muzeum-beroun.cz/09/2012/po-talichovi-se-v-beroune-jmenuje-hudebni-skola-i-puvabne-udoli</a:t>
            </a:r>
            <a:r>
              <a:rPr b="0" lang="cs-CZ" sz="1200" spc="-1" strike="noStrike" u="sng">
                <a:solidFill>
                  <a:srgbClr val="0066cc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uvádí informac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áclav Talich 9.5.1945 šel pěšky z Berouna do Prahy, aby nastoupil práci v Národním diva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4"/>
          <a:stretch/>
        </p:blipFill>
        <p:spPr>
          <a:xfrm>
            <a:off x="7740720" y="5865840"/>
            <a:ext cx="14032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Jeden den v naší zemi</a:t>
            </a:r>
            <a:br>
              <a:rPr sz="2400"/>
            </a:b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Česká žurnalistika v příkladech   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Y_32_INOVACE_2320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05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droj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České slovo – výtisk z 11.5.1945 – vlastní archiv autor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www.http://cs.wikipedia.org/wiki/Novin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Jaroslav Jelínek, Vlastimil Styblík, Čtení o českém jazyku, SPN Praha 19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66cc"/>
                </a:solidFill>
                <a:uFillTx/>
                <a:latin typeface="Times New Roman"/>
                <a:hlinkClick r:id="rId1"/>
              </a:rPr>
              <a:t>http://nase-rec.ujc.cas.cz/archiv.php?art=5127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- Alexandr Stich, Novinářský jazyk a publicistický styl v letech 1945—19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7740720" y="5865840"/>
            <a:ext cx="14032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9T17:10:04Z</dcterms:created>
  <dc:creator>Marie Poledníková st</dc:creator>
  <dc:description/>
  <dc:language>en-US</dc:language>
  <cp:lastModifiedBy>polednikova</cp:lastModifiedBy>
  <dcterms:modified xsi:type="dcterms:W3CDTF">2013-06-04T13:26:56Z</dcterms:modified>
  <cp:revision>26</cp:revision>
  <dc:subject/>
  <dc:title>Snímek 1</dc:title>
</cp:coreProperties>
</file>