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EA52-EB35-4ECB-A01E-EB7F3F4047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rodní politika, 24.6.194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4261E-73CB-4694-8B8A-B866EA665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vě tváře poslední strany?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1EC9-3077-41C0-A220-4FB4AA90AA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Jaké informace přinášejí uvedené texty. Najdeme v nich nějaké jazykové zvláštnosti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31F48-36EE-4EA2-950A-54DC4552D2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6473-3D59-49BC-BAD1-7CD0DE1FB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7983-AADF-4DA2-B078-4FBC3406F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F0A6-97CE-4CE8-86C2-96CA1A970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8B4-A704-4016-A29C-4CAEF025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BDD0-A6E6-41A9-B4B3-E2A9AD51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738-B0BE-43F9-BF26-25F0725C5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4DE-D992-47B9-97A1-33F78A77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CD73-ECCD-45C4-AE59-213DD5F85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DAE2-BC5E-46CE-A18B-2A69491CD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E536E-5258-45D1-8956-A6E346C3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5471-9D7F-4479-BD8B-E429FD31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3221-BD9A-49D2-AC69-8A7FE73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798B-F208-4CA3-8019-88AFE3A0817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24. červen 1941) </a:t>
            </a:r>
            <a:br>
              <a:rPr sz="22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4f81bd"/>
                </a:solidFill>
                <a:latin typeface="Calibri"/>
              </a:rPr>
              <a:t>VY_32_INOVACE_2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F:\MEV\šablony\Národní politika 1941\Titulek.jpg"/>
          <p:cNvPicPr/>
          <p:nvPr/>
        </p:nvPicPr>
        <p:blipFill>
          <a:blip r:embed="rId1"/>
          <a:stretch/>
        </p:blipFill>
        <p:spPr>
          <a:xfrm>
            <a:off x="468360" y="1773360"/>
            <a:ext cx="8199360" cy="244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323640" y="4436640"/>
            <a:ext cx="835164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pozadí tisku a znalostí  z historie – připomeňme situaci, v níž se nacházela naše země v červnu 194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1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22. června 1941 zahájilo Německo tažení proti SSSR bez vyhlášení války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 vyčteme ze záhlaví této „Národní politiky“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Obdélník 7"/>
          <p:cNvSpPr/>
          <p:nvPr/>
        </p:nvSpPr>
        <p:spPr>
          <a:xfrm>
            <a:off x="6875640" y="6488280"/>
            <a:ext cx="22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Národní </a:t>
            </a:r>
            <a:r>
              <a:rPr b="0" lang="cs-CZ" sz="1800" spc="-1" strike="noStrike">
                <a:solidFill>
                  <a:srgbClr val="000000"/>
                </a:solidFill>
                <a:latin typeface="Blue Highway"/>
                <a:ea typeface="Traditional Arabic"/>
              </a:rPr>
              <a:t>politika</a:t>
            </a: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, 24.6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24. červen 1941)  </a:t>
            </a:r>
            <a:br>
              <a:rPr sz="22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4f81bd"/>
                </a:solidFill>
                <a:latin typeface="Calibri"/>
              </a:rPr>
              <a:t>VY_32_INOVACE_2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4221000"/>
            <a:ext cx="860436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. června 1941 - Hitler vydává provolání k německému národu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našich novinách se objevuje o 2 dny později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bový novinář opatřil provolání podtitulk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následujícím textu ověřme, jak jsou podtitulky výstižné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F:\MEV\šablony\Národní politika 1941\Vůdcovo provolání_titulek.jpg"/>
          <p:cNvPicPr/>
          <p:nvPr/>
        </p:nvPicPr>
        <p:blipFill>
          <a:blip r:embed="rId1"/>
          <a:stretch/>
        </p:blipFill>
        <p:spPr>
          <a:xfrm>
            <a:off x="468360" y="1413000"/>
            <a:ext cx="8202600" cy="2520720"/>
          </a:xfrm>
          <a:prstGeom prst="rect">
            <a:avLst/>
          </a:prstGeom>
          <a:ln w="0">
            <a:noFill/>
          </a:ln>
        </p:spPr>
      </p:pic>
      <p:sp>
        <p:nvSpPr>
          <p:cNvPr id="55" name="Obdélník 5"/>
          <p:cNvSpPr/>
          <p:nvPr/>
        </p:nvSpPr>
        <p:spPr>
          <a:xfrm>
            <a:off x="656424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Národní politika, 24.6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24. červen 1941)  </a:t>
            </a:r>
            <a:br>
              <a:rPr sz="22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4f81bd"/>
                </a:solidFill>
                <a:latin typeface="Calibri"/>
              </a:rPr>
              <a:t>VY_32_INOVACE_2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0" y="4437000"/>
            <a:ext cx="8820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eré významné historické události se připomínají v úvodu provolání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kažme na jazykové dobové zvláštnosti textu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kusme se o tutéž analýzu i v následujícím textu – Prohlášení prezidenta E. Háchy: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F:\MEV\šablony\Národní politika 1941\Vůdcovo provolání_text.jpg"/>
          <p:cNvPicPr/>
          <p:nvPr/>
        </p:nvPicPr>
        <p:blipFill>
          <a:blip r:embed="rId1"/>
          <a:stretch/>
        </p:blipFill>
        <p:spPr>
          <a:xfrm>
            <a:off x="442800" y="1341360"/>
            <a:ext cx="8377200" cy="2664000"/>
          </a:xfrm>
          <a:prstGeom prst="rect">
            <a:avLst/>
          </a:prstGeom>
          <a:ln w="0">
            <a:noFill/>
          </a:ln>
        </p:spPr>
      </p:pic>
      <p:sp>
        <p:nvSpPr>
          <p:cNvPr id="59" name="Obdélník 5"/>
          <p:cNvSpPr/>
          <p:nvPr/>
        </p:nvSpPr>
        <p:spPr>
          <a:xfrm>
            <a:off x="656424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Národní politika, 24.6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24. červen 1941)  </a:t>
            </a:r>
            <a:br>
              <a:rPr sz="22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4f81bd"/>
                </a:solidFill>
                <a:latin typeface="Calibri"/>
              </a:rPr>
              <a:t>VY_32_INOVACE_2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F:\MEV\šablony\Národní politika 1941\Prohlášení Háchy.jpg"/>
          <p:cNvPicPr/>
          <p:nvPr/>
        </p:nvPicPr>
        <p:blipFill>
          <a:blip r:embed="rId1"/>
          <a:stretch/>
        </p:blipFill>
        <p:spPr>
          <a:xfrm>
            <a:off x="395280" y="1341360"/>
            <a:ext cx="8431200" cy="5219640"/>
          </a:xfrm>
          <a:prstGeom prst="rect">
            <a:avLst/>
          </a:prstGeom>
          <a:ln w="0">
            <a:noFill/>
          </a:ln>
        </p:spPr>
      </p:pic>
      <p:sp>
        <p:nvSpPr>
          <p:cNvPr id="63" name="Obdélník 5"/>
          <p:cNvSpPr/>
          <p:nvPr/>
        </p:nvSpPr>
        <p:spPr>
          <a:xfrm>
            <a:off x="656424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Národní politika, 24.6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24. červen 1941)  </a:t>
            </a:r>
            <a:br>
              <a:rPr sz="22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4f81bd"/>
                </a:solidFill>
                <a:latin typeface="Calibri"/>
              </a:rPr>
              <a:t>VY_32_INOVACE_2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-252720" y="1916280"/>
            <a:ext cx="28083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lední stra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ědčí o tom, že život se nezastavil ani v nejtěžší době – o čemž svědčí titulky, reklamy…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F:\MEV\šablony\Národní politika 1941\Str_7.jpg"/>
          <p:cNvPicPr/>
          <p:nvPr/>
        </p:nvPicPr>
        <p:blipFill>
          <a:blip r:embed="rId1"/>
          <a:stretch/>
        </p:blipFill>
        <p:spPr>
          <a:xfrm>
            <a:off x="2552760" y="1197000"/>
            <a:ext cx="6202440" cy="4464000"/>
          </a:xfrm>
          <a:prstGeom prst="rect">
            <a:avLst/>
          </a:prstGeom>
          <a:ln w="0">
            <a:noFill/>
          </a:ln>
        </p:spPr>
      </p:pic>
      <p:sp>
        <p:nvSpPr>
          <p:cNvPr id="67" name="Obdélník 5"/>
          <p:cNvSpPr/>
          <p:nvPr/>
        </p:nvSpPr>
        <p:spPr>
          <a:xfrm>
            <a:off x="656424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Národní politika, 24.6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24. červen 1941)  </a:t>
            </a:r>
            <a:br>
              <a:rPr sz="22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4f81bd"/>
                </a:solidFill>
                <a:latin typeface="Calibri"/>
              </a:rPr>
              <a:t>VY_32_INOVACE_2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-360" y="1600200"/>
            <a:ext cx="226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 poslední straně najdem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tento tex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čem svědčí?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omentujme h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F:\MEV\šablony\Národní politika 1941\Rozsudek2.jpg"/>
          <p:cNvPicPr/>
          <p:nvPr/>
        </p:nvPicPr>
        <p:blipFill>
          <a:blip r:embed="rId1"/>
          <a:stretch/>
        </p:blipFill>
        <p:spPr>
          <a:xfrm>
            <a:off x="2340000" y="1628640"/>
            <a:ext cx="6456240" cy="453708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5"/>
          <p:cNvSpPr/>
          <p:nvPr/>
        </p:nvSpPr>
        <p:spPr>
          <a:xfrm>
            <a:off x="656424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Národní politika, 24.6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24. červen 1941)  </a:t>
            </a:r>
            <a:br>
              <a:rPr sz="22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4f81bd"/>
                </a:solidFill>
                <a:latin typeface="Calibri"/>
              </a:rPr>
              <a:t>VY_32_INOVACE_2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F:\MEV\šablony\Národní politika 1941\Rozsudek1.jpg"/>
          <p:cNvPicPr/>
          <p:nvPr/>
        </p:nvPicPr>
        <p:blipFill>
          <a:blip r:embed="rId1"/>
          <a:stretch/>
        </p:blipFill>
        <p:spPr>
          <a:xfrm>
            <a:off x="324000" y="1844640"/>
            <a:ext cx="5040000" cy="28749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F:\MEV\šablony\Národní politika 1941\Posl_strana_Inzerce.jpg"/>
          <p:cNvPicPr/>
          <p:nvPr/>
        </p:nvPicPr>
        <p:blipFill>
          <a:blip r:embed="rId2"/>
          <a:stretch/>
        </p:blipFill>
        <p:spPr>
          <a:xfrm>
            <a:off x="5219640" y="3068640"/>
            <a:ext cx="3706920" cy="3384720"/>
          </a:xfrm>
          <a:prstGeom prst="rect">
            <a:avLst/>
          </a:prstGeom>
          <a:ln w="0">
            <a:noFill/>
          </a:ln>
        </p:spPr>
      </p:pic>
      <p:sp>
        <p:nvSpPr>
          <p:cNvPr id="75" name="Obdélník 7"/>
          <p:cNvSpPr/>
          <p:nvPr/>
        </p:nvSpPr>
        <p:spPr>
          <a:xfrm>
            <a:off x="395280" y="5589720"/>
            <a:ext cx="53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ě tváře poslední strany?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8"/>
          <p:cNvSpPr/>
          <p:nvPr/>
        </p:nvSpPr>
        <p:spPr>
          <a:xfrm>
            <a:off x="656424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Národní politika, 24.6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24. červen 1941)  </a:t>
            </a:r>
            <a:br>
              <a:rPr sz="22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4f81bd"/>
                </a:solidFill>
                <a:latin typeface="Calibri"/>
              </a:rPr>
              <a:t>VY_32_INOVACE_2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-360" y="1916280"/>
            <a:ext cx="32036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ké v roce 1941 mají noviny sportovní zprávy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o je ovšem velmi kuriozní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 če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F:\MEV\šablony\Národní politika 1941\Posl_strana_sport.jpg"/>
          <p:cNvPicPr/>
          <p:nvPr/>
        </p:nvPicPr>
        <p:blipFill>
          <a:blip r:embed="rId1"/>
          <a:stretch/>
        </p:blipFill>
        <p:spPr>
          <a:xfrm>
            <a:off x="3059280" y="1413000"/>
            <a:ext cx="5806800" cy="475272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6"/>
          <p:cNvSpPr/>
          <p:nvPr/>
        </p:nvSpPr>
        <p:spPr>
          <a:xfrm>
            <a:off x="656424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Národní politika, 24.6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Times New Roman"/>
              </a:rPr>
              <a:t>Jeden den v naší zemi  </a:t>
            </a:r>
            <a:r>
              <a:rPr b="0" lang="cs-CZ" sz="2200" spc="-1" strike="noStrike">
                <a:solidFill>
                  <a:srgbClr val="000000"/>
                </a:solidFill>
                <a:latin typeface="Times New Roman"/>
              </a:rPr>
              <a:t>(24. červen 1941)  </a:t>
            </a:r>
            <a:br>
              <a:rPr sz="2200"/>
            </a:br>
            <a:r>
              <a:rPr b="0" i="1" lang="cs-CZ" sz="1800" spc="-1" strike="noStrike">
                <a:solidFill>
                  <a:srgbClr val="000000"/>
                </a:solidFill>
                <a:latin typeface="Times New Roman"/>
              </a:rPr>
              <a:t>Česká žurnalistika v příkladech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1800" spc="-1" strike="noStrike">
                <a:solidFill>
                  <a:srgbClr val="4f81bd"/>
                </a:solidFill>
                <a:latin typeface="Calibri"/>
              </a:rPr>
              <a:t>VY_32_INOVACE_23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F:\MEV\šablony\Národní politika 1941\Posl_str_Inzerce2.jpg"/>
          <p:cNvPicPr/>
          <p:nvPr/>
        </p:nvPicPr>
        <p:blipFill>
          <a:blip r:embed="rId1"/>
          <a:stretch/>
        </p:blipFill>
        <p:spPr>
          <a:xfrm>
            <a:off x="395280" y="1628640"/>
            <a:ext cx="8582040" cy="15130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F:\MEV\šablony\Národní politika 1941\Zákl_údaje_polsední_strana.jpg"/>
          <p:cNvPicPr/>
          <p:nvPr/>
        </p:nvPicPr>
        <p:blipFill>
          <a:blip r:embed="rId2"/>
          <a:stretch/>
        </p:blipFill>
        <p:spPr>
          <a:xfrm>
            <a:off x="0" y="3500280"/>
            <a:ext cx="9144000" cy="108108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6"/>
          <p:cNvSpPr/>
          <p:nvPr/>
        </p:nvSpPr>
        <p:spPr>
          <a:xfrm>
            <a:off x="468360" y="4869000"/>
            <a:ext cx="820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aké informace přinášejí uvedené text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jdeme v nich nějaké jazykové zvláštnost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Obdélník 7"/>
          <p:cNvSpPr/>
          <p:nvPr/>
        </p:nvSpPr>
        <p:spPr>
          <a:xfrm>
            <a:off x="6564240" y="6488280"/>
            <a:ext cx="306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Blue Highway"/>
              </a:rPr>
              <a:t>Národní politika, 24.6.19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30T20:20:23Z</dcterms:created>
  <dc:creator>polednikova</dc:creator>
  <dc:description/>
  <dc:language>en-US</dc:language>
  <cp:lastModifiedBy>polednikova</cp:lastModifiedBy>
  <dcterms:modified xsi:type="dcterms:W3CDTF">2013-06-04T13:34:36Z</dcterms:modified>
  <cp:revision>31</cp:revision>
  <dc:subject/>
  <dc:title>Jeden den v našem městě  (srpen 1968)  Česká žurnalistika v příkladech                                                   VY_42_INOVACE_2317</dc:title>
</cp:coreProperties>
</file>