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B533-8FE7-4FD7-92F0-8948DE9E38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záhlaví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ástupný symbol pro zápatí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F14-190D-4D95-BC91-C23DDAE2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92BD-EC0D-4CF2-A952-5B526C26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FB9-A17C-4138-89FA-1F836162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08B-139B-43B2-BA59-678D0357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EC8-29B2-458F-8C4D-08B4DAA7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1442-37A1-4CEC-BCC7-75389657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11F-43BA-4744-BDC2-24031D2F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724-6EA8-4008-8E71-A1A102C6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69F-F31C-49F5-8AD9-E563F11C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9F7-A701-4C0F-B3BA-8EB95668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F3C-27A4-45EC-9051-FE7891EF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580-1E52-410A-831D-EC951A01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D4BA-E439-4012-8903-9C675833DA9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z/imgres?imgurl=http://www.filmcenter.cz/manage/pictures/lev.jpg&amp;imgrefurl=http://www.filmcenter.cz/aktualityarchiv.php%3FLANG%3DCZ&amp;h=400&amp;w=325&amp;sz=13&amp;hl=cs&amp;start=56&amp;um=1&amp;tbnid=ue0aMBDvhww1PM:&amp;tbnh=124&amp;tbnw=101&amp;prev=/images%3Fq%3Dceny%2B%252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ská kinematografi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_32_INOVACE_2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ní filmová představení  -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Karlových Varech a v Pra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ní kinosál - v Praz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ní významní režiséři: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tin Frič , Karel Lamač, Gustav Machatý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ří Menzel – „Báječní muži s klikou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Zástupný symbol pro obsah 4" descr="600full-bajecni-muzi-s-klikou-poster.jpg"/>
          <p:cNvPicPr/>
          <p:nvPr/>
        </p:nvPicPr>
        <p:blipFill>
          <a:blip r:embed="rId1"/>
          <a:stretch/>
        </p:blipFill>
        <p:spPr>
          <a:xfrm>
            <a:off x="5219640" y="1197000"/>
            <a:ext cx="317664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Obdélník 6"/>
          <p:cNvSpPr/>
          <p:nvPr/>
        </p:nvSpPr>
        <p:spPr>
          <a:xfrm>
            <a:off x="3203640" y="5805360"/>
            <a:ext cx="56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istal.com/viewimage/969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ská kinematograf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_42_INOVACE_2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olnění poměrů se snažili využívat všichni tvůrci (např. režisér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takar Váv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erý debutoval již za protektorátu, natočil historický film o čarodějnických procesech v sedmnáctém století,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ladivo na čarodějni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 jehož pozadí lze číst jasnou obžalobu stalinských padesátých le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Foto: http://www.radio.cz/en/section/screen-czech/screen-czech-2011-11-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Vávra1"/>
          <p:cNvPicPr/>
          <p:nvPr/>
        </p:nvPicPr>
        <p:blipFill>
          <a:blip r:embed="rId1"/>
          <a:stretch/>
        </p:blipFill>
        <p:spPr>
          <a:xfrm>
            <a:off x="539640" y="836640"/>
            <a:ext cx="3311640" cy="331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Vávra4"/>
          <p:cNvPicPr/>
          <p:nvPr/>
        </p:nvPicPr>
        <p:blipFill>
          <a:blip r:embed="rId2"/>
          <a:stretch/>
        </p:blipFill>
        <p:spPr>
          <a:xfrm>
            <a:off x="4716360" y="836640"/>
            <a:ext cx="231300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ská kinematograf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_42_INOVACE_2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Vávra2"/>
          <p:cNvPicPr/>
          <p:nvPr/>
        </p:nvPicPr>
        <p:blipFill>
          <a:blip r:embed="rId1"/>
          <a:stretch/>
        </p:blipFill>
        <p:spPr>
          <a:xfrm>
            <a:off x="468360" y="907920"/>
            <a:ext cx="3887640" cy="4537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Vávra3"/>
          <p:cNvPicPr/>
          <p:nvPr/>
        </p:nvPicPr>
        <p:blipFill>
          <a:blip r:embed="rId2"/>
          <a:stretch/>
        </p:blipFill>
        <p:spPr>
          <a:xfrm>
            <a:off x="5003640" y="907920"/>
            <a:ext cx="3467160" cy="4608720"/>
          </a:xfrm>
          <a:prstGeom prst="rect">
            <a:avLst/>
          </a:prstGeom>
          <a:ln w="0">
            <a:noFill/>
          </a:ln>
        </p:spPr>
      </p:pic>
      <p:sp>
        <p:nvSpPr>
          <p:cNvPr id="97" name="Obdélník 4"/>
          <p:cNvSpPr/>
          <p:nvPr/>
        </p:nvSpPr>
        <p:spPr>
          <a:xfrm>
            <a:off x="468360" y="5805360"/>
            <a:ext cx="7920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Foto: http://</a:t>
            </a:r>
            <a:r>
              <a:rPr b="0" i="1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radio.cz/en/section/screen-czech/screen-czech-2011-11-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ská kinematograf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_42_INOVACE_2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Jiří Menze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se narodil 23. února 1938 v Praze, jako syn spisovatele a scénáristy Josefa Menzela. V letech 1957–1961 studoval na pražské FAMU filmovou režii u Otakara Váv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tří ke generaci talentovaných režisérů šedesátých let, která spolu s Milošem Formanem, Věrou Chytilovou, Ivanem Passerem, Janem Němcem a dalšími, tvořila 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„českou novou vlnu“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terá byla umlčena až příchodem okupačních vojsk v roce 196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stře sledované vla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1967 - Osc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křivánci na ni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a samotě u lesa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ostřižiny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lavnosti sněžen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esničko má středisková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onec starých časů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Rozmarné lé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bsluhoval jsem anglického krále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ská kinematograf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_32_INOVACE_2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Menzel1"/>
          <p:cNvPicPr/>
          <p:nvPr/>
        </p:nvPicPr>
        <p:blipFill>
          <a:blip r:embed="rId1"/>
          <a:stretch/>
        </p:blipFill>
        <p:spPr>
          <a:xfrm>
            <a:off x="468360" y="836640"/>
            <a:ext cx="1933560" cy="2854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Menzel3"/>
          <p:cNvPicPr/>
          <p:nvPr/>
        </p:nvPicPr>
        <p:blipFill>
          <a:blip r:embed="rId2"/>
          <a:stretch/>
        </p:blipFill>
        <p:spPr>
          <a:xfrm>
            <a:off x="5364000" y="765000"/>
            <a:ext cx="3529080" cy="3130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Menzel8"/>
          <p:cNvPicPr/>
          <p:nvPr/>
        </p:nvPicPr>
        <p:blipFill>
          <a:blip r:embed="rId3"/>
          <a:stretch/>
        </p:blipFill>
        <p:spPr>
          <a:xfrm>
            <a:off x="1547640" y="2781360"/>
            <a:ext cx="2587680" cy="3527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Menzel2"/>
          <p:cNvPicPr/>
          <p:nvPr/>
        </p:nvPicPr>
        <p:blipFill>
          <a:blip r:embed="rId4"/>
          <a:stretch/>
        </p:blipFill>
        <p:spPr>
          <a:xfrm>
            <a:off x="4500720" y="3138480"/>
            <a:ext cx="3240000" cy="3213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2843280" y="123300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ilmy Jiř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ho Menzela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poz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me 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délník 7"/>
          <p:cNvSpPr/>
          <p:nvPr/>
        </p:nvSpPr>
        <p:spPr>
          <a:xfrm>
            <a:off x="395280" y="6381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šechny foto: http://www.fdb.cz/film/25-ze-sedesatych-aneb-ceskoslovenska-nova-vlna/fotogalerie/6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99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ská kinematograf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_32_INOVACE_2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Menzel4"/>
          <p:cNvPicPr/>
          <p:nvPr/>
        </p:nvPicPr>
        <p:blipFill>
          <a:blip r:embed="rId1"/>
          <a:stretch/>
        </p:blipFill>
        <p:spPr>
          <a:xfrm>
            <a:off x="611280" y="907920"/>
            <a:ext cx="2736720" cy="273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Menzel5"/>
          <p:cNvPicPr/>
          <p:nvPr/>
        </p:nvPicPr>
        <p:blipFill>
          <a:blip r:embed="rId2"/>
          <a:stretch/>
        </p:blipFill>
        <p:spPr>
          <a:xfrm>
            <a:off x="1979640" y="3213000"/>
            <a:ext cx="1959120" cy="2900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Menzel6"/>
          <p:cNvPicPr/>
          <p:nvPr/>
        </p:nvPicPr>
        <p:blipFill>
          <a:blip r:embed="rId3"/>
          <a:stretch/>
        </p:blipFill>
        <p:spPr>
          <a:xfrm>
            <a:off x="4356000" y="3500280"/>
            <a:ext cx="3888000" cy="2603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Menzel7"/>
          <p:cNvPicPr/>
          <p:nvPr/>
        </p:nvPicPr>
        <p:blipFill>
          <a:blip r:embed="rId4"/>
          <a:stretch/>
        </p:blipFill>
        <p:spPr>
          <a:xfrm>
            <a:off x="4356000" y="836640"/>
            <a:ext cx="3048120" cy="2236680"/>
          </a:xfrm>
          <a:prstGeom prst="rect">
            <a:avLst/>
          </a:prstGeom>
          <a:ln w="0">
            <a:noFill/>
          </a:ln>
        </p:spPr>
      </p:pic>
      <p:sp>
        <p:nvSpPr>
          <p:cNvPr id="112" name="Obdélník 6"/>
          <p:cNvSpPr/>
          <p:nvPr/>
        </p:nvSpPr>
        <p:spPr>
          <a:xfrm>
            <a:off x="250920" y="6237360"/>
            <a:ext cx="82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fdb.cz/film/25-ze-sedesatych-aneb-ceskoslovenska-nova-vlna/fotogalerie/625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715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ská kinematograf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_32_INOVACE_2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ýraznější český režisér porevolučního období je držitelem dvou Oscarů: prvního už za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udentský film Ropác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druhého za nejlepší cizojazyčný film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olj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svým celovečerním hraným debutem Obecná škola - rovněž podle scénáře Zdeňka Svěráka - se kdysi probojoval až do oscarových nominací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Jan Svěrá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ystudoval pražskou FAMU, katedru dokumentární tvorby, kterou ukončil v roce 198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Sverak1"/>
          <p:cNvPicPr/>
          <p:nvPr/>
        </p:nvPicPr>
        <p:blipFill>
          <a:blip r:embed="rId1"/>
          <a:stretch/>
        </p:blipFill>
        <p:spPr>
          <a:xfrm>
            <a:off x="468360" y="1052640"/>
            <a:ext cx="3352680" cy="218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Sverak2"/>
          <p:cNvPicPr/>
          <p:nvPr/>
        </p:nvPicPr>
        <p:blipFill>
          <a:blip r:embed="rId2"/>
          <a:stretch/>
        </p:blipFill>
        <p:spPr>
          <a:xfrm>
            <a:off x="468360" y="3645000"/>
            <a:ext cx="3384360" cy="226512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5"/>
          <p:cNvSpPr/>
          <p:nvPr/>
        </p:nvSpPr>
        <p:spPr>
          <a:xfrm>
            <a:off x="468360" y="6021360"/>
            <a:ext cx="62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ilmcenter.cz/cz/film/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ská kinematograf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_32_INOVACE_2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le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628640"/>
            <a:ext cx="3575160" cy="4392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aných devadesátých letech byla založena Česká filmová a televizní akademie, která každý rok udílí prestižní filmové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eny Český le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. Od roku 2004 se také udílejí televizní ceny Elsa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lucerna.musicbar.cz/wp-content/modul-kalendar/full/3834-cesky_lev.jp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ská kinematografi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_32_INOVACE_2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dro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zech.cz/cz/66824-historie-ceske-kinematogra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s.wikipedia.org/wiki/%C4%8Cesk%C3%A1_kinematogra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el Jiras, Barrandov III. - Oáza uprostřed běsů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kl. Pavel Dobrovský – BETA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boš Bartošek (1985): Náš film. Kapitoly z dějin (1896-194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oš Fiala, Miloš Heyduk, Barrandov pod vlajkou hákového kříže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kl. BVD,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ějiny kinematografie 2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cs-CZ" sz="1800" spc="-1" strike="noStrike">
                <a:solidFill>
                  <a:srgbClr val="bbe0e3"/>
                </a:solidFill>
                <a:latin typeface="Arial"/>
                <a:ea typeface="Times New Roman"/>
              </a:rPr>
              <a:t>VY_32_INOVACE_23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ĚMÝ FI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an Kříženecký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 konce19. stole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rátké dokumenty (zvané filmové aktualit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osef Šváb-Malostranský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herec) - filmové skeče „Výstavní párkař a lepič plakátů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vní filmová představení u nás: 1896 v Karlových Varech a v Pra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vní stálý kinosál byl v Praze:  19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Krizenecky 200"/>
          <p:cNvPicPr/>
          <p:nvPr/>
        </p:nvPicPr>
        <p:blipFill>
          <a:blip r:embed="rId1"/>
          <a:stretch/>
        </p:blipFill>
        <p:spPr>
          <a:xfrm>
            <a:off x="5003640" y="936720"/>
            <a:ext cx="2592720" cy="24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0" descr="SVAB"/>
          <p:cNvPicPr/>
          <p:nvPr/>
        </p:nvPicPr>
        <p:blipFill>
          <a:blip r:embed="rId2"/>
          <a:stretch/>
        </p:blipFill>
        <p:spPr>
          <a:xfrm>
            <a:off x="5508720" y="3645000"/>
            <a:ext cx="3289320" cy="23684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4"/>
          <p:cNvSpPr/>
          <p:nvPr/>
        </p:nvSpPr>
        <p:spPr>
          <a:xfrm>
            <a:off x="2556000" y="6165720"/>
            <a:ext cx="612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http://www.filmovy-plakat.cz/index.php?menuid=8570&amp;templ=template_articles.in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ská kinematograf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_32_INOVACE_2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ní velký filmový hit (úspěch v zahraničí) -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áz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žie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stav Machatý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běh mladé ženy provdané za starého impotentního muže, která uprostřed kypící přírody podlehne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ladému inženýrovi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youtube.com/watch?v=VA5m1aXqc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Zástupný symbol pro obsah 7" descr="Extaze.jpg"/>
          <p:cNvPicPr/>
          <p:nvPr/>
        </p:nvPicPr>
        <p:blipFill>
          <a:blip r:embed="rId1"/>
          <a:stretch/>
        </p:blipFill>
        <p:spPr>
          <a:xfrm>
            <a:off x="4762440" y="1916280"/>
            <a:ext cx="3810240" cy="3528720"/>
          </a:xfrm>
          <a:prstGeom prst="rect">
            <a:avLst/>
          </a:prstGeom>
          <a:ln w="0">
            <a:noFill/>
          </a:ln>
        </p:spPr>
      </p:pic>
      <p:sp>
        <p:nvSpPr>
          <p:cNvPr id="60" name="Obdélník 8"/>
          <p:cNvSpPr/>
          <p:nvPr/>
        </p:nvSpPr>
        <p:spPr>
          <a:xfrm>
            <a:off x="4788000" y="5589720"/>
            <a:ext cx="38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nstinkt.tyden.cz/rubriky/ostatni/serial/extaze_25108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ská kinematografi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_32_INOVACE_2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000" y="1196640"/>
            <a:ext cx="504036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dy Kieslerová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13 Vídeň – 2000 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nym -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dy Lama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Extase (1932 - režie Gustav Machat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ální film - jeden z prvních případů ženské nahoty ve fil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OK – film odsoudil papež Pius XII. a Adolf Hitler ho dokonce zakáz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roce 1997 bylo Hedy Lammarr uděleno v USA čestné uznání za zásluhy o rozvoj elektrotechniky (stála při zrodu mobilního telefon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s.wikipedia.org/wiki/Hedy_Kieslerov%C3%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Zástupný symbol pro obsah 4" descr="Extáze.jpg"/>
          <p:cNvPicPr/>
          <p:nvPr/>
        </p:nvPicPr>
        <p:blipFill>
          <a:blip r:embed="rId1"/>
          <a:stretch/>
        </p:blipFill>
        <p:spPr>
          <a:xfrm>
            <a:off x="5867280" y="1484280"/>
            <a:ext cx="274032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715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ská kinematograf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_32_INOVACE_2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haas2"/>
          <p:cNvPicPr/>
          <p:nvPr/>
        </p:nvPicPr>
        <p:blipFill>
          <a:blip r:embed="rId1"/>
          <a:stretch/>
        </p:blipFill>
        <p:spPr>
          <a:xfrm>
            <a:off x="539640" y="981000"/>
            <a:ext cx="2019240" cy="280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Mandlova1"/>
          <p:cNvPicPr/>
          <p:nvPr/>
        </p:nvPicPr>
        <p:blipFill>
          <a:blip r:embed="rId2"/>
          <a:stretch/>
        </p:blipFill>
        <p:spPr>
          <a:xfrm>
            <a:off x="4140360" y="836640"/>
            <a:ext cx="2517480" cy="345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Mandlova2"/>
          <p:cNvPicPr/>
          <p:nvPr/>
        </p:nvPicPr>
        <p:blipFill>
          <a:blip r:embed="rId3"/>
          <a:stretch/>
        </p:blipFill>
        <p:spPr>
          <a:xfrm>
            <a:off x="6300720" y="2997360"/>
            <a:ext cx="2344680" cy="341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haas1"/>
          <p:cNvPicPr/>
          <p:nvPr/>
        </p:nvPicPr>
        <p:blipFill>
          <a:blip r:embed="rId4"/>
          <a:stretch/>
        </p:blipFill>
        <p:spPr>
          <a:xfrm>
            <a:off x="1835280" y="2997360"/>
            <a:ext cx="2741400" cy="3554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6821640" y="1184040"/>
            <a:ext cx="232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oznejme prvn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hvěz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česk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o filmu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395280" y="56185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me o n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nějak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informa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délník 10"/>
          <p:cNvSpPr/>
          <p:nvPr/>
        </p:nvSpPr>
        <p:spPr>
          <a:xfrm>
            <a:off x="4859280" y="61657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šechny foto: http://www.t-star.cz/veteranstars/mandlovafilmografi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ská kinematograf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_32_INOVACE_2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trnka1"/>
          <p:cNvPicPr/>
          <p:nvPr/>
        </p:nvPicPr>
        <p:blipFill>
          <a:blip r:embed="rId1"/>
          <a:stretch/>
        </p:blipFill>
        <p:spPr>
          <a:xfrm>
            <a:off x="1042920" y="1125360"/>
            <a:ext cx="3743280" cy="2600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Trnka2"/>
          <p:cNvPicPr/>
          <p:nvPr/>
        </p:nvPicPr>
        <p:blipFill>
          <a:blip r:embed="rId2"/>
          <a:stretch/>
        </p:blipFill>
        <p:spPr>
          <a:xfrm>
            <a:off x="1042920" y="3860640"/>
            <a:ext cx="3743280" cy="251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Trnka3"/>
          <p:cNvPicPr/>
          <p:nvPr/>
        </p:nvPicPr>
        <p:blipFill>
          <a:blip r:embed="rId3"/>
          <a:stretch/>
        </p:blipFill>
        <p:spPr>
          <a:xfrm>
            <a:off x="4932360" y="907920"/>
            <a:ext cx="3672000" cy="2849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Trnka4"/>
          <p:cNvPicPr/>
          <p:nvPr/>
        </p:nvPicPr>
        <p:blipFill>
          <a:blip r:embed="rId4"/>
          <a:stretch/>
        </p:blipFill>
        <p:spPr>
          <a:xfrm>
            <a:off x="4932360" y="3860640"/>
            <a:ext cx="2811600" cy="2187720"/>
          </a:xfrm>
          <a:prstGeom prst="rect">
            <a:avLst/>
          </a:prstGeom>
          <a:ln w="0">
            <a:noFill/>
          </a:ln>
        </p:spPr>
      </p:pic>
      <p:sp>
        <p:nvSpPr>
          <p:cNvPr id="77" name="Obdélník 6"/>
          <p:cNvSpPr/>
          <p:nvPr/>
        </p:nvSpPr>
        <p:spPr>
          <a:xfrm>
            <a:off x="4356000" y="6093000"/>
            <a:ext cx="47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lovnikceskeliteratury.cz/showContent.jsp?docId=6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715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ská kinematograf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_32_INOVACE_2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Forman1"/>
          <p:cNvPicPr/>
          <p:nvPr/>
        </p:nvPicPr>
        <p:blipFill>
          <a:blip r:embed="rId1"/>
          <a:stretch/>
        </p:blipFill>
        <p:spPr>
          <a:xfrm>
            <a:off x="468360" y="907920"/>
            <a:ext cx="3305160" cy="5473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3924360" y="980640"/>
            <a:ext cx="47512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iloš Forma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narodil v roce 1932 Čáslavi - rodiče ztratil během války. Byli za protiodbojovou činnost posláni do Osvětimi a už se nevráti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an po jejich smrti žil u příbuzných a v internátní škole krále Jiřího v Poděbradech, kde byl jeho spolužákem Václav Ha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roce 1968 Miloš Forman emigruje do U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loš Forman byl třikrát ženatý (Jana Brejchová, Věra Křesadlová a Martina Zbořilová) Forman má dvě dvojice dvojčat, Petra a Matěje z druhého manželství a Jamese a Andrewa ze třetí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4"/>
          <p:cNvSpPr/>
          <p:nvPr/>
        </p:nvSpPr>
        <p:spPr>
          <a:xfrm>
            <a:off x="468360" y="630864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elebrity-planet.info/milos-fo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99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ská kinematograf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_32_INOVACE_2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Forman1a"/>
          <p:cNvPicPr/>
          <p:nvPr/>
        </p:nvPicPr>
        <p:blipFill>
          <a:blip r:embed="rId1"/>
          <a:stretch/>
        </p:blipFill>
        <p:spPr>
          <a:xfrm>
            <a:off x="900000" y="1125360"/>
            <a:ext cx="3380040" cy="2186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Forman1b"/>
          <p:cNvPicPr/>
          <p:nvPr/>
        </p:nvPicPr>
        <p:blipFill>
          <a:blip r:embed="rId2"/>
          <a:stretch/>
        </p:blipFill>
        <p:spPr>
          <a:xfrm>
            <a:off x="4643280" y="1197000"/>
            <a:ext cx="3313440" cy="209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Forman1c"/>
          <p:cNvPicPr/>
          <p:nvPr/>
        </p:nvPicPr>
        <p:blipFill>
          <a:blip r:embed="rId3"/>
          <a:stretch/>
        </p:blipFill>
        <p:spPr>
          <a:xfrm>
            <a:off x="468360" y="3573360"/>
            <a:ext cx="3889440" cy="2692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Forman1e"/>
          <p:cNvPicPr/>
          <p:nvPr/>
        </p:nvPicPr>
        <p:blipFill>
          <a:blip r:embed="rId4"/>
          <a:stretch/>
        </p:blipFill>
        <p:spPr>
          <a:xfrm>
            <a:off x="4716360" y="3500280"/>
            <a:ext cx="4176720" cy="274968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6"/>
          <p:cNvSpPr/>
          <p:nvPr/>
        </p:nvSpPr>
        <p:spPr>
          <a:xfrm>
            <a:off x="468360" y="6237360"/>
            <a:ext cx="84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šechny foto:  http://taller-criticadecine.blogspot.cz/2012/08/por-amor-al-cin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360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ská kinematograf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_32_INOVACE_2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Miloš Form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Černý Petr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 v roce 196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Lásky jedné plavovlásk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196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Hoří má panek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1967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 roce 1968 Miloš Forman emigruje do USA, kde se nadále věnuje filmařině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ormanův životní úspěch, film - </a:t>
            </a: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Přelet nad kukaččím hnízdem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1975). Do hlavní role byl obsazen Jack Nico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Oskara za nejlepší režii, čtyři Zlaté glóby, Cenu amerických kritiků a také Cenu britské filmové akademi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 roce 1979 - </a:t>
            </a: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Vlasy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 počátku 80. let je film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Ragtime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který pojednává o rasové nesnášenlivost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3 nominací na Oskara a 8 skutečných sošek vynesl Formanovi film </a:t>
            </a: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Amadeus</a:t>
            </a:r>
            <a:r>
              <a:rPr b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1984) o W. A. Mozartovi, kterého chce zničit žárlivý dvorní skladatel Salier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 obrovském úspěchu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Amade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řichází pád ve formě filmu </a:t>
            </a: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Valmont</a:t>
            </a:r>
            <a:r>
              <a:rPr b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1989), jedné z adaptací románu Nebezpečné známost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Lid versus Larry Flin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1996), jenž je bojem za svobodu projev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Muže na měsíc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1999) - film o neúspěšném komikovi Andy Kaufmanov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Rabín, kněz a krásná blondýnk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200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Goyovy přízrak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2007) s Natalii Portman v hlavní ro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9:07:19Z</dcterms:created>
  <dc:creator>Marie Poledníková</dc:creator>
  <dc:description/>
  <dc:language>en-US</dc:language>
  <cp:lastModifiedBy>polednikova</cp:lastModifiedBy>
  <dcterms:modified xsi:type="dcterms:W3CDTF">2013-06-04T12:17:46Z</dcterms:modified>
  <cp:revision>114</cp:revision>
  <dc:subject/>
  <dc:title>Snímek 1</dc:title>
</cp:coreProperties>
</file>