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A89-2A0C-45D6-8DBC-69202275AE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85B-CE9D-4BE1-B8F3-0E70F5979C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D7D-D9E6-4150-858C-0F7CBA3D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1C2-A188-474B-9F4F-A7E0A76B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C93-853C-4383-8C72-BF62C343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8B8-A581-4DD5-AFBF-6F461FB8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E75-E3F3-40DF-8289-A1AB2508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A84-DDA0-4FC1-8E7C-F0659C47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D90-E1C7-40F0-B899-B800408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82A-96C2-4ADE-856C-96A60F17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BB3-FF03-4175-AA4E-E758CDF7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713-9E40-4175-9791-82C5B51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D77-4641-4324-80E2-9B11EA0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CBB-F1D8-47CC-A90C-B6D317E8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A919-9F83-49D7-8EBD-C021C1B77B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JOuoyoMhj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b/DWGriffith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 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cs-CZ" sz="14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24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atři Lumierové - Louis (1864-1948) a August (1862-195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28. prosince 1895 se narodil fil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 pařížské kavárně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Grand Café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na ulici Kapucínů se konalo první veřejné filmové představ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omítalo se 11 krátkých filmů  (po jedné minutě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rganizace a natáčení - bratři Lumier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4"/>
          <p:cNvSpPr/>
          <p:nvPr/>
        </p:nvSpPr>
        <p:spPr>
          <a:xfrm>
            <a:off x="5148360" y="508464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Fratelli_Lumier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7562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446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ští tvůrci se podíleli na vzniku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realism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vého směru v poválečné evropské kinematograf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ítají vylepšovat skutečnost pro potřeby film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htějí například profesionální herce a atelié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iv poválečná nouze, kdy filmařům skutečně nezbývalo nic jiného než se obejít bez kostýmů a dekorac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ederico Fellin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o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sare Zavattin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to poprvé ukazují Itálii nejenom jako zemi turistických památek, ale jako zemi prostých lidí a chudých vesnič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Zástupný symbol pro obsah 6" descr="fellini.jpg"/>
          <p:cNvPicPr/>
          <p:nvPr/>
        </p:nvPicPr>
        <p:blipFill>
          <a:blip r:embed="rId1"/>
          <a:stretch/>
        </p:blipFill>
        <p:spPr>
          <a:xfrm>
            <a:off x="5513400" y="1413000"/>
            <a:ext cx="2916360" cy="4103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" name="Obdélník 7"/>
          <p:cNvSpPr/>
          <p:nvPr/>
        </p:nvSpPr>
        <p:spPr>
          <a:xfrm>
            <a:off x="5292720" y="5661000"/>
            <a:ext cx="338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nelcineenlostalones.blogspot.cz/2008/12/roma-federico-fellini-197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c8c93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460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védský režisér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gmar Bergman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orní příbě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dinové filmů jak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má peče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ní jahod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č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ledají smysl života, přemýšlejí nad svým mládím, Bergman dokázal vystihnout jejich pocity a myšlen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ém osamělosti hrdinů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poty a výkřik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mezilidské vztahy, zvl. partnerské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ény z manželského živo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Bergman1"/>
          <p:cNvPicPr/>
          <p:nvPr/>
        </p:nvPicPr>
        <p:blipFill>
          <a:blip r:embed="rId1"/>
          <a:stretch/>
        </p:blipFill>
        <p:spPr>
          <a:xfrm>
            <a:off x="4932360" y="981000"/>
            <a:ext cx="3816360" cy="2830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bergman2"/>
          <p:cNvPicPr/>
          <p:nvPr/>
        </p:nvPicPr>
        <p:blipFill>
          <a:blip r:embed="rId2"/>
          <a:stretch/>
        </p:blipFill>
        <p:spPr>
          <a:xfrm>
            <a:off x="6948360" y="4062240"/>
            <a:ext cx="1873440" cy="22464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5"/>
          <p:cNvSpPr/>
          <p:nvPr/>
        </p:nvSpPr>
        <p:spPr>
          <a:xfrm>
            <a:off x="2268360" y="55166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ě fotografi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Ingmar_Berg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9"/>
          <p:cNvSpPr/>
          <p:nvPr/>
        </p:nvSpPr>
        <p:spPr>
          <a:xfrm>
            <a:off x="539640" y="1268280"/>
            <a:ext cx="63183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kázky doporučené k diskuz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jezd vlaku do nádraž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ratři Lumièrové – http://www.youtube.com/watch?v=MsWYfb4uC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opený kropič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ratři Lumierové -http://www.youtube.com/watch?v=XOxMLnGdI8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ie Chapli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í dob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ttp://www.youtube.com/watch?v=CYbsBcPDVQ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ie Chaplin – Diktator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youtube.com/watch?v=IJOuoyoMhj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ej Ejzenštejn -Křížník Potěmki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outube.com/watch?v=Ps-v-kZzf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itá litera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a Gronemeyer, Film, Computer Press, a.s.Brn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 Monaco, Jak číst film, Albatros, Praha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žewski Jerzy: Filmová řeč, Orbis Praha, 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D%C4%9Bjiny_fil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ukatko.cz/clanky/tajemstvi-filmove-reci-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eb.quick.cz/franfilm/lumiere/lumiero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931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        </a:t>
            </a:r>
            <a:r>
              <a:rPr b="1" lang="cs-CZ" sz="12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lumierovecinematograf4"/>
          <p:cNvPicPr/>
          <p:nvPr/>
        </p:nvPicPr>
        <p:blipFill>
          <a:blip r:embed="rId1"/>
          <a:stretch/>
        </p:blipFill>
        <p:spPr>
          <a:xfrm>
            <a:off x="539640" y="1484280"/>
            <a:ext cx="340200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umierovecinematograf5"/>
          <p:cNvPicPr/>
          <p:nvPr/>
        </p:nvPicPr>
        <p:blipFill>
          <a:blip r:embed="rId2"/>
          <a:stretch/>
        </p:blipFill>
        <p:spPr>
          <a:xfrm>
            <a:off x="4140360" y="1484280"/>
            <a:ext cx="4392360" cy="3932280"/>
          </a:xfrm>
          <a:prstGeom prst="rect">
            <a:avLst/>
          </a:prstGeom>
          <a:ln w="0">
            <a:noFill/>
          </a:ln>
        </p:spPr>
      </p:pic>
      <p:sp>
        <p:nvSpPr>
          <p:cNvPr id="55" name="Obdélník 4"/>
          <p:cNvSpPr/>
          <p:nvPr/>
        </p:nvSpPr>
        <p:spPr>
          <a:xfrm>
            <a:off x="4211640" y="5516640"/>
            <a:ext cx="43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ě fotografie: http://web.quick.cz/franfilm/lumiere/lumiero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1895odchoddelniku5"/>
          <p:cNvPicPr/>
          <p:nvPr/>
        </p:nvPicPr>
        <p:blipFill>
          <a:blip r:embed="rId1"/>
          <a:stretch/>
        </p:blipFill>
        <p:spPr>
          <a:xfrm>
            <a:off x="1979640" y="1341360"/>
            <a:ext cx="5113440" cy="3765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dchod dělníků z továrny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- první film bratří Lumierů - počátek světové kinematografie – první opravdový dokument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http://web.quick.cz/franfilm/lumiere/lumiero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5157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říjezd vlaku na nádraž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 vlaku přijíždějícího na nádraž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váci údajně prchali zděšeni z promítacího sálu – počátek hororu ???)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eb.quick.cz/franfilm/lumiere/lumiero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895prijezdvlaku3"/>
          <p:cNvPicPr/>
          <p:nvPr/>
        </p:nvPicPr>
        <p:blipFill>
          <a:blip r:embed="rId1"/>
          <a:stretch/>
        </p:blipFill>
        <p:spPr>
          <a:xfrm>
            <a:off x="1547640" y="1052640"/>
            <a:ext cx="5608800" cy="40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1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4464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vid Wark Griffit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čínal u Edisonovy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ději - adaptace literárních děl oblíbených autorů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kespea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o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edl základní filmové postupy -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ábě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tail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o paralelní montáž -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řídání záběr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íce současně probíhajících udá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oubor:DWGriffi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052640"/>
            <a:ext cx="3247920" cy="478296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5"/>
          <p:cNvSpPr/>
          <p:nvPr/>
        </p:nvSpPr>
        <p:spPr>
          <a:xfrm>
            <a:off x="4067280" y="6021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Soubor:DWGriffith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64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19664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ie Chap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89 -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tojí na kultu hvěz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í dob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Zástupný symbol pro obsah 10" descr="220px-Charlie_Chaplin.jpg"/>
          <p:cNvPicPr/>
          <p:nvPr/>
        </p:nvPicPr>
        <p:blipFill>
          <a:blip r:embed="rId1"/>
          <a:stretch/>
        </p:blipFill>
        <p:spPr>
          <a:xfrm>
            <a:off x="5292720" y="1341360"/>
            <a:ext cx="3282840" cy="4103640"/>
          </a:xfrm>
          <a:prstGeom prst="rect">
            <a:avLst/>
          </a:prstGeom>
          <a:ln w="0">
            <a:noFill/>
          </a:ln>
        </p:spPr>
      </p:pic>
      <p:sp>
        <p:nvSpPr>
          <p:cNvPr id="69" name="Obdélník 11"/>
          <p:cNvSpPr/>
          <p:nvPr/>
        </p:nvSpPr>
        <p:spPr>
          <a:xfrm>
            <a:off x="5003640" y="5084640"/>
            <a:ext cx="36007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ě fotografie:  http://cs.wikipedia.org/wiki/Charlie_Chap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Users\polednikova\Pictures\SABLONY 2012\moderní doba.jpg"/>
          <p:cNvPicPr/>
          <p:nvPr/>
        </p:nvPicPr>
        <p:blipFill>
          <a:blip r:embed="rId2"/>
          <a:stretch/>
        </p:blipFill>
        <p:spPr>
          <a:xfrm>
            <a:off x="826920" y="3213000"/>
            <a:ext cx="38163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c8c93"/>
                </a:solidFill>
                <a:latin typeface="Arial"/>
              </a:rPr>
              <a:t>                 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4752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alt Disne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01 - 196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. jméne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lter El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nost nejen animovaného fil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jprve kreslič plakátů, od roku 1922 s bratrem Royem - studio kresleného fil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ka myšák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keyho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s Pluto, kačer Donald a pes Goo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lavnější animovaný film –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ěhurka a sedm trpaslík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Walt_disney"/>
          <p:cNvPicPr/>
          <p:nvPr/>
        </p:nvPicPr>
        <p:blipFill>
          <a:blip r:embed="rId1"/>
          <a:stretch/>
        </p:blipFill>
        <p:spPr>
          <a:xfrm>
            <a:off x="5219640" y="836640"/>
            <a:ext cx="28418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Obdélník 8"/>
          <p:cNvSpPr/>
          <p:nvPr/>
        </p:nvSpPr>
        <p:spPr>
          <a:xfrm>
            <a:off x="3564000" y="595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www.fantasy-koutek.estranky.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Zástupný symbol pro obsah 10" descr="omalovanky-snehurka-a-sedm-trpasliku-6.jpg"/>
          <p:cNvPicPr/>
          <p:nvPr/>
        </p:nvPicPr>
        <p:blipFill>
          <a:blip r:embed="rId2"/>
          <a:stretch/>
        </p:blipFill>
        <p:spPr>
          <a:xfrm>
            <a:off x="6804000" y="4076640"/>
            <a:ext cx="1728720" cy="2305080"/>
          </a:xfrm>
          <a:prstGeom prst="rect">
            <a:avLst/>
          </a:prstGeom>
          <a:ln w="0">
            <a:noFill/>
          </a:ln>
        </p:spPr>
      </p:pic>
      <p:sp>
        <p:nvSpPr>
          <p:cNvPr id="76" name="Obdélník 11"/>
          <p:cNvSpPr/>
          <p:nvPr/>
        </p:nvSpPr>
        <p:spPr>
          <a:xfrm>
            <a:off x="2286000" y="3716280"/>
            <a:ext cx="624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Soubor:Walt_disney_portra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3311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hdejší Sovětský svaz se do dějin světové kinematografie zapsal dílem režisé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geje Michajloviče Ejzenštejn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lavil se svým filmem o vzpouře námořníků během prvního dne VŘSR,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řižník Potěmk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historickým filmem o ruském vládci ze 16. století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anu Hrozné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délník 4"/>
          <p:cNvSpPr/>
          <p:nvPr/>
        </p:nvSpPr>
        <p:spPr>
          <a:xfrm>
            <a:off x="4211640" y="465300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pichad.webs.com/view.php?q=Battleship Potemkin&amp;url=http://image.guardian.co.uk/sys-images/Film/Pix/pictures/2008/01/31/potemkin246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Zástupný symbol pro obsah 6" descr="potemkin2460.jpg"/>
          <p:cNvPicPr/>
          <p:nvPr/>
        </p:nvPicPr>
        <p:blipFill>
          <a:blip r:embed="rId1"/>
          <a:stretch/>
        </p:blipFill>
        <p:spPr>
          <a:xfrm>
            <a:off x="3635280" y="1268280"/>
            <a:ext cx="507996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jiny kinematografie 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3c8c93"/>
                </a:solidFill>
                <a:latin typeface="Arial"/>
              </a:rPr>
              <a:t>      </a:t>
            </a:r>
            <a:r>
              <a:rPr b="1" lang="cs-CZ" sz="1600" spc="-1" strike="noStrike">
                <a:solidFill>
                  <a:srgbClr val="3c8c93"/>
                </a:solidFill>
                <a:latin typeface="Arial"/>
              </a:rPr>
              <a:t>VY_32_INOVACE_2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irace ruskou literaturou - režisé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gej Bondarču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1920 –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jznámější jsou jeho adaptace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sudu člově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dle Michaila Šolochova nebo čtyřdílný film inspirovaný Tolstého románem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ojna a m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polednikova\Pictures\SABLONY 2012\osud člověka.jpg"/>
          <p:cNvPicPr/>
          <p:nvPr/>
        </p:nvPicPr>
        <p:blipFill>
          <a:blip r:embed="rId1"/>
          <a:stretch/>
        </p:blipFill>
        <p:spPr>
          <a:xfrm>
            <a:off x="4788000" y="1628640"/>
            <a:ext cx="4068720" cy="401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4" name="Obdélník 5"/>
          <p:cNvSpPr/>
          <p:nvPr/>
        </p:nvSpPr>
        <p:spPr>
          <a:xfrm>
            <a:off x="3851280" y="5805360"/>
            <a:ext cx="50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www.fdb.cz/film/osud-cloveka-sudba-celoveka/fotogalerie/15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07:19Z</dcterms:created>
  <dc:creator>Marie Poledníková</dc:creator>
  <dc:description/>
  <dc:language>en-US</dc:language>
  <cp:lastModifiedBy>polednikova</cp:lastModifiedBy>
  <dcterms:modified xsi:type="dcterms:W3CDTF">2013-06-04T12:09:58Z</dcterms:modified>
  <cp:revision>88</cp:revision>
  <dc:subject/>
  <dc:title>Snímek 1</dc:title>
</cp:coreProperties>
</file>