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9DE-B1E6-4535-A2E9-5CB560FD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F68-E627-4C48-B315-F525ACD8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29F-2517-4E82-8933-4D913EF9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818-6954-4A8E-B408-028DE0E2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9B8-7B50-40C0-8A3A-D635AA9B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BE9-D8B5-493F-8C2D-082F9379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090-3FC6-4ED1-84B4-4B4BB8FF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D04-DAB8-4732-A5F4-D6A5F03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A55-31E7-4240-8BE9-0E052CA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2EE-67CA-4700-A711-1EFCEA50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0AC-C75D-40C4-86CB-B0F5E05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A0A-82AA-4A05-90E2-C9D24D7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2B2-347B-4FC5-B116-806196C6A5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46c0a"/>
                </a:solidFill>
                <a:latin typeface="Calibri"/>
              </a:rPr>
              <a:t>Náboženství Střední Amer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6948360" y="6922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e46c0a"/>
                </a:solidFill>
                <a:latin typeface="Calibri"/>
              </a:rPr>
              <a:t>VY_32_INOVACE_22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7093080" y="616572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e46c0a"/>
                </a:solidFill>
                <a:latin typeface="Calibri"/>
              </a:rPr>
              <a:t>Mgr. Kateřina Budín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Azték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692280"/>
            <a:ext cx="8363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ázev podle jejich mýtické vlasti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AZT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do Mexika příchod ve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12. století 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jejich kultura končí po roce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1521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ŠPANĚLÉ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zničili hlavní město říše Tenochtitl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(HERNÁN CORTÉ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ejvyšší bůh: Huiztilopochtli=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ŮH SLU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vět pokládali za páté a poslední stvoře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(bude zničeno zemětřesení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9-13 stupňové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YRAMIDY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YMBOLY KOS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tupně představovaly nebesa a podsvě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ebeské sféry sídlem boh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ejnižší podsvětí: říše mrtvých: Mikt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3" descr="Cortes.jpg"/>
          <p:cNvPicPr/>
          <p:nvPr/>
        </p:nvPicPr>
        <p:blipFill>
          <a:blip r:embed="rId1"/>
          <a:stretch/>
        </p:blipFill>
        <p:spPr>
          <a:xfrm>
            <a:off x="6588000" y="404640"/>
            <a:ext cx="2219400" cy="25927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96" name="TextovéPole 4"/>
          <p:cNvSpPr/>
          <p:nvPr/>
        </p:nvSpPr>
        <p:spPr>
          <a:xfrm>
            <a:off x="6659640" y="306864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Hernán_Corté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7" descr="647px-StaCeciliaAcatitlan.jpg"/>
          <p:cNvPicPr/>
          <p:nvPr/>
        </p:nvPicPr>
        <p:blipFill>
          <a:blip r:embed="rId2"/>
          <a:stretch/>
        </p:blipFill>
        <p:spPr>
          <a:xfrm>
            <a:off x="6227640" y="3645000"/>
            <a:ext cx="2718000" cy="25207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98" name="TextovéPole 8"/>
          <p:cNvSpPr/>
          <p:nvPr/>
        </p:nvSpPr>
        <p:spPr>
          <a:xfrm>
            <a:off x="6875640" y="623736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Az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Azték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ohřby: způsob podle druhu smrt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králové, válečníci, děvčata: zpopelňová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(nárok na pobyt v Domě slu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utonulí, zasažení blesk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ohřeb do země (v říši mrtvých na vrcholcích h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ostatní zemřelí: zpopelněni: cesta do Miktlanu (trvala 4 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raktikovali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LIDSKOU OBĚŤ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(někdy až masová jat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oběť srd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569px-Codex_Magliabechiano_(141_cropped).jpg"/>
          <p:cNvPicPr/>
          <p:nvPr/>
        </p:nvPicPr>
        <p:blipFill>
          <a:blip r:embed="rId1"/>
          <a:stretch/>
        </p:blipFill>
        <p:spPr>
          <a:xfrm>
            <a:off x="4211640" y="4005360"/>
            <a:ext cx="2390760" cy="251928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02" name="TextovéPole 4"/>
          <p:cNvSpPr/>
          <p:nvPr/>
        </p:nvSpPr>
        <p:spPr>
          <a:xfrm>
            <a:off x="4211640" y="659772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Dobývání_Aztécké_říš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ázek 5" descr="Aztec_Empire_1519_map-fr.svg.png"/>
          <p:cNvPicPr/>
          <p:nvPr/>
        </p:nvPicPr>
        <p:blipFill>
          <a:blip r:embed="rId2"/>
          <a:stretch/>
        </p:blipFill>
        <p:spPr>
          <a:xfrm>
            <a:off x="6012000" y="216000"/>
            <a:ext cx="2957400" cy="227628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04" name="TextovéPole 6"/>
          <p:cNvSpPr/>
          <p:nvPr/>
        </p:nvSpPr>
        <p:spPr>
          <a:xfrm>
            <a:off x="6659640" y="249228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Az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Tenochtitl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Zástupný symbol pro obsah 3" descr="800px-Templo_Mayor_Tenochtitlan.jpg"/>
          <p:cNvPicPr/>
          <p:nvPr/>
        </p:nvPicPr>
        <p:blipFill>
          <a:blip r:embed="rId1"/>
          <a:stretch/>
        </p:blipFill>
        <p:spPr>
          <a:xfrm>
            <a:off x="250920" y="1557360"/>
            <a:ext cx="4538520" cy="2592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07" name="TextovéPole 4"/>
          <p:cNvSpPr/>
          <p:nvPr/>
        </p:nvSpPr>
        <p:spPr>
          <a:xfrm>
            <a:off x="1187280" y="4221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Tenochtitl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ázek 5" descr="Ruins_of_Tenochtitlan.JPG"/>
          <p:cNvPicPr/>
          <p:nvPr/>
        </p:nvPicPr>
        <p:blipFill>
          <a:blip r:embed="rId2"/>
          <a:stretch/>
        </p:blipFill>
        <p:spPr>
          <a:xfrm>
            <a:off x="5124600" y="1557360"/>
            <a:ext cx="3624120" cy="271764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09" name="TextovéPole 6"/>
          <p:cNvSpPr/>
          <p:nvPr/>
        </p:nvSpPr>
        <p:spPr>
          <a:xfrm>
            <a:off x="5940360" y="436716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Tenochtitl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Ink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809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JIŽNÍ AMERIKA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oblast Peru, Kolumbie, Brazí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centrum: město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CUZ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inka = titul vládců: božský původ (Sluneční bů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TEOKRATICKÝ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stát řízený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KNĚŽÍ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kult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LUNCE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bůh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ejvyšší kněz: Villak uma, mladší bratr In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v chrámech kněžky, vybrané pa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ředpovídání budoucnosti ze zvířecích orgá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kultovní obřady kopírovaly zemědělský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Obrázek 3" descr="Tawantinsuyu_(orthographic_projection).svg.png"/>
          <p:cNvPicPr/>
          <p:nvPr/>
        </p:nvPicPr>
        <p:blipFill>
          <a:blip r:embed="rId1"/>
          <a:stretch/>
        </p:blipFill>
        <p:spPr>
          <a:xfrm>
            <a:off x="6588000" y="93600"/>
            <a:ext cx="2327400" cy="23274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13" name="TextovéPole 4"/>
          <p:cNvSpPr/>
          <p:nvPr/>
        </p:nvSpPr>
        <p:spPr>
          <a:xfrm>
            <a:off x="6875640" y="249228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Incká_říš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rázek 5" descr="800px-Mur_Inca_Décembre_2007.jpg"/>
          <p:cNvPicPr/>
          <p:nvPr/>
        </p:nvPicPr>
        <p:blipFill>
          <a:blip r:embed="rId2"/>
          <a:stretch/>
        </p:blipFill>
        <p:spPr>
          <a:xfrm>
            <a:off x="826920" y="4941720"/>
            <a:ext cx="3751560" cy="15894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15" name="TextovéPole 6"/>
          <p:cNvSpPr/>
          <p:nvPr/>
        </p:nvSpPr>
        <p:spPr>
          <a:xfrm>
            <a:off x="1835280" y="659772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de.wikipedia.org/wiki/In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ázek 7" descr="400px-José_Bernardo_de_Tagle_Inti.svg.png"/>
          <p:cNvPicPr/>
          <p:nvPr/>
        </p:nvPicPr>
        <p:blipFill>
          <a:blip r:embed="rId3"/>
          <a:stretch/>
        </p:blipFill>
        <p:spPr>
          <a:xfrm>
            <a:off x="6732720" y="2781360"/>
            <a:ext cx="2047680" cy="204768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17" name="TextovéPole 8"/>
          <p:cNvSpPr/>
          <p:nvPr/>
        </p:nvSpPr>
        <p:spPr>
          <a:xfrm>
            <a:off x="6804000" y="49417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Inca_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Ink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ápojové a potravinové obě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(lidské pouze při zvláštních příležitoste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zvířecí oběti: l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výrazný kult před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dvě záhrobní říš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ráj v blízkosti Slunce (Hanak Pača): pouze vrchnost a šlec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odsvětí (Ukhu Pača): všichni ostatní (strasti a mu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řírodní božstva: matka země (Pačamama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matka moře (Mamakoča), bůh bouře Ila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říše zničena Španěly (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FRANCISCO PIZZARO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Obrázek 3" descr="461px-Pizarro.jpg"/>
          <p:cNvPicPr/>
          <p:nvPr/>
        </p:nvPicPr>
        <p:blipFill>
          <a:blip r:embed="rId1"/>
          <a:stretch/>
        </p:blipFill>
        <p:spPr>
          <a:xfrm>
            <a:off x="6588000" y="189000"/>
            <a:ext cx="2016360" cy="2619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6659640" y="28526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Incká_říš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Machu Pic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ástupný symbol pro obsah 3" descr="Before_Machu_Picchu.jpg"/>
          <p:cNvPicPr/>
          <p:nvPr/>
        </p:nvPicPr>
        <p:blipFill>
          <a:blip r:embed="rId1"/>
          <a:stretch/>
        </p:blipFill>
        <p:spPr>
          <a:xfrm>
            <a:off x="611280" y="630360"/>
            <a:ext cx="2881080" cy="27558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24" name="TextovéPole 4"/>
          <p:cNvSpPr/>
          <p:nvPr/>
        </p:nvSpPr>
        <p:spPr>
          <a:xfrm>
            <a:off x="900000" y="34290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Machu_Picc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5" descr="Intihuatana_Solar_Clock.jpg"/>
          <p:cNvPicPr/>
          <p:nvPr/>
        </p:nvPicPr>
        <p:blipFill>
          <a:blip r:embed="rId2"/>
          <a:stretch/>
        </p:blipFill>
        <p:spPr>
          <a:xfrm>
            <a:off x="4932360" y="692280"/>
            <a:ext cx="3456000" cy="2592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26" name="TextovéPole 7"/>
          <p:cNvSpPr/>
          <p:nvPr/>
        </p:nvSpPr>
        <p:spPr>
          <a:xfrm>
            <a:off x="5580000" y="335772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Machu_Picc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8" descr="800px-Machu_Picchu_as_the_mist's_rise_at_dawn.jpg"/>
          <p:cNvPicPr/>
          <p:nvPr/>
        </p:nvPicPr>
        <p:blipFill>
          <a:blip r:embed="rId3"/>
          <a:stretch/>
        </p:blipFill>
        <p:spPr>
          <a:xfrm>
            <a:off x="611280" y="3933720"/>
            <a:ext cx="3579840" cy="23749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28" name="TextovéPole 9"/>
          <p:cNvSpPr/>
          <p:nvPr/>
        </p:nvSpPr>
        <p:spPr>
          <a:xfrm>
            <a:off x="1116000" y="638172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Machu_Picc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10" descr="Machupicchu_intihuatana.JPG"/>
          <p:cNvPicPr/>
          <p:nvPr/>
        </p:nvPicPr>
        <p:blipFill>
          <a:blip r:embed="rId4"/>
          <a:stretch/>
        </p:blipFill>
        <p:spPr>
          <a:xfrm>
            <a:off x="5003640" y="3860640"/>
            <a:ext cx="3264120" cy="2448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130" name="TextovéPole 11"/>
          <p:cNvSpPr/>
          <p:nvPr/>
        </p:nvSpPr>
        <p:spPr>
          <a:xfrm>
            <a:off x="5580000" y="638172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Machu_Picc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46c0a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Eliade, Mircea: Dějiny náboženského myšlení IV. OIKOYMENH, Praha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Keene, Michael: Světová náboženství, Lion, Londýn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König, Franz: Lexikon náboženství, VICTORIA PUBLISHING, Praha 199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Olmék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80640"/>
            <a:ext cx="8578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1800 př. Kr.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v oblasti Veracruzu (Mex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osvátné zvíře: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JAGUÁ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aleziště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AN LORENZO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dvanáct obřích hl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Obrázek 3" descr="Olmec_Heartland_Overview_4.svg.png"/>
          <p:cNvPicPr/>
          <p:nvPr/>
        </p:nvPicPr>
        <p:blipFill>
          <a:blip r:embed="rId1"/>
          <a:stretch/>
        </p:blipFill>
        <p:spPr>
          <a:xfrm>
            <a:off x="250920" y="2859120"/>
            <a:ext cx="4033800" cy="28735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47" name="Obrázek 4" descr="CabezaColosal1_MuseoXalapa_v1.1.jpg"/>
          <p:cNvPicPr/>
          <p:nvPr/>
        </p:nvPicPr>
        <p:blipFill>
          <a:blip r:embed="rId2"/>
          <a:stretch/>
        </p:blipFill>
        <p:spPr>
          <a:xfrm>
            <a:off x="4605480" y="2852640"/>
            <a:ext cx="4322520" cy="2880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48" name="TextovéPole 5"/>
          <p:cNvSpPr/>
          <p:nvPr/>
        </p:nvSpPr>
        <p:spPr>
          <a:xfrm>
            <a:off x="826920" y="587844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San_Lorenzo_Tenochtitl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6"/>
          <p:cNvSpPr/>
          <p:nvPr/>
        </p:nvSpPr>
        <p:spPr>
          <a:xfrm>
            <a:off x="5364000" y="587700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San_Lorenzo_Tenochtitl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Olmécká La V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ástupný symbol pro obsah 3" descr="800px-La_Venta_Pirámide_cara_norte.jpg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2592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52" name="TextovéPole 4"/>
          <p:cNvSpPr/>
          <p:nvPr/>
        </p:nvSpPr>
        <p:spPr>
          <a:xfrm>
            <a:off x="1332000" y="350028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La_V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5" descr="Mexico.Tab.OlmecHead.01.jpg"/>
          <p:cNvPicPr/>
          <p:nvPr/>
        </p:nvPicPr>
        <p:blipFill>
          <a:blip r:embed="rId2"/>
          <a:stretch/>
        </p:blipFill>
        <p:spPr>
          <a:xfrm>
            <a:off x="4932360" y="836640"/>
            <a:ext cx="2590920" cy="2592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54" name="TextovéPole 6"/>
          <p:cNvSpPr/>
          <p:nvPr/>
        </p:nvSpPr>
        <p:spPr>
          <a:xfrm>
            <a:off x="5364000" y="350028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La_V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7" descr="800px-La_Venta_Mosaic_(Ruben_Charles).jpg"/>
          <p:cNvPicPr/>
          <p:nvPr/>
        </p:nvPicPr>
        <p:blipFill>
          <a:blip r:embed="rId3"/>
          <a:stretch/>
        </p:blipFill>
        <p:spPr>
          <a:xfrm>
            <a:off x="539640" y="3860640"/>
            <a:ext cx="3552840" cy="2664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56" name="TextovéPole 8"/>
          <p:cNvSpPr/>
          <p:nvPr/>
        </p:nvSpPr>
        <p:spPr>
          <a:xfrm>
            <a:off x="1401840" y="659772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La_V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11" descr="800px-La_Venta_Altar_5_(Ruben_Charles).jpg"/>
          <p:cNvPicPr/>
          <p:nvPr/>
        </p:nvPicPr>
        <p:blipFill>
          <a:blip r:embed="rId4"/>
          <a:stretch/>
        </p:blipFill>
        <p:spPr>
          <a:xfrm>
            <a:off x="4788000" y="3860640"/>
            <a:ext cx="3552840" cy="2664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58" name="TextovéPole 12"/>
          <p:cNvSpPr/>
          <p:nvPr/>
        </p:nvSpPr>
        <p:spPr>
          <a:xfrm>
            <a:off x="5651640" y="659772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Olm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Olmécké Tres Zap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téla C: 31 př. Kr.: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RVNÍ KALENDÁŘ A PRVNÍ PÍSMO AMER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Estela_C_de_Tres_Zapotes.jpg"/>
          <p:cNvPicPr/>
          <p:nvPr/>
        </p:nvPicPr>
        <p:blipFill>
          <a:blip r:embed="rId1"/>
          <a:stretch/>
        </p:blipFill>
        <p:spPr>
          <a:xfrm>
            <a:off x="2700360" y="1557360"/>
            <a:ext cx="3672000" cy="4824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62" name="TextovéPole 4"/>
          <p:cNvSpPr/>
          <p:nvPr/>
        </p:nvSpPr>
        <p:spPr>
          <a:xfrm>
            <a:off x="3633840" y="65246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Olm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May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JIŽNÍ MEXI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rozlehlé městské stá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Řekové Nového světa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ITZAMNA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nejvyšší bů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tvořitelský bůh nebe a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IX CHEL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měsíční bohy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CHAC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 bůh větru a vody, vegetační božstvo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bohové dualističt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ve vztahu k lidem dobrá i špatná strán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zemřelí pohřbíváni do země (i v pyramidá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ek 3" descr="800px-Mayamap.png"/>
          <p:cNvPicPr/>
          <p:nvPr/>
        </p:nvPicPr>
        <p:blipFill>
          <a:blip r:embed="rId1"/>
          <a:stretch/>
        </p:blipFill>
        <p:spPr>
          <a:xfrm>
            <a:off x="5796000" y="260280"/>
            <a:ext cx="3097080" cy="227664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66" name="TextovéPole 4"/>
          <p:cNvSpPr/>
          <p:nvPr/>
        </p:nvSpPr>
        <p:spPr>
          <a:xfrm>
            <a:off x="6372360" y="263844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Mayská_civiliz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ázek 5" descr="MyanRainGodChac0180Rot.jpg"/>
          <p:cNvPicPr/>
          <p:nvPr/>
        </p:nvPicPr>
        <p:blipFill>
          <a:blip r:embed="rId2"/>
          <a:stretch/>
        </p:blipFill>
        <p:spPr>
          <a:xfrm>
            <a:off x="6516720" y="2997360"/>
            <a:ext cx="2039760" cy="3384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68" name="TextovéPole 6"/>
          <p:cNvSpPr/>
          <p:nvPr/>
        </p:nvSpPr>
        <p:spPr>
          <a:xfrm>
            <a:off x="6445080" y="645336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Mayská_mytolog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May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300 – 900 po. Kr.</a:t>
            </a: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: největší rozvo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komplex </a:t>
            </a: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EL TAJÍN</a:t>
            </a: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: </a:t>
            </a: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KULTICKÁ MÍČOVÁ HRA </a:t>
            </a: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(cesta Slunce podzemním svět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800px-NorthBallCourtLookingEast.JPG"/>
          <p:cNvPicPr/>
          <p:nvPr/>
        </p:nvPicPr>
        <p:blipFill>
          <a:blip r:embed="rId1"/>
          <a:stretch/>
        </p:blipFill>
        <p:spPr>
          <a:xfrm>
            <a:off x="395280" y="1701720"/>
            <a:ext cx="3330720" cy="2232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72" name="Obrázek 4" descr="800px-SBCLookingEastTajin.JPG"/>
          <p:cNvPicPr/>
          <p:nvPr/>
        </p:nvPicPr>
        <p:blipFill>
          <a:blip r:embed="rId2"/>
          <a:stretch/>
        </p:blipFill>
        <p:spPr>
          <a:xfrm>
            <a:off x="5545080" y="1628640"/>
            <a:ext cx="3332160" cy="2232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73" name="Obrázek 5" descr="800px-BeheadingPanelSBCTajin.JPG"/>
          <p:cNvPicPr/>
          <p:nvPr/>
        </p:nvPicPr>
        <p:blipFill>
          <a:blip r:embed="rId3"/>
          <a:stretch/>
        </p:blipFill>
        <p:spPr>
          <a:xfrm>
            <a:off x="2862360" y="4076640"/>
            <a:ext cx="3654360" cy="2448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74" name="TextovéPole 6"/>
          <p:cNvSpPr/>
          <p:nvPr/>
        </p:nvSpPr>
        <p:spPr>
          <a:xfrm>
            <a:off x="539640" y="400536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El_Tají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ovéPole 7"/>
          <p:cNvSpPr/>
          <p:nvPr/>
        </p:nvSpPr>
        <p:spPr>
          <a:xfrm>
            <a:off x="6659640" y="393552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El_Tají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8"/>
          <p:cNvSpPr/>
          <p:nvPr/>
        </p:nvSpPr>
        <p:spPr>
          <a:xfrm>
            <a:off x="3780000" y="6597720"/>
            <a:ext cx="19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El_Tají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Teotihuacán: hlavní město ří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říbytek bohů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rozkvět: bydlelo 200 000 lid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zobrazení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KOS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3" descr="View_from_Pyramide_de_la_luna.jpg"/>
          <p:cNvPicPr/>
          <p:nvPr/>
        </p:nvPicPr>
        <p:blipFill>
          <a:blip r:embed="rId1"/>
          <a:stretch/>
        </p:blipFill>
        <p:spPr>
          <a:xfrm>
            <a:off x="250920" y="2590920"/>
            <a:ext cx="4176720" cy="27828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80" name="TextovéPole 4"/>
          <p:cNvSpPr/>
          <p:nvPr/>
        </p:nvSpPr>
        <p:spPr>
          <a:xfrm>
            <a:off x="1258920" y="551664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cs.wikipedia.org/wiki/Teotihuac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rázek 5" descr="Teonate.JPG"/>
          <p:cNvPicPr/>
          <p:nvPr/>
        </p:nvPicPr>
        <p:blipFill>
          <a:blip r:embed="rId2"/>
          <a:stretch/>
        </p:blipFill>
        <p:spPr>
          <a:xfrm>
            <a:off x="4991040" y="2565360"/>
            <a:ext cx="3781440" cy="280836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82" name="TextovéPole 6"/>
          <p:cNvSpPr/>
          <p:nvPr/>
        </p:nvSpPr>
        <p:spPr>
          <a:xfrm>
            <a:off x="5869080" y="551664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Teotihua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Teotihuacán: hlavní město ří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3" descr="800px-Teotihuacan_Feathered_Serpent_(Jami_Dwyer).jpg"/>
          <p:cNvPicPr/>
          <p:nvPr/>
        </p:nvPicPr>
        <p:blipFill>
          <a:blip r:embed="rId1"/>
          <a:stretch/>
        </p:blipFill>
        <p:spPr>
          <a:xfrm>
            <a:off x="179280" y="1773360"/>
            <a:ext cx="4321440" cy="3240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85" name="TextovéPole 4"/>
          <p:cNvSpPr/>
          <p:nvPr/>
        </p:nvSpPr>
        <p:spPr>
          <a:xfrm>
            <a:off x="1403280" y="508464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Quetzalcoat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5" descr="800px-Jaguar_Mural,_Teotihuacan.jpg"/>
          <p:cNvPicPr/>
          <p:nvPr/>
        </p:nvPicPr>
        <p:blipFill>
          <a:blip r:embed="rId2"/>
          <a:stretch/>
        </p:blipFill>
        <p:spPr>
          <a:xfrm>
            <a:off x="4662360" y="2060640"/>
            <a:ext cx="4373640" cy="25207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87" name="TextovéPole 6"/>
          <p:cNvSpPr/>
          <p:nvPr/>
        </p:nvSpPr>
        <p:spPr>
          <a:xfrm>
            <a:off x="5867280" y="472608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Teotihua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Palen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ástupný symbol pro obsah 3" descr="Temple_of_the_Inscriptions.jpg"/>
          <p:cNvPicPr/>
          <p:nvPr/>
        </p:nvPicPr>
        <p:blipFill>
          <a:blip r:embed="rId1"/>
          <a:stretch/>
        </p:blipFill>
        <p:spPr>
          <a:xfrm>
            <a:off x="439560" y="1844640"/>
            <a:ext cx="3988080" cy="266400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90" name="TextovéPole 4"/>
          <p:cNvSpPr/>
          <p:nvPr/>
        </p:nvSpPr>
        <p:spPr>
          <a:xfrm>
            <a:off x="1260360" y="4581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Palen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ázek 5" descr="450px-Palenque_-_Grabschmuck_des_Pakal.jpg"/>
          <p:cNvPicPr/>
          <p:nvPr/>
        </p:nvPicPr>
        <p:blipFill>
          <a:blip r:embed="rId2"/>
          <a:stretch/>
        </p:blipFill>
        <p:spPr>
          <a:xfrm>
            <a:off x="5076720" y="1052640"/>
            <a:ext cx="3078360" cy="410508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sp>
        <p:nvSpPr>
          <p:cNvPr id="92" name="TextovéPole 6"/>
          <p:cNvSpPr/>
          <p:nvPr/>
        </p:nvSpPr>
        <p:spPr>
          <a:xfrm>
            <a:off x="5724360" y="5229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e46c0a"/>
                </a:solidFill>
                <a:latin typeface="Calibri"/>
              </a:rPr>
              <a:t>http://en.wikipedia.org/wiki/Palen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14:32:38Z</dcterms:created>
  <dc:creator>Kacenka</dc:creator>
  <dc:description/>
  <dc:language>en-US</dc:language>
  <cp:lastModifiedBy>Kacenka</cp:lastModifiedBy>
  <dcterms:modified xsi:type="dcterms:W3CDTF">2013-03-29T13:30:43Z</dcterms:modified>
  <cp:revision>5</cp:revision>
  <dc:subject/>
  <dc:title>Náboženství Aztéků, Mayů a Inků</dc:title>
</cp:coreProperties>
</file>