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258-7E20-4B5E-BC98-0C108195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58E-187B-4250-BB6A-AC817747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97F-04CA-46BD-AFD4-FD99B60F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11B-6078-43DB-8444-4D3E1A4C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60D-F128-4057-8DD2-53EA9F16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27A-061C-4BC2-8A75-564822DA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CCA-C8C1-4163-A538-80E664EE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6D8-1D4F-4085-B590-65511B69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9F9-19E0-4F2C-9C97-4D16FCA8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BA8-1023-406C-BC21-DE67E7EE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297-09DA-4F6A-A162-74DEF744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513-E08E-431A-A846-569694E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0861-F198-4996-AD99-43C7634C34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953735"/>
                </a:solidFill>
                <a:latin typeface="Calibri"/>
              </a:rPr>
              <a:t>Šintó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ovéPole 3"/>
          <p:cNvSpPr/>
          <p:nvPr/>
        </p:nvSpPr>
        <p:spPr>
          <a:xfrm>
            <a:off x="7380360" y="4762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953735"/>
                </a:solidFill>
                <a:latin typeface="Calibri"/>
              </a:rPr>
              <a:t>VY_32_INOVACE_22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4"/>
          <p:cNvSpPr/>
          <p:nvPr/>
        </p:nvSpPr>
        <p:spPr>
          <a:xfrm>
            <a:off x="7308720" y="630864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953735"/>
                </a:solidFill>
                <a:latin typeface="Calibri"/>
              </a:rPr>
              <a:t>Mgr. Kateřina Budínov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53735"/>
                </a:solidFill>
                <a:latin typeface="Calibri"/>
              </a:rPr>
              <a:t>Seznam použité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53735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53735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53735"/>
                </a:solidFill>
                <a:latin typeface="Calibri"/>
              </a:rPr>
              <a:t>Knotková-Čapková, Blanka (ed.): Základy asijských náboženství. 2. díl. Taoismus, Konfucianismus, Neokonfucianismus v Koreji, Šintoismus, Islám ve východní a jihovýchodní Asii, Nakladatelství Karolinum, UK Praha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53735"/>
                </a:solidFill>
                <a:latin typeface="Calibri"/>
              </a:rPr>
              <a:t>Obecn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PŮVODNÍ JAPONSKÉ 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nábožen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ŠIN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nadpřirozená bytost,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DÓ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c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NEMÁ ZAKLADAT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POSVÁTNÉ TEXTY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4f6228"/>
                </a:solidFill>
                <a:latin typeface="Calibri"/>
              </a:rPr>
              <a:t>1. KODŽIKI, NIHONGI, FUDOKI, MAN‘JÓŠ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Kodžiki, Nihong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KRONIKY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 sepsané na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CÍSAŘSKÝ ROZKA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MYTOLOGIE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 jako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HISTORICKÁ SKUTEČ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Fudoki: zápisky z provincií,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MÍSTNÍ LEGEN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Man‘jóšú: Deset tisíc listů: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SBÍRKA BÁS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53735"/>
                </a:solidFill>
                <a:latin typeface="Calibri"/>
              </a:rPr>
              <a:t>Obecn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77933c"/>
                </a:solidFill>
                <a:latin typeface="Calibri"/>
              </a:rPr>
              <a:t>2. SEMMJÓ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CÍSAŘSKÉ VÝNOSY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vyjádření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VŮLE ŽIJÍCÍCH BOŽ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77933c"/>
                </a:solidFill>
                <a:latin typeface="Calibri"/>
              </a:rPr>
              <a:t>3. RICURJÓ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snaha o doložení božské legitimity císařského systé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CÍSAŘ: PŘÍMÝ POTOMEK SLUNEČNÍ BOHYNĚ AMATERA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77933c"/>
                </a:solidFill>
                <a:latin typeface="Calibri"/>
              </a:rPr>
              <a:t>4. ENGIŠIKI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soubor administrativních nařízení, dvorských zákonů a pravidel etik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77933c"/>
                </a:solidFill>
                <a:latin typeface="Calibri"/>
              </a:rPr>
              <a:t>5. NOR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recitování zaříkadel (jedinečné modlitby pro zvláštní příležit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53735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80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šintó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MIMO JAPONSKO 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prakticky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NEEXISTUJE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neodlučitelný prvek japonské kult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apeluje na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CITOVOU OBLAST 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(není vyučováno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sounáležitost s přírod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víra v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KAMI (BOŽSTVA)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velké množ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nadáno silou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TAMA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hnací silou každého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přebývá v člověku (tamaši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tama je vzývána při obřad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KAMI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 sídlí především na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STROMECH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každá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SVATYNĚ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 obklopena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POSVÁTNÝM HÁ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ek 9" descr="Amaterasu_cave_crop.jpg"/>
          <p:cNvPicPr/>
          <p:nvPr/>
        </p:nvPicPr>
        <p:blipFill>
          <a:blip r:embed="rId1"/>
          <a:stretch/>
        </p:blipFill>
        <p:spPr>
          <a:xfrm>
            <a:off x="6588000" y="260280"/>
            <a:ext cx="2293920" cy="388944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51" name="TextovéPole 10"/>
          <p:cNvSpPr/>
          <p:nvPr/>
        </p:nvSpPr>
        <p:spPr>
          <a:xfrm>
            <a:off x="6875640" y="4221000"/>
            <a:ext cx="16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cs.wikipedia.org/wiki/Ka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53735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707px-Itsukushima_torii_angle.jpg"/>
          <p:cNvPicPr/>
          <p:nvPr/>
        </p:nvPicPr>
        <p:blipFill>
          <a:blip r:embed="rId1"/>
          <a:stretch/>
        </p:blipFill>
        <p:spPr>
          <a:xfrm>
            <a:off x="611280" y="692280"/>
            <a:ext cx="2881080" cy="244476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54" name="TextovéPole 4"/>
          <p:cNvSpPr/>
          <p:nvPr/>
        </p:nvSpPr>
        <p:spPr>
          <a:xfrm>
            <a:off x="971640" y="32130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d99694"/>
                </a:solidFill>
                <a:latin typeface="Calibri"/>
              </a:rPr>
              <a:t>http://cs.wikipedia.org/wiki/Šinto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800px-Takachiho-gawara_Kirishima_City_Kagoshima_Pref02n4050.jpg"/>
          <p:cNvPicPr/>
          <p:nvPr/>
        </p:nvPicPr>
        <p:blipFill>
          <a:blip r:embed="rId2"/>
          <a:stretch/>
        </p:blipFill>
        <p:spPr>
          <a:xfrm>
            <a:off x="4643280" y="668160"/>
            <a:ext cx="3600720" cy="239904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56" name="TextovéPole 6"/>
          <p:cNvSpPr/>
          <p:nvPr/>
        </p:nvSpPr>
        <p:spPr>
          <a:xfrm>
            <a:off x="5580000" y="314172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en.wikipedia.org/wiki/Shi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7" descr="450px-Tsubaki-shrine.jpg"/>
          <p:cNvPicPr/>
          <p:nvPr/>
        </p:nvPicPr>
        <p:blipFill>
          <a:blip r:embed="rId3"/>
          <a:stretch/>
        </p:blipFill>
        <p:spPr>
          <a:xfrm>
            <a:off x="900000" y="3500280"/>
            <a:ext cx="2232000" cy="297684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58" name="TextovéPole 8"/>
          <p:cNvSpPr/>
          <p:nvPr/>
        </p:nvSpPr>
        <p:spPr>
          <a:xfrm>
            <a:off x="1116000" y="65246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en.wikipedia.org/wiki/Shi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9" descr="Fushimi_Inari_-_Main_gate.jpg"/>
          <p:cNvPicPr/>
          <p:nvPr/>
        </p:nvPicPr>
        <p:blipFill>
          <a:blip r:embed="rId4"/>
          <a:stretch/>
        </p:blipFill>
        <p:spPr>
          <a:xfrm>
            <a:off x="4572000" y="3500280"/>
            <a:ext cx="3619440" cy="288144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60" name="TextovéPole 10"/>
          <p:cNvSpPr/>
          <p:nvPr/>
        </p:nvSpPr>
        <p:spPr>
          <a:xfrm>
            <a:off x="5508720" y="64533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en.wikipedia.org/wiki/Shi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53735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POSVÁTNÉ HORY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na nich je možné oslovit k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nejposvátnější hora: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FUDŽI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, dále Nant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dále posvátné jeskyně a ská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příbytek bohů: Vyšší sféry nebeské 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„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onen svět“ (svět mrtvých, zlých duch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země hojnosti a věčného života: třetí svě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všechny tři rovnocen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3" descr="FujiSunriseKawaguchiko2025WP.jpg"/>
          <p:cNvPicPr/>
          <p:nvPr/>
        </p:nvPicPr>
        <p:blipFill>
          <a:blip r:embed="rId1"/>
          <a:stretch/>
        </p:blipFill>
        <p:spPr>
          <a:xfrm>
            <a:off x="468360" y="4100400"/>
            <a:ext cx="3530520" cy="235296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64" name="TextovéPole 4"/>
          <p:cNvSpPr/>
          <p:nvPr/>
        </p:nvSpPr>
        <p:spPr>
          <a:xfrm>
            <a:off x="1187280" y="652464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cs.wikipedia.org/wiki/Fudž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5" descr="800px-Nikko_Futarasan_Jinja_M3292.jpg"/>
          <p:cNvPicPr/>
          <p:nvPr/>
        </p:nvPicPr>
        <p:blipFill>
          <a:blip r:embed="rId2"/>
          <a:stretch/>
        </p:blipFill>
        <p:spPr>
          <a:xfrm>
            <a:off x="4643280" y="4005360"/>
            <a:ext cx="4173840" cy="249228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66" name="TextovéPole 6"/>
          <p:cNvSpPr/>
          <p:nvPr/>
        </p:nvSpPr>
        <p:spPr>
          <a:xfrm>
            <a:off x="5364000" y="6642000"/>
            <a:ext cx="23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cs.wikipedia.org/wiki/Svatyně_Futara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rázek 7" descr="800px-SakuraHealed.png"/>
          <p:cNvPicPr/>
          <p:nvPr/>
        </p:nvPicPr>
        <p:blipFill>
          <a:blip r:embed="rId3"/>
          <a:stretch/>
        </p:blipFill>
        <p:spPr>
          <a:xfrm>
            <a:off x="6372360" y="1484280"/>
            <a:ext cx="2592360" cy="194472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68" name="TextovéPole 8"/>
          <p:cNvSpPr/>
          <p:nvPr/>
        </p:nvSpPr>
        <p:spPr>
          <a:xfrm>
            <a:off x="6804000" y="35002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cs.wikipedia.org/wiki/Sak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53735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při příležitostí svátků navštěvují zemřelí živé, mohou přicházet i božstva: šintó se orientuje na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SVĚT ŽIV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předpokládá, že tento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SVĚT JE DOBR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ČLOVĚK JE DOBRÝ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za existenci vděčí kami a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PŘEDKŮ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(milují jej a chrání ho, úcta k nim nikdy zanedbá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SPOLEČENSKÁ BYTOST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nemá žít v izol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na prvním místě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SPOLEČNOST A VEŘEJNÉ BLA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člověk se rodí s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URČITÝM POSLÁ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člověk zažívá přítomnost kami na tomto svět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dosahuje spasení v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HARMONICKÉM ROZVOJI SVĚ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53735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ástupný symbol pro obsah 3" descr="340px-Amulette-japonaise.jpg"/>
          <p:cNvPicPr/>
          <p:nvPr/>
        </p:nvPicPr>
        <p:blipFill>
          <a:blip r:embed="rId1"/>
          <a:stretch/>
        </p:blipFill>
        <p:spPr>
          <a:xfrm>
            <a:off x="1547640" y="765000"/>
            <a:ext cx="1656000" cy="291816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73" name="TextovéPole 4"/>
          <p:cNvSpPr/>
          <p:nvPr/>
        </p:nvSpPr>
        <p:spPr>
          <a:xfrm>
            <a:off x="1332000" y="37162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cs.wikipedia.org/wiki/Omam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ázek 5" descr="775px-TsurugaokaHachimanEma4283.jpg"/>
          <p:cNvPicPr/>
          <p:nvPr/>
        </p:nvPicPr>
        <p:blipFill>
          <a:blip r:embed="rId2"/>
          <a:stretch/>
        </p:blipFill>
        <p:spPr>
          <a:xfrm>
            <a:off x="5076720" y="765000"/>
            <a:ext cx="3311640" cy="256392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75" name="TextovéPole 6"/>
          <p:cNvSpPr/>
          <p:nvPr/>
        </p:nvSpPr>
        <p:spPr>
          <a:xfrm>
            <a:off x="5724360" y="335772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cs.wikipedia.org/wiki/Ema_(šintoismu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rázek 7" descr="KasugaTaisha2.jpg"/>
          <p:cNvPicPr/>
          <p:nvPr/>
        </p:nvPicPr>
        <p:blipFill>
          <a:blip r:embed="rId3"/>
          <a:stretch/>
        </p:blipFill>
        <p:spPr>
          <a:xfrm>
            <a:off x="5508720" y="3573360"/>
            <a:ext cx="2016000" cy="285588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77" name="TextovéPole 8"/>
          <p:cNvSpPr/>
          <p:nvPr/>
        </p:nvSpPr>
        <p:spPr>
          <a:xfrm>
            <a:off x="5796000" y="64533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cs.wikipedia.org/wiki/Omikudž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rázek 9" descr="Kamidana.jpg"/>
          <p:cNvPicPr/>
          <p:nvPr/>
        </p:nvPicPr>
        <p:blipFill>
          <a:blip r:embed="rId4"/>
          <a:stretch/>
        </p:blipFill>
        <p:spPr>
          <a:xfrm>
            <a:off x="395280" y="4076640"/>
            <a:ext cx="3701880" cy="230508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79" name="TextovéPole 10"/>
          <p:cNvSpPr/>
          <p:nvPr/>
        </p:nvSpPr>
        <p:spPr>
          <a:xfrm>
            <a:off x="826920" y="6524640"/>
            <a:ext cx="18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cs.wikipedia.org/wiki/Kamid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53735"/>
                </a:solidFill>
                <a:latin typeface="Calibri"/>
              </a:rPr>
              <a:t>Náboženská ob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Košicu šintó 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= </a:t>
            </a: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císařské šintó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rituály, které vykonává císa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vzývá hlavně sluneční bohyni Amatera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Minzoku šintó = lidové šintó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malé svatyně a ko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558ed5"/>
                </a:solidFill>
                <a:latin typeface="Calibri"/>
              </a:rPr>
              <a:t>Kjóha šintó = sektářské šintó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: 13 nezávislých uznaných šintoistických s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ázek 3" descr="456px-Akihito_090710-1600b.jpg"/>
          <p:cNvPicPr/>
          <p:nvPr/>
        </p:nvPicPr>
        <p:blipFill>
          <a:blip r:embed="rId1"/>
          <a:stretch/>
        </p:blipFill>
        <p:spPr>
          <a:xfrm>
            <a:off x="971640" y="3357720"/>
            <a:ext cx="2411280" cy="316692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83" name="TextovéPole 4"/>
          <p:cNvSpPr/>
          <p:nvPr/>
        </p:nvSpPr>
        <p:spPr>
          <a:xfrm>
            <a:off x="1258920" y="6524640"/>
            <a:ext cx="18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en.wikipedia.org/wiki/Akihi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" descr="773px-Crown_Prince_Akihito_&amp;_Michiko_Shoda_Wedding_1959-4.jpg"/>
          <p:cNvPicPr/>
          <p:nvPr/>
        </p:nvPicPr>
        <p:blipFill>
          <a:blip r:embed="rId2"/>
          <a:stretch/>
        </p:blipFill>
        <p:spPr>
          <a:xfrm>
            <a:off x="4351320" y="3284640"/>
            <a:ext cx="4181400" cy="3240000"/>
          </a:xfrm>
          <a:prstGeom prst="rect">
            <a:avLst/>
          </a:prstGeom>
          <a:ln w="25560">
            <a:solidFill>
              <a:srgbClr val="953735"/>
            </a:solidFill>
            <a:miter/>
          </a:ln>
        </p:spPr>
      </p:pic>
      <p:sp>
        <p:nvSpPr>
          <p:cNvPr id="85" name="TextovéPole 6"/>
          <p:cNvSpPr/>
          <p:nvPr/>
        </p:nvSpPr>
        <p:spPr>
          <a:xfrm>
            <a:off x="5292720" y="659772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53735"/>
                </a:solidFill>
                <a:latin typeface="Calibri"/>
              </a:rPr>
              <a:t>http://en.wikipedia.org/wiki/Akihi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13:32:28Z</dcterms:created>
  <dc:creator>Kacenka</dc:creator>
  <dc:description/>
  <dc:language>en-US</dc:language>
  <cp:lastModifiedBy>Kacenka</cp:lastModifiedBy>
  <dcterms:modified xsi:type="dcterms:W3CDTF">2013-03-23T09:07:55Z</dcterms:modified>
  <cp:revision>4</cp:revision>
  <dc:subject/>
  <dc:title>Šintó</dc:title>
</cp:coreProperties>
</file>