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0966-A811-43B8-A73E-D8E3DD78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17D-F0AB-4AA8-A060-6C9811A6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6DA-694D-4C20-9D5F-11049DCA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2AE-4B88-4368-9213-19CFAC4A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DC9-673C-4B38-AAF2-1FFBD09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F16-FC7F-47FD-9C0C-52F6A8DA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57B-D744-4E89-8073-D50FB3CC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727-2488-4A57-8C5E-A834B799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544-0870-4EFF-B723-FA426B92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FC8-E70E-4C41-B4D8-E70D8658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7B8-B7F0-4F30-AADE-BE4CFA86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6AF-0F47-413C-AAD5-2F1A4D3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1D4E-7747-496F-AAB9-DC98D7849D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403152"/>
                </a:solidFill>
                <a:latin typeface="Calibri"/>
              </a:rPr>
              <a:t>Taoismu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2" descr="Laozi_002.jpg"/>
          <p:cNvPicPr/>
          <p:nvPr/>
        </p:nvPicPr>
        <p:blipFill>
          <a:blip r:embed="rId1"/>
          <a:stretch/>
        </p:blipFill>
        <p:spPr>
          <a:xfrm>
            <a:off x="3132000" y="2349360"/>
            <a:ext cx="3168720" cy="237492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43" name="TextovéPole 3"/>
          <p:cNvSpPr/>
          <p:nvPr/>
        </p:nvSpPr>
        <p:spPr>
          <a:xfrm>
            <a:off x="3708360" y="479736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de.wikipedia.org/wiki/Dao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4"/>
          <p:cNvSpPr/>
          <p:nvPr/>
        </p:nvSpPr>
        <p:spPr>
          <a:xfrm>
            <a:off x="7236000" y="54936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403152"/>
                </a:solidFill>
                <a:latin typeface="Calibri"/>
              </a:rPr>
              <a:t>VY_32_INOVACE_2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5"/>
          <p:cNvSpPr/>
          <p:nvPr/>
        </p:nvSpPr>
        <p:spPr>
          <a:xfrm>
            <a:off x="7093080" y="630864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403152"/>
                </a:solidFill>
                <a:latin typeface="Calibri"/>
              </a:rPr>
              <a:t>Mgr. Kateřina Budín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3152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PŮVODNĚ PRAKTICKÁ FILOZOF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ústřední motiv: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TAO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věčné, neproniknutelně tajemné, bezhraničný prazdroj veškerenstv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VELKÁ PRÁZDNOTA, NEBYTÍ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: nelze nijak pochopit ani vnímat, přesto vším prostup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není to žádný bůh, působí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EKONÁNÍM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: vlastní tajuplnou přiroze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životní snažení taoistů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pěstován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CESTY</a:t>
            </a: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ROZPUŠTĚNÍ VLASTNÍ INDIVIDUALITY A JEJÍ SPLYNUTÍ S T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náboženský taoismu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2. st. 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2 hlavní proud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1. liturgický, rituální, ceremoniální: jižní sek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2. meditační techniky, prostota, neokázalost: severní školy (nejstarší taoistické trad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společné s buddhismem: karmická víra v příčinu a následek, tolerance a nenásilnost, nevnucuje dogm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403152"/>
                </a:solidFill>
                <a:latin typeface="Calibri"/>
              </a:rPr>
              <a:t>Historicko-společenský kontext v době vznik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FILOZOFICKÁ</a:t>
            </a: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 škola od 6.st. př.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právě tehdy měl žít údajný zakladat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LAO-C‘ (STARÝ MIST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říše v důsledku bojů mezi aristokraty rozdrob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učenci nabízejí politické koncepce panovník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první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HISTORICKÝ TAOISTA: ČUANG-C‘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uskutečňoval taoistickou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IDEU NE-KO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podstatou 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SPONTANEITA, ODPOUTANOST</a:t>
            </a: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PŘIJÍMÁNÍ VŠEHO BEZ SNAHY TO ZMĚ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3" descr="DaodeTianzun.jpg"/>
          <p:cNvPicPr/>
          <p:nvPr/>
        </p:nvPicPr>
        <p:blipFill>
          <a:blip r:embed="rId1"/>
          <a:stretch/>
        </p:blipFill>
        <p:spPr>
          <a:xfrm>
            <a:off x="7164360" y="765000"/>
            <a:ext cx="1511280" cy="267984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53" name="TextovéPole 4"/>
          <p:cNvSpPr/>
          <p:nvPr/>
        </p:nvSpPr>
        <p:spPr>
          <a:xfrm>
            <a:off x="7093080" y="3429000"/>
            <a:ext cx="17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en.wikipedia.org/wiki/Lao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5" descr="Zhuangzi.gif"/>
          <p:cNvPicPr/>
          <p:nvPr/>
        </p:nvPicPr>
        <p:blipFill>
          <a:blip r:embed="rId2"/>
          <a:stretch/>
        </p:blipFill>
        <p:spPr>
          <a:xfrm>
            <a:off x="6877080" y="3716280"/>
            <a:ext cx="2087640" cy="269892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55" name="TextovéPole 6"/>
          <p:cNvSpPr/>
          <p:nvPr/>
        </p:nvSpPr>
        <p:spPr>
          <a:xfrm>
            <a:off x="6875640" y="6453360"/>
            <a:ext cx="19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en.wikipedia.org/wiki/Zhuangz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403152"/>
                </a:solidFill>
                <a:latin typeface="Calibri"/>
              </a:rPr>
              <a:t>Náboženský taoism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1052280"/>
            <a:ext cx="8640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2.-3. st. n. 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oslabená říš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nájezdy nomádských kmen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v zemi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ÁBOŽENŠTÍ VŮDCI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OD BOHŮ POVĚŘENI 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obnovit mír a blahoby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věrouka se šířila mezi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IŽŠÍM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společenskými vrstva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hledání </a:t>
            </a:r>
            <a:r>
              <a:rPr b="1" i="1" lang="cs-CZ" sz="2800" spc="-1" strike="noStrike">
                <a:solidFill>
                  <a:srgbClr val="c00000"/>
                </a:solidFill>
                <a:latin typeface="Calibri"/>
              </a:rPr>
              <a:t>NESMRTELNOSTI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, provádění prakti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403152"/>
                </a:solidFill>
                <a:latin typeface="Calibri"/>
              </a:rPr>
              <a:t>k prodloužení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ek 3" descr="450px-Tianshifu_Gate.JPG"/>
          <p:cNvPicPr/>
          <p:nvPr/>
        </p:nvPicPr>
        <p:blipFill>
          <a:blip r:embed="rId1"/>
          <a:stretch/>
        </p:blipFill>
        <p:spPr>
          <a:xfrm>
            <a:off x="7021440" y="549360"/>
            <a:ext cx="1943280" cy="259236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59" name="TextovéPole 4"/>
          <p:cNvSpPr/>
          <p:nvPr/>
        </p:nvSpPr>
        <p:spPr>
          <a:xfrm>
            <a:off x="7093080" y="3213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de.wikipedia.org/wiki/Dao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5" descr="421px-Taoist-Temple-Inside-2.jpg"/>
          <p:cNvPicPr/>
          <p:nvPr/>
        </p:nvPicPr>
        <p:blipFill>
          <a:blip r:embed="rId2"/>
          <a:stretch/>
        </p:blipFill>
        <p:spPr>
          <a:xfrm>
            <a:off x="7093080" y="3716280"/>
            <a:ext cx="1800000" cy="256212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61" name="TextovéPole 6"/>
          <p:cNvSpPr/>
          <p:nvPr/>
        </p:nvSpPr>
        <p:spPr>
          <a:xfrm>
            <a:off x="7020000" y="6381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de.wikipedia.org/wiki/Dao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3152"/>
                </a:solidFill>
                <a:latin typeface="Calibri"/>
              </a:rPr>
              <a:t>Posvátné tex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1. TAO –TE-ŤING: Kanonická kniha o cestě tao a její síle 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bývá nazývána Lao-c‘ (podle Starého mist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všechny základní te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text filozofické pova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2. NAN- CHUA ČEN-ŤING, Pravá kniha z Nan-chu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autor: Čuang-c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odmítání jakékoli společenské angažova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nejvyšší hodnota: dosažení vnitřní harmonie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svobody: plné pochopení relativnosti vě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vysoká literární hodn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00000"/>
                </a:solidFill>
                <a:latin typeface="Calibri"/>
              </a:rPr>
              <a:t>3. TAO-CANG, Taoistická pokladnic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3152"/>
                </a:solidFill>
                <a:latin typeface="Calibri"/>
              </a:rPr>
              <a:t>sbírka dochované taoistické litera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ek 3" descr="227px-Daodejing200.png"/>
          <p:cNvPicPr/>
          <p:nvPr/>
        </p:nvPicPr>
        <p:blipFill>
          <a:blip r:embed="rId1"/>
          <a:stretch/>
        </p:blipFill>
        <p:spPr>
          <a:xfrm>
            <a:off x="7451640" y="1628640"/>
            <a:ext cx="1297080" cy="342612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65" name="TextovéPole 4"/>
          <p:cNvSpPr/>
          <p:nvPr/>
        </p:nvSpPr>
        <p:spPr>
          <a:xfrm>
            <a:off x="7165800" y="515772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de.wikipedia.org/wiki/Daodej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3152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ústřední pojem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TAO: NEBYTÍ, VELKÁ PRÁZDNOTA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, neuchopitel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vesmír (bytí) na počátku jednolitý: substance ČCHI (vynořila se díky tao)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tvořena dvojicí protikladných sil: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JING A JANG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každá v sobě zárodek svého protějš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protichůdné sí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ustavičné změny a pohyb čc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proces vznikání a zanikání všech věcí a jev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cyklický charak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vše se nakonec obrátí ve svůj protikla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relativnost všech věc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JANG: MUŽSKÝ PRINCIP, JIN: ŽENSKÝ PRINC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cíl taoisty: dosáhnout konečného vysvobození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V PRÁZDNOTĚ NEBY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zásada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NE-KONÁNÍ: SPONNTÁNÍ A NIČÍM NEMOTIVOVANÉ JEDNÁ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(tao koná bez vůle ne-konání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rázek 3" descr="Yin_and_Yang.svg.png"/>
          <p:cNvPicPr/>
          <p:nvPr/>
        </p:nvPicPr>
        <p:blipFill>
          <a:blip r:embed="rId1"/>
          <a:stretch/>
        </p:blipFill>
        <p:spPr>
          <a:xfrm>
            <a:off x="6156360" y="1700280"/>
            <a:ext cx="2663640" cy="266544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69" name="TextovéPole 4"/>
          <p:cNvSpPr/>
          <p:nvPr/>
        </p:nvSpPr>
        <p:spPr>
          <a:xfrm>
            <a:off x="6588000" y="44388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en.wikipedia.org/wiki/Tao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3152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náboženský taoismu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prostor mezi Velkou prázdnotou a světem lidí zabydlen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BO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hledání pomoci (oběti, rituá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nejctěnější božstva: tři čistoty: tři nejvyšší nebeské sféry (vládnou vesmír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Nebeský ctihodný vládce prvopočátku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 (nejvyšší sféra Nefritové čisto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Nebeský ctihodný vládce Zázračný klenot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 (sféra Svrchované čistoty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Nebeský ctihodný vládce Cesty a její síly, zbožštělý Lao-c‘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(sféra nejvyšší čisto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pod nimi další nebesa: vládne </a:t>
            </a: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Nefritový císař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oblíbená postava čínského lidového náboženstv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	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(vládce dalších božstev, duchů a neb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c00000"/>
                </a:solidFill>
                <a:latin typeface="Calibri"/>
              </a:rPr>
              <a:t>ROVNOST</a:t>
            </a: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 lid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antimilitaristick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3152"/>
                </a:solidFill>
                <a:latin typeface="Calibri"/>
              </a:rPr>
              <a:t>laskavý vztah k jiný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Obrázek 3" descr="Jade_Emperor.jpg"/>
          <p:cNvPicPr/>
          <p:nvPr/>
        </p:nvPicPr>
        <p:blipFill>
          <a:blip r:embed="rId1"/>
          <a:stretch/>
        </p:blipFill>
        <p:spPr>
          <a:xfrm>
            <a:off x="6948360" y="3500280"/>
            <a:ext cx="1735200" cy="2880000"/>
          </a:xfrm>
          <a:prstGeom prst="rect">
            <a:avLst/>
          </a:prstGeom>
          <a:ln w="25560">
            <a:solidFill>
              <a:srgbClr val="403152"/>
            </a:solidFill>
            <a:miter/>
          </a:ln>
        </p:spPr>
      </p:pic>
      <p:sp>
        <p:nvSpPr>
          <p:cNvPr id="73" name="TextovéPole 4"/>
          <p:cNvSpPr/>
          <p:nvPr/>
        </p:nvSpPr>
        <p:spPr>
          <a:xfrm>
            <a:off x="6516720" y="6453360"/>
            <a:ext cx="24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403152"/>
                </a:solidFill>
                <a:latin typeface="Calibri"/>
              </a:rPr>
              <a:t>http://de.wikipedia.org/wiki/Chinesische_Mytholog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3152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55736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3152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3152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3152"/>
                </a:solidFill>
                <a:latin typeface="Calibri"/>
              </a:rPr>
              <a:t>Knotková-Čapková, Blanka (ed.): Základy asijských náboženství. 2. díl. Taoismus, Konfucianismus, Neokonfucianismus v Koreji, Šintoismus, Islám ve východní a jihovýchodní Asii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7:28:43Z</dcterms:created>
  <dc:creator>Kacenka</dc:creator>
  <dc:description/>
  <dc:language>en-US</dc:language>
  <cp:lastModifiedBy>Kacenka</cp:lastModifiedBy>
  <dcterms:modified xsi:type="dcterms:W3CDTF">2013-03-20T18:10:32Z</dcterms:modified>
  <cp:revision>6</cp:revision>
  <dc:subject/>
  <dc:title>Taoismus</dc:title>
</cp:coreProperties>
</file>