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37E7-1543-4D67-AA68-B4BA95C5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50D4-5EA9-4E9D-AF64-4BAB9E9D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66CF-0EA8-4A20-8394-D6BEBA39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E0C3-5CD9-4CAA-8180-4EFABA48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1734-A321-43D5-8843-BF6E2858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0333-2B11-46BF-B13E-1E686911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0F88-F9D5-4348-96C7-AB68B311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A811-FD41-4842-A088-D59E064A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9BD2-D0AD-4709-8954-BAEB6CF5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4507-DAB7-4CFB-8C95-A8E74C8F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5718-D684-4F48-9BA8-8013E9E7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25C2-7FBB-4C60-9245-EFFCD938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1E93-E52A-412B-9F17-34840B234B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7664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c00000"/>
                </a:solidFill>
                <a:latin typeface="Calibri"/>
              </a:rPr>
              <a:t>Pársismus</a:t>
            </a:r>
            <a:br>
              <a:rPr sz="6600"/>
            </a:br>
            <a:r>
              <a:rPr b="1" lang="cs-CZ" sz="6600" spc="-1" strike="noStrike">
                <a:solidFill>
                  <a:srgbClr val="c00000"/>
                </a:solidFill>
                <a:latin typeface="Calibri"/>
              </a:rPr>
              <a:t>(Zoroastrismus)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ovéPole 4"/>
          <p:cNvSpPr/>
          <p:nvPr/>
        </p:nvSpPr>
        <p:spPr>
          <a:xfrm>
            <a:off x="7380360" y="26028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c00000"/>
                </a:solidFill>
                <a:latin typeface="Calibri"/>
              </a:rPr>
              <a:t>VY_32_INOVACE_22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ovéPole 5"/>
          <p:cNvSpPr/>
          <p:nvPr/>
        </p:nvSpPr>
        <p:spPr>
          <a:xfrm>
            <a:off x="7451640" y="630864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c00000"/>
                </a:solidFill>
                <a:latin typeface="Calibri"/>
              </a:rPr>
              <a:t>Mgr. Kateřina Budínov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alibri"/>
              </a:rPr>
              <a:t>Obecná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90756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původní víra </a:t>
            </a:r>
            <a:r>
              <a:rPr b="1" i="1" lang="cs-CZ" sz="2400" spc="-1" strike="noStrike">
                <a:solidFill>
                  <a:srgbClr val="4f6228"/>
                </a:solidFill>
                <a:latin typeface="Calibri"/>
              </a:rPr>
              <a:t>STAROPERSKÉHO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náboženského myslitele </a:t>
            </a:r>
            <a:r>
              <a:rPr b="1" i="1" lang="cs-CZ" sz="2400" spc="-1" strike="noStrike">
                <a:solidFill>
                  <a:srgbClr val="4f6228"/>
                </a:solidFill>
                <a:latin typeface="Calibri"/>
              </a:rPr>
              <a:t>ZARATHRUŠTRY</a:t>
            </a: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 (Zoroas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také označení zarathuštrismus nebo zoroastrsim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4f6228"/>
                </a:solidFill>
                <a:latin typeface="Calibri"/>
              </a:rPr>
              <a:t>PÁRSÍ = PERSKÝ, PERŠAN: UCTÍVAČI OHNĚ </a:t>
            </a: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íránského původ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po ovládnutí Íránu muslimy pronásledováni,opuštění vla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příchod do Indie asi v 10. stol. n.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usazeni na západním pobřeží Indie v </a:t>
            </a:r>
            <a:r>
              <a:rPr b="1" i="1" lang="cs-CZ" sz="2400" spc="-1" strike="noStrike">
                <a:solidFill>
                  <a:srgbClr val="4f6228"/>
                </a:solidFill>
                <a:latin typeface="Calibri"/>
              </a:rPr>
              <a:t>GUDŽARÁ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ve středověku muslimská invaz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neúspěšné boje na straně hinduist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1662: příchod Britů do Bombaj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náboženská svobod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odchod pársů do </a:t>
            </a:r>
            <a:r>
              <a:rPr b="1" i="1" lang="cs-CZ" sz="2400" spc="-1" strike="noStrike">
                <a:solidFill>
                  <a:srgbClr val="4f6228"/>
                </a:solidFill>
                <a:latin typeface="Calibri"/>
              </a:rPr>
              <a:t>BOMBA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alibri"/>
              </a:rPr>
              <a:t>Osobnost zakladatele = Zarathurš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836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7.-6. stol př.n.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odmítání orgianistických kultů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krvavých obě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zjevení: neviditelný Bůh-stvořite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4f6228"/>
                </a:solidFill>
                <a:latin typeface="Calibri"/>
              </a:rPr>
              <a:t>AHURA MAZDA </a:t>
            </a: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(Pán moudrost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stvořil svět myšlenkou, moudros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člověk jej má následovat v </a:t>
            </a:r>
            <a:r>
              <a:rPr b="1" i="1" lang="cs-CZ" sz="2400" spc="-1" strike="noStrike">
                <a:solidFill>
                  <a:srgbClr val="4f6228"/>
                </a:solidFill>
                <a:latin typeface="Calibri"/>
              </a:rPr>
              <a:t>DOBRÉM KONÁNÍ</a:t>
            </a: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jeho </a:t>
            </a:r>
            <a:r>
              <a:rPr b="1" i="1" lang="cs-CZ" sz="2400" spc="-1" strike="noStrike">
                <a:solidFill>
                  <a:srgbClr val="4f6228"/>
                </a:solidFill>
                <a:latin typeface="Calibri"/>
              </a:rPr>
              <a:t>MORÁLNÍ POVIN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má svobodnou volbu mezi dobrem a z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Zlo: ničivý duch Angra Mainju: syn Ahura Mazdy, odpadlík (zlo si sám zvoli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věčný boj Ahura Mazdy s ním: </a:t>
            </a:r>
            <a:r>
              <a:rPr b="1" i="1" lang="cs-CZ" sz="2400" spc="-1" strike="noStrike">
                <a:solidFill>
                  <a:srgbClr val="4f6228"/>
                </a:solidFill>
                <a:latin typeface="Calibri"/>
              </a:rPr>
              <a:t>BOJ DOBRA A Z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Obrázek 3" descr="image032.jpg"/>
          <p:cNvPicPr/>
          <p:nvPr/>
        </p:nvPicPr>
        <p:blipFill>
          <a:blip r:embed="rId1"/>
          <a:stretch/>
        </p:blipFill>
        <p:spPr>
          <a:xfrm>
            <a:off x="5945040" y="836640"/>
            <a:ext cx="2874960" cy="230508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sp>
        <p:nvSpPr>
          <p:cNvPr id="49" name="TextovéPole 4"/>
          <p:cNvSpPr/>
          <p:nvPr/>
        </p:nvSpPr>
        <p:spPr>
          <a:xfrm>
            <a:off x="6154560" y="3213000"/>
            <a:ext cx="252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c00000"/>
                </a:solidFill>
                <a:latin typeface="Calibri"/>
              </a:rPr>
              <a:t>http://www.malinovysvet.cz/dejiny/starblvych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alibri"/>
              </a:rPr>
              <a:t>Věrou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836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vývoj světa lineárním procesem: začátek a kone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naděje spásy a vykoupení pro všechn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(i pro hříšníky – pouze dočasný trest za zlé skutk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rituál modlitby: věřící kolem pasu uvázano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4f6228"/>
                </a:solidFill>
                <a:latin typeface="Calibri"/>
              </a:rPr>
              <a:t>VLNĚNOU ŠŇŮRU</a:t>
            </a: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: před modlitbou rozvážou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po modlitbě uváže (vyjadřuje rozhodnutí konat jen dobr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posvátný text:</a:t>
            </a:r>
            <a:r>
              <a:rPr b="1" lang="cs-CZ" sz="24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4f6228"/>
                </a:solidFill>
                <a:latin typeface="Calibri"/>
              </a:rPr>
              <a:t>AVE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původně nebyly chrámy: jen </a:t>
            </a:r>
            <a:r>
              <a:rPr b="1" i="1" lang="cs-CZ" sz="2400" spc="-1" strike="noStrike">
                <a:solidFill>
                  <a:srgbClr val="4f6228"/>
                </a:solidFill>
                <a:latin typeface="Calibri"/>
              </a:rPr>
              <a:t>VĚČNĚ HOŘÍCÍ OHEŇ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jako předmět uctí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nyní v Indii asi 160 ohňových chrám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Obrázek 3" descr="IMGP3561.jpg"/>
          <p:cNvPicPr/>
          <p:nvPr/>
        </p:nvPicPr>
        <p:blipFill>
          <a:blip r:embed="rId1"/>
          <a:stretch/>
        </p:blipFill>
        <p:spPr>
          <a:xfrm>
            <a:off x="5653080" y="4365720"/>
            <a:ext cx="3240000" cy="215424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sp>
        <p:nvSpPr>
          <p:cNvPr id="53" name="TextovéPole 4"/>
          <p:cNvSpPr/>
          <p:nvPr/>
        </p:nvSpPr>
        <p:spPr>
          <a:xfrm>
            <a:off x="6083280" y="6597720"/>
            <a:ext cx="23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c00000"/>
                </a:solidFill>
                <a:latin typeface="Calibri"/>
              </a:rPr>
              <a:t>http://www.nox.cz/travel/travel-iran05-yazd01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ázek 5" descr="Navjote_Yazdi.jpg"/>
          <p:cNvPicPr/>
          <p:nvPr/>
        </p:nvPicPr>
        <p:blipFill>
          <a:blip r:embed="rId2"/>
          <a:stretch/>
        </p:blipFill>
        <p:spPr>
          <a:xfrm>
            <a:off x="7093080" y="404640"/>
            <a:ext cx="1922400" cy="187200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sp>
        <p:nvSpPr>
          <p:cNvPr id="55" name="TextovéPole 6"/>
          <p:cNvSpPr/>
          <p:nvPr/>
        </p:nvSpPr>
        <p:spPr>
          <a:xfrm>
            <a:off x="7020000" y="2349360"/>
            <a:ext cx="20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c00000"/>
                </a:solidFill>
                <a:latin typeface="Calibri"/>
              </a:rPr>
              <a:t>http://de.wikipedia.org/wiki/Zoroastrism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alibri"/>
              </a:rPr>
              <a:t>Věrou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4000" y="691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pohřební rituál: po smrti nebožtík odnesen na </a:t>
            </a:r>
            <a:r>
              <a:rPr b="1" i="1" lang="cs-CZ" sz="2400" spc="-1" strike="noStrike">
                <a:solidFill>
                  <a:srgbClr val="4f6228"/>
                </a:solidFill>
                <a:latin typeface="Calibri"/>
              </a:rPr>
              <a:t>VĚŽ MLČENÍ </a:t>
            </a: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(10 metrů), přenechán supům, po čase kosti uloženy do společného hrob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nízká porodnost – zmenšuje se popu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neschvalují smíšená manželstv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konverzi nepřipouštěj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200 000 vyznavačů (nejvíce v Íránu a Indi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Obrázek 3" descr="dsc_2853.jpg"/>
          <p:cNvPicPr/>
          <p:nvPr/>
        </p:nvPicPr>
        <p:blipFill>
          <a:blip r:embed="rId1"/>
          <a:stretch/>
        </p:blipFill>
        <p:spPr>
          <a:xfrm>
            <a:off x="468360" y="3789360"/>
            <a:ext cx="4113000" cy="273528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pic>
        <p:nvPicPr>
          <p:cNvPr id="59" name="Obrázek 4" descr="dsc_2856.jpg"/>
          <p:cNvPicPr/>
          <p:nvPr/>
        </p:nvPicPr>
        <p:blipFill>
          <a:blip r:embed="rId2"/>
          <a:stretch/>
        </p:blipFill>
        <p:spPr>
          <a:xfrm>
            <a:off x="4859280" y="3789360"/>
            <a:ext cx="4114800" cy="273528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sp>
        <p:nvSpPr>
          <p:cNvPr id="60" name="TextovéPole 5"/>
          <p:cNvSpPr/>
          <p:nvPr/>
        </p:nvSpPr>
        <p:spPr>
          <a:xfrm>
            <a:off x="826920" y="6524640"/>
            <a:ext cx="331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c00000"/>
                </a:solidFill>
                <a:latin typeface="Calibri"/>
              </a:rPr>
              <a:t>http://indie07.wordpress.com/2007/08/13/ohnovy-chram-a-veze-mlceni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ovéPole 7"/>
          <p:cNvSpPr/>
          <p:nvPr/>
        </p:nvSpPr>
        <p:spPr>
          <a:xfrm>
            <a:off x="5219640" y="6526080"/>
            <a:ext cx="338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c00000"/>
                </a:solidFill>
                <a:latin typeface="Calibri"/>
              </a:rPr>
              <a:t>http://indie07.wordpress.com/2007/08/13/ohnovy-chram-a-veze-mlceni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alibri"/>
              </a:rPr>
              <a:t>Seznam použité litera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413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Demjančuková, Dagmar: Teorie a dějiny náboženství, Aleš Čeněk, Dobrá Voda 200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Keene, Michael: Světová náboženství, Lion, Londý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Knotková-Čapková, Blanka (ed.): Základy asijských náboženství. 1. díl. Judaismus, islám, hinduismus, džinismus, buddhismus, sikhismus, pársismus, Nakladatelství Karolinum, UK Praha 200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3T10:40:15Z</dcterms:created>
  <dc:creator>Kacenka</dc:creator>
  <dc:description/>
  <dc:language>en-US</dc:language>
  <cp:lastModifiedBy>Kateřina Budínová</cp:lastModifiedBy>
  <dcterms:modified xsi:type="dcterms:W3CDTF">2013-03-14T12:05:24Z</dcterms:modified>
  <cp:revision>9</cp:revision>
  <dc:subject/>
  <dc:title>Pársismus</dc:title>
</cp:coreProperties>
</file>