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ADAE-FCF3-48E5-A13D-431E1A4B5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4FEF-9E9B-485E-8E89-74DFAE19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55F8-FFCE-4A9D-A93A-C775B6C15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6A50-1D68-420C-9298-850610546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7BDD-1421-4B85-8B45-C66E76F3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6B5B-3410-40B2-BF39-9A2DCC57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7ECE-1681-4E62-AD77-B6EAB975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BE32-7641-4DAC-B98F-4539CCAE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1614-F7B3-4148-AED7-DC35FF9B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31AF-1A27-4BE2-889E-56DAF817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DD65-0FC6-49A9-AB44-968CD12B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A2F3-F80A-493B-8579-A0303CDA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BFAF-F2EA-407C-9C3C-EA05372F81C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0070c0"/>
                </a:solidFill>
                <a:latin typeface="Calibri"/>
              </a:rPr>
              <a:t>Sikhismu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ovéPole 2"/>
          <p:cNvSpPr/>
          <p:nvPr/>
        </p:nvSpPr>
        <p:spPr>
          <a:xfrm>
            <a:off x="7381800" y="333360"/>
            <a:ext cx="136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70c0"/>
                </a:solidFill>
                <a:latin typeface="Calibri"/>
              </a:rPr>
              <a:t>VY-32_INOVACE_22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7307280" y="630864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70c0"/>
                </a:solidFill>
                <a:latin typeface="Calibri"/>
              </a:rPr>
              <a:t>Mgr. Kateřina Budínov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alibri"/>
              </a:rPr>
              <a:t>Vztah k politické mo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zelená revoluce v 70. letech: příliv hinduistů díky ekonomickému rozvoj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radikální strana Akálí požadavek sikhského státu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CHÁLISTÁNU 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(Země čistýc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1982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: hlavní stan v Amritsaru: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VYHLÁŠENÍ VÁLKY ZA VÍ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1984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:</a:t>
            </a:r>
            <a:r>
              <a:rPr b="1" lang="cs-CZ" sz="24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operace</a:t>
            </a:r>
            <a:r>
              <a:rPr b="1" lang="cs-CZ" sz="24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MODRÁ HVĚZDA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: vtrhnutí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INDICKÉ ARMÁDY 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do</a:t>
            </a:r>
            <a:r>
              <a:rPr b="1" lang="cs-CZ" sz="24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ZLATÉHO CHRÁMU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: za odplatu zavražděn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b0f0"/>
                </a:solidFill>
                <a:latin typeface="Calibri"/>
              </a:rPr>
              <a:t>	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INDIRA GÁNDHÍ 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(předsedkyně vlád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vlna násilí po celé Indii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b0f0"/>
                </a:solidFill>
                <a:latin typeface="Calibri"/>
              </a:rPr>
              <a:t>	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PROTISIKHOVSKÉ POGRO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(smrt 3000 sikhů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extremisté se časem zdiskreditoval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od</a:t>
            </a:r>
            <a:r>
              <a:rPr b="1" lang="cs-CZ" sz="24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1992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:</a:t>
            </a:r>
            <a:r>
              <a:rPr b="1" lang="cs-CZ" sz="24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KŘEHKÝ MÍ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Obrázek 3" descr="Indira2.jpg"/>
          <p:cNvPicPr/>
          <p:nvPr/>
        </p:nvPicPr>
        <p:blipFill>
          <a:blip r:embed="rId1"/>
          <a:stretch/>
        </p:blipFill>
        <p:spPr>
          <a:xfrm>
            <a:off x="6948360" y="3860640"/>
            <a:ext cx="1727280" cy="2584440"/>
          </a:xfrm>
          <a:prstGeom prst="rect">
            <a:avLst/>
          </a:prstGeom>
          <a:ln w="25560">
            <a:solidFill>
              <a:srgbClr val="0070c0"/>
            </a:solidFill>
            <a:miter/>
          </a:ln>
        </p:spPr>
      </p:pic>
      <p:sp>
        <p:nvSpPr>
          <p:cNvPr id="74" name="TextovéPole 4"/>
          <p:cNvSpPr/>
          <p:nvPr/>
        </p:nvSpPr>
        <p:spPr>
          <a:xfrm>
            <a:off x="6804000" y="6524640"/>
            <a:ext cx="20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70c0"/>
                </a:solidFill>
                <a:latin typeface="Calibri"/>
              </a:rPr>
              <a:t>http://en.wikipedia.org/wiki/Indira_Gandh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alibri"/>
              </a:rPr>
              <a:t>Seznam použité literatu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1413000"/>
            <a:ext cx="822960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70c0"/>
                </a:solidFill>
                <a:latin typeface="Calibri"/>
              </a:rPr>
              <a:t>Demjančuková, Dagmar: Teorie a dějiny náboženství, Aleš Čeněk, Dobrá Voda 2003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70c0"/>
                </a:solidFill>
                <a:latin typeface="Calibri"/>
              </a:rPr>
              <a:t>Keene, Michael: Světová náboženství, Lion, Londýn 200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70c0"/>
                </a:solidFill>
                <a:latin typeface="Calibri"/>
              </a:rPr>
              <a:t>Knotková-Čapková, Blanka (ed.): Základy asijských náboženství. 1. díl. Judaismus, islám, hinduismus, džinismus, buddhismus, sikhismus, pársismus, Nakladatelství Karolinum, UK Praha 2005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alibri"/>
              </a:rPr>
              <a:t>Obecná charakterist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268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SESKUPENÍ</a:t>
            </a:r>
            <a:r>
              <a:rPr b="1" lang="cs-CZ" sz="24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věroučnýc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b0f0"/>
                </a:solidFill>
                <a:latin typeface="Calibri"/>
              </a:rPr>
              <a:t>	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PRVKŮ</a:t>
            </a:r>
            <a:r>
              <a:rPr b="1" lang="cs-CZ" sz="24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HINDUISMU A ISLÁ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víra v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JEDNOHO BEZČASOVÉHO BOH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sami nazývají své náboženství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GURUMAT </a:t>
            </a:r>
            <a:r>
              <a:rPr b="1" lang="cs-CZ" sz="2400" spc="-1" strike="noStrike">
                <a:solidFill>
                  <a:srgbClr val="c00000"/>
                </a:solidFill>
                <a:latin typeface="Calibri"/>
              </a:rPr>
              <a:t>=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GURUOVO UČENÍ 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(učení učite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zrodil se v </a:t>
            </a:r>
            <a:r>
              <a:rPr b="1" lang="cs-CZ" sz="2400" spc="-1" strike="noStrike">
                <a:solidFill>
                  <a:srgbClr val="c00000"/>
                </a:solidFill>
                <a:latin typeface="Calibri"/>
              </a:rPr>
              <a:t>Paňdžábu</a:t>
            </a:r>
            <a:r>
              <a:rPr b="1" lang="cs-CZ" sz="2400" spc="-1" strike="noStrike">
                <a:solidFill>
                  <a:srgbClr val="00b0f0"/>
                </a:solidFill>
                <a:latin typeface="Calibri"/>
              </a:rPr>
              <a:t>: 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nejstarší,velmi tvrdá konfrontace hinduistů a muslim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nejprve hinduistická sek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soustředění především na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SEVEROZÁPADĚ IND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2001: 1,9 % indického obyvatel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alibri"/>
              </a:rPr>
              <a:t>Osobnost zakladatele = Nán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v Paňdžábu dětství a mládí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zámožná hinduistická rodina (narozen 146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rozhovory s hinduistickými a muslimskými svatými muž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ve 30 letech: při koupání v řece  se vznesl k nebeskému dvoru Boha: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BŮH HO POVOLAL, ABY SE STAL GURU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dalších 20 let cesty po Indii: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KÁZ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okruh žáků a následovníků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SIKH = ŽÁK, UČEDNÍ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oslovovali ho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GUR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součást jeho jména: Guru Nána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(i jeho nástupc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Obrázek 3" descr="600px-Guru.Nanak.with.Hindu.holymen-b.JPG"/>
          <p:cNvPicPr/>
          <p:nvPr/>
        </p:nvPicPr>
        <p:blipFill>
          <a:blip r:embed="rId1"/>
          <a:stretch/>
        </p:blipFill>
        <p:spPr>
          <a:xfrm>
            <a:off x="5651640" y="3284640"/>
            <a:ext cx="3097080" cy="3097080"/>
          </a:xfrm>
          <a:prstGeom prst="rect">
            <a:avLst/>
          </a:prstGeom>
          <a:ln w="25560">
            <a:solidFill>
              <a:srgbClr val="0070c0"/>
            </a:solidFill>
            <a:miter/>
          </a:ln>
        </p:spPr>
      </p:pic>
      <p:sp>
        <p:nvSpPr>
          <p:cNvPr id="49" name="TextovéPole 4"/>
          <p:cNvSpPr/>
          <p:nvPr/>
        </p:nvSpPr>
        <p:spPr>
          <a:xfrm>
            <a:off x="6300720" y="6453360"/>
            <a:ext cx="194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b0f0"/>
                </a:solidFill>
                <a:latin typeface="Calibri"/>
              </a:rPr>
              <a:t>http://cs.wikipedia.org/wiki/Nána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Calibri"/>
              </a:rPr>
              <a:t>Guruov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následovalo po ně dalších deset guruů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GURU ANGAD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: vytvořil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GURMUKHÍ</a:t>
            </a:r>
            <a:r>
              <a:rPr b="1" lang="cs-CZ" sz="2400" spc="-1" strike="noStrike">
                <a:solidFill>
                  <a:srgbClr val="00b0f0"/>
                </a:solidFill>
                <a:latin typeface="Calibri"/>
              </a:rPr>
              <a:t>: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SIKHISKÉ PÍS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GURU AMARDÁS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:</a:t>
            </a:r>
            <a:r>
              <a:rPr b="1" lang="cs-CZ" sz="24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první veřejná vývařovna=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LANGAR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:</a:t>
            </a:r>
            <a:r>
              <a:rPr b="1" lang="cs-CZ" sz="2400" spc="-1" strike="noStrike">
                <a:solidFill>
                  <a:srgbClr val="00b0f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b0f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v očích Boha jsou si všichni rov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GURU RAMDÁS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:</a:t>
            </a:r>
            <a:r>
              <a:rPr b="1" lang="cs-CZ" sz="24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založení svatého města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AMRITSAR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b0f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v severní Ind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GURU ARDŽUN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:</a:t>
            </a:r>
            <a:r>
              <a:rPr b="1" lang="cs-CZ" sz="24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uprostřed umělého jezera v Amritsaru chrám</a:t>
            </a:r>
            <a:r>
              <a:rPr b="1" lang="cs-CZ" sz="24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HARIMANDIR=ZLATÝ CHRÁ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b0f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vytvořil Ádigranth (posvátný tex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GURU GÓVIND SINGH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:</a:t>
            </a:r>
            <a:r>
              <a:rPr b="1" lang="cs-CZ" sz="24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poslední, desátý gu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útlak sikhů – založil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SIKHSKÉ BRATRSTVO = CHÁLS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alibri"/>
              </a:rPr>
              <a:t>Guruov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Zástupný symbol pro obsah 3" descr="Gurmukhi_Text.gif"/>
          <p:cNvPicPr/>
          <p:nvPr/>
        </p:nvPicPr>
        <p:blipFill>
          <a:blip r:embed="rId1"/>
          <a:stretch/>
        </p:blipFill>
        <p:spPr>
          <a:xfrm>
            <a:off x="179280" y="836640"/>
            <a:ext cx="4676760" cy="1584360"/>
          </a:xfrm>
          <a:prstGeom prst="rect">
            <a:avLst/>
          </a:prstGeom>
          <a:ln w="25560">
            <a:solidFill>
              <a:srgbClr val="0070c0"/>
            </a:solidFill>
            <a:miter/>
          </a:ln>
        </p:spPr>
      </p:pic>
      <p:sp>
        <p:nvSpPr>
          <p:cNvPr id="54" name="TextovéPole 4"/>
          <p:cNvSpPr/>
          <p:nvPr/>
        </p:nvSpPr>
        <p:spPr>
          <a:xfrm>
            <a:off x="971640" y="249228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70c0"/>
                </a:solidFill>
                <a:latin typeface="Calibri"/>
              </a:rPr>
              <a:t>http://de.wikipedia.org/wiki/Gurmukhi-Schri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5" descr="Communal_lunch_in_Keshgarh_Sahib.jpg"/>
          <p:cNvPicPr/>
          <p:nvPr/>
        </p:nvPicPr>
        <p:blipFill>
          <a:blip r:embed="rId2"/>
          <a:stretch/>
        </p:blipFill>
        <p:spPr>
          <a:xfrm>
            <a:off x="5219640" y="836640"/>
            <a:ext cx="3276720" cy="2182680"/>
          </a:xfrm>
          <a:prstGeom prst="rect">
            <a:avLst/>
          </a:prstGeom>
          <a:ln w="25560">
            <a:solidFill>
              <a:srgbClr val="0070c0"/>
            </a:solidFill>
            <a:miter/>
          </a:ln>
        </p:spPr>
      </p:pic>
      <p:sp>
        <p:nvSpPr>
          <p:cNvPr id="56" name="TextovéPole 6"/>
          <p:cNvSpPr/>
          <p:nvPr/>
        </p:nvSpPr>
        <p:spPr>
          <a:xfrm>
            <a:off x="5724360" y="3068640"/>
            <a:ext cx="223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70c0"/>
                </a:solidFill>
                <a:latin typeface="Calibri"/>
              </a:rPr>
              <a:t>http://en.wikipedia.org/wiki/Langar_(Sikhis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7" descr="800px-Sikh_pilgrim_at_the_Golden_Temple_(Harmandir_Sahib)_in_Amritsar,_India.jpg"/>
          <p:cNvPicPr/>
          <p:nvPr/>
        </p:nvPicPr>
        <p:blipFill>
          <a:blip r:embed="rId3"/>
          <a:stretch/>
        </p:blipFill>
        <p:spPr>
          <a:xfrm>
            <a:off x="2556000" y="3357720"/>
            <a:ext cx="4655880" cy="3095640"/>
          </a:xfrm>
          <a:prstGeom prst="rect">
            <a:avLst/>
          </a:prstGeom>
          <a:ln w="25560">
            <a:solidFill>
              <a:srgbClr val="0070c0"/>
            </a:solidFill>
            <a:miter/>
          </a:ln>
        </p:spPr>
      </p:pic>
      <p:sp>
        <p:nvSpPr>
          <p:cNvPr id="58" name="TextovéPole 8"/>
          <p:cNvSpPr/>
          <p:nvPr/>
        </p:nvSpPr>
        <p:spPr>
          <a:xfrm>
            <a:off x="3924360" y="6524640"/>
            <a:ext cx="18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b0f0"/>
                </a:solidFill>
                <a:latin typeface="Calibri"/>
              </a:rPr>
              <a:t>http://cs.wikipedia.org/wiki/Amrits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alibri"/>
              </a:rPr>
              <a:t>Posvátný tex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339560"/>
            <a:ext cx="82296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posvátná kniha =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ÁDIGRANTH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 (Původní kniha) nebo Guru Granth Sáhib (Kniha učitelů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náboženské texty a básně, recitovány od Nánakových do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umístěna ve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ZLATÉM CHRÁMU V AMRITSA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přes 6000 hymnů od Nána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sikhské chrámy =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GURUDVÁRY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: hlasitě se denně recituje od východu do západu slu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věřící se jí klaní, přinášení obět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alibri"/>
              </a:rPr>
              <a:t>Věrou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69336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c00000"/>
                </a:solidFill>
                <a:latin typeface="Calibri"/>
              </a:rPr>
              <a:t>BŮH</a:t>
            </a:r>
            <a:r>
              <a:rPr b="1" lang="cs-CZ" sz="2200" spc="-1" strike="noStrike">
                <a:solidFill>
                  <a:srgbClr val="0070c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70c0"/>
                </a:solidFill>
                <a:latin typeface="Calibri"/>
              </a:rPr>
              <a:t>vytvoření </a:t>
            </a:r>
            <a:r>
              <a:rPr b="1" i="1" lang="cs-CZ" sz="2200" spc="-1" strike="noStrike">
                <a:solidFill>
                  <a:srgbClr val="c00000"/>
                </a:solidFill>
                <a:latin typeface="Calibri"/>
              </a:rPr>
              <a:t>NOVÉHO MONOTEISTICKÉHO </a:t>
            </a:r>
            <a:r>
              <a:rPr b="1" lang="cs-CZ" sz="2200" spc="-1" strike="noStrike">
                <a:solidFill>
                  <a:srgbClr val="0070c0"/>
                </a:solidFill>
                <a:latin typeface="Calibri"/>
              </a:rPr>
              <a:t>náboženstv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b0f0"/>
                </a:solidFill>
                <a:latin typeface="Calibri"/>
              </a:rPr>
              <a:t>	</a:t>
            </a:r>
            <a:r>
              <a:rPr b="1" lang="cs-CZ" sz="22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lang="cs-CZ" sz="2200" spc="-1" strike="noStrike">
                <a:solidFill>
                  <a:srgbClr val="0070c0"/>
                </a:solidFill>
                <a:latin typeface="Calibri"/>
              </a:rPr>
              <a:t>všudypřítomný Pravý stvořit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70c0"/>
                </a:solidFill>
                <a:latin typeface="Calibri"/>
              </a:rPr>
              <a:t>možno uctívat jen </a:t>
            </a:r>
            <a:r>
              <a:rPr b="1" i="1" lang="cs-CZ" sz="2200" spc="-1" strike="noStrike">
                <a:solidFill>
                  <a:srgbClr val="c00000"/>
                </a:solidFill>
                <a:latin typeface="Calibri"/>
              </a:rPr>
              <a:t>VNITŘNÍ MEDITAC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70c0"/>
                </a:solidFill>
                <a:latin typeface="Calibri"/>
              </a:rPr>
              <a:t>stvoření dočasného vesmíru a všech tvor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70c0"/>
                </a:solidFill>
                <a:latin typeface="Calibri"/>
              </a:rPr>
              <a:t>každý musí objevit boha sá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c00000"/>
                </a:solidFill>
                <a:latin typeface="Calibri"/>
              </a:rPr>
              <a:t>VŠICHNI</a:t>
            </a:r>
            <a:r>
              <a:rPr b="1" lang="cs-CZ" sz="22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lang="cs-CZ" sz="2200" spc="-1" strike="noStrike">
                <a:solidFill>
                  <a:srgbClr val="0070c0"/>
                </a:solidFill>
                <a:latin typeface="Calibri"/>
              </a:rPr>
              <a:t>jsou si </a:t>
            </a:r>
            <a:r>
              <a:rPr b="1" i="1" lang="cs-CZ" sz="2200" spc="-1" strike="noStrike">
                <a:solidFill>
                  <a:srgbClr val="c00000"/>
                </a:solidFill>
                <a:latin typeface="Calibri"/>
              </a:rPr>
              <a:t>ROVN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70c0"/>
                </a:solidFill>
                <a:latin typeface="Calibri"/>
              </a:rPr>
              <a:t>pro cestu k vysvobození důležitý guru=duchovní učitel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cs-CZ" sz="2200" spc="-1" strike="noStrike">
                <a:solidFill>
                  <a:srgbClr val="0070c0"/>
                </a:solidFill>
                <a:latin typeface="Calibri"/>
              </a:rPr>
              <a:t>poslové, kteří hlásají pravou cest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c00000"/>
                </a:solidFill>
                <a:latin typeface="Calibri"/>
              </a:rPr>
              <a:t>ODSUDEK</a:t>
            </a:r>
            <a:r>
              <a:rPr b="1" lang="cs-CZ" sz="22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lang="cs-CZ" sz="2200" spc="-1" strike="noStrike">
                <a:solidFill>
                  <a:srgbClr val="0070c0"/>
                </a:solidFill>
                <a:latin typeface="Calibri"/>
              </a:rPr>
              <a:t>hinduistických</a:t>
            </a:r>
            <a:r>
              <a:rPr b="1" lang="cs-CZ" sz="22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i="1" lang="cs-CZ" sz="2200" spc="-1" strike="noStrike">
                <a:solidFill>
                  <a:srgbClr val="c00000"/>
                </a:solidFill>
                <a:latin typeface="Calibri"/>
              </a:rPr>
              <a:t>KAST</a:t>
            </a:r>
            <a:r>
              <a:rPr b="1" lang="cs-CZ" sz="2200" spc="-1" strike="noStrike">
                <a:solidFill>
                  <a:srgbClr val="0070c0"/>
                </a:solidFill>
                <a:latin typeface="Calibri"/>
              </a:rPr>
              <a:t>: přitažlivý pro nejnižší hinduisty a nedotýkateln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70c0"/>
                </a:solidFill>
                <a:latin typeface="Calibri"/>
              </a:rPr>
              <a:t>vnější symbol zásad rovnosti: </a:t>
            </a:r>
            <a:r>
              <a:rPr b="1" i="1" lang="cs-CZ" sz="2200" spc="-1" strike="noStrike">
                <a:solidFill>
                  <a:srgbClr val="c00000"/>
                </a:solidFill>
                <a:latin typeface="Calibri"/>
              </a:rPr>
              <a:t>SPOLEČNÉ VEGETARIÁNSKÉ JÍDELN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lang="cs-CZ" sz="2200" spc="-1" strike="noStrike">
                <a:solidFill>
                  <a:srgbClr val="0070c0"/>
                </a:solidFill>
                <a:latin typeface="Calibri"/>
              </a:rPr>
              <a:t>vliv kastovního systému </a:t>
            </a:r>
            <a:r>
              <a:rPr b="1" i="1" lang="cs-CZ" sz="2200" spc="-1" strike="noStrike">
                <a:solidFill>
                  <a:srgbClr val="c00000"/>
                </a:solidFill>
                <a:latin typeface="Calibri"/>
              </a:rPr>
              <a:t>SILNÝ</a:t>
            </a:r>
            <a:r>
              <a:rPr b="1" lang="cs-CZ" sz="2200" spc="-1" strike="noStrike">
                <a:solidFill>
                  <a:srgbClr val="0070c0"/>
                </a:solidFill>
                <a:latin typeface="Calibri"/>
              </a:rPr>
              <a:t>: sňatk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70c0"/>
                </a:solidFill>
                <a:latin typeface="Calibri"/>
              </a:rPr>
              <a:t>mnohé hinduistické rysy až na víru v jediného boh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-27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alibri"/>
              </a:rPr>
              <a:t>Věrou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79280" y="622440"/>
            <a:ext cx="8856720" cy="43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příslušníci sikhské chálsy: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5 SYMBOLŮ 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(„5 K“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1. KÉŠ 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= nikdy nestříhané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VLASY</a:t>
            </a:r>
            <a:r>
              <a:rPr b="1" lang="cs-CZ" sz="24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a u mužů také neholené vous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b0f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symbol</a:t>
            </a:r>
            <a:r>
              <a:rPr b="1" lang="cs-CZ" sz="24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PŘIROZE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2. KANGHÁ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=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HŘEBEN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: symbol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ČISTOT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3. KARÁ 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= ocelový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NÁRAMEK</a:t>
            </a:r>
            <a:r>
              <a:rPr b="1" lang="cs-CZ" sz="24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na zápěstí: symbol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JEDNOTY BOH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b0f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(kruh nemá začátek ani kone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4. KAČČCHÁ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=krátké</a:t>
            </a:r>
            <a:r>
              <a:rPr b="1" lang="cs-CZ" sz="24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KALHOTY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: symbol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CUD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5. KIRPÁN</a:t>
            </a:r>
            <a:r>
              <a:rPr b="1" lang="cs-CZ" sz="24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=</a:t>
            </a:r>
            <a:r>
              <a:rPr b="1" lang="cs-CZ" sz="24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MEČ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: symbol povinnosti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CHRÁNIT BEZBRANNÉ 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(v moderní době dýk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Obrázek 3" descr="Sikh.man.at.the.Golden.Temple.jpg"/>
          <p:cNvPicPr/>
          <p:nvPr/>
        </p:nvPicPr>
        <p:blipFill>
          <a:blip r:embed="rId1"/>
          <a:stretch/>
        </p:blipFill>
        <p:spPr>
          <a:xfrm>
            <a:off x="3780000" y="4221000"/>
            <a:ext cx="3346200" cy="2232360"/>
          </a:xfrm>
          <a:prstGeom prst="rect">
            <a:avLst/>
          </a:prstGeom>
          <a:ln w="25560">
            <a:solidFill>
              <a:srgbClr val="0070c0"/>
            </a:solidFill>
            <a:miter/>
          </a:ln>
        </p:spPr>
      </p:pic>
      <p:sp>
        <p:nvSpPr>
          <p:cNvPr id="66" name="TextovéPole 4"/>
          <p:cNvSpPr/>
          <p:nvPr/>
        </p:nvSpPr>
        <p:spPr>
          <a:xfrm>
            <a:off x="4572000" y="652608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70c0"/>
                </a:solidFill>
                <a:latin typeface="Calibri"/>
              </a:rPr>
              <a:t>http://en.wikipedia.org/wiki/Sikhi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alibri"/>
              </a:rPr>
              <a:t>Vztah k politické mo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pronásledování sikhů ze strany muslimské mugalské říš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cíl: vytvoření svého vlastního státu: 1799-1839 uskutečně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po 1849 ovládnutí Velkou Británií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určité výsadní postavení sikh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1947: Indie rozdělena na Indii a Pákistá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v Paňdžábu nesmírně bouřlivě („krvavá čára“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1956: indický Paňdžáb: 70 % hinduisté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30 % sikhové, pákistánští sikhové usazeni v Dil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1966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:</a:t>
            </a:r>
            <a:r>
              <a:rPr b="1" lang="cs-CZ" sz="24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PAŇDŽÁB</a:t>
            </a:r>
            <a:r>
              <a:rPr b="1" lang="cs-CZ" sz="24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rozdělen na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JAZYKOVÉM PRINCIPU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b0f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Paňdžáb (sikhové) a Harijána (hinduisté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Obrázek 3" descr="Punjab_map_(topographic)_with_cities.png"/>
          <p:cNvPicPr/>
          <p:nvPr/>
        </p:nvPicPr>
        <p:blipFill>
          <a:blip r:embed="rId1"/>
          <a:stretch/>
        </p:blipFill>
        <p:spPr>
          <a:xfrm>
            <a:off x="6804000" y="1844640"/>
            <a:ext cx="2073240" cy="2077920"/>
          </a:xfrm>
          <a:prstGeom prst="rect">
            <a:avLst/>
          </a:prstGeom>
          <a:ln w="25560">
            <a:solidFill>
              <a:srgbClr val="0070c0"/>
            </a:solidFill>
            <a:miter/>
          </a:ln>
        </p:spPr>
      </p:pic>
      <p:sp>
        <p:nvSpPr>
          <p:cNvPr id="70" name="TextovéPole 4"/>
          <p:cNvSpPr/>
          <p:nvPr/>
        </p:nvSpPr>
        <p:spPr>
          <a:xfrm>
            <a:off x="6875640" y="4005360"/>
            <a:ext cx="21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70c0"/>
                </a:solidFill>
                <a:latin typeface="Calibri"/>
              </a:rPr>
              <a:t>http://en.wikipedia.org/wiki/Punjab_reg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3T08:11:34Z</dcterms:created>
  <dc:creator>Kacenka</dc:creator>
  <dc:description/>
  <dc:language>en-US</dc:language>
  <cp:lastModifiedBy>Kacenka</cp:lastModifiedBy>
  <dcterms:modified xsi:type="dcterms:W3CDTF">2013-03-13T21:20:16Z</dcterms:modified>
  <cp:revision>16</cp:revision>
  <dc:subject/>
  <dc:title>Sikhismus</dc:title>
</cp:coreProperties>
</file>