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C9E-8884-4490-9A72-3A51C438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DCC-7844-4B0B-B981-4F605F3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512-1EB9-4BC5-B1F5-6502EF37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7F9-89DB-474C-B732-60B97D21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5AC-D383-4E02-86DD-6E99BE4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D84-56BE-4F72-9F28-D4CA3F4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EF3-5C5C-4A7E-8994-335DA9B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83A-4C14-4228-B9C8-0F88D388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D03-8077-4C1A-B70F-24E7247E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48C-71A0-406D-AA00-ADBC7FC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2E3-A112-4137-8386-43E1779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76C-CCE5-448C-A9DB-405512A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31E-EE4E-4DEC-896F-D6DD694470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2060"/>
                </a:solidFill>
                <a:latin typeface="Calibri"/>
              </a:rPr>
              <a:t>Buddhismu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4"/>
          <p:cNvSpPr/>
          <p:nvPr/>
        </p:nvSpPr>
        <p:spPr>
          <a:xfrm>
            <a:off x="7524720" y="476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2060"/>
                </a:solidFill>
                <a:latin typeface="Calibri"/>
              </a:rPr>
              <a:t>VY_32_INOVACE_2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5"/>
          <p:cNvSpPr/>
          <p:nvPr/>
        </p:nvSpPr>
        <p:spPr>
          <a:xfrm>
            <a:off x="7451640" y="573264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2060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682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MÍJIV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lidském byt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IC TRVAL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še se neustále mění, rozpadá a sestav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TRAST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řetězec vznikání a zaniká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dnětem k němu je trš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EUSTÁLÉ VZNIKÁNÍ JE STR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ČTYŘI VZNEŠENÉ PRAV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1.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VŠE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je v lidském životě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TRASTNÉ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MÍJIVOST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příjemného v živo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2.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íčina vzniku strasti: 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TRŠNA = ULP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zánik strasti: zánik ulpívání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OPROŠTĚNÍ SE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d žízně po živo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4.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OSMIDÍLNÁ STEZKA: ZÁNIK STRA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edpoklad probuzení: poznání čtyř pravd, uvedení do životní prax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střední cesta mezi dvěma krajnostmi: světský život – život v odřík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cesta k probuzení: důležité jsou bdělost a soucít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dělost: neustálé soustředění na cíl ce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Náboženská ob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uddhistická náboženská obec =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ANG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ijímání do sanghy neobřadné, žádné slibování posluš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počátku žebrání: nelpění na materiálních věc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zději symbolická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3. st. př.n.l. – rozkol v náboženské obc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spor o řádovou disciplínu a posléze i výkladu 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ázek 3" descr="800px-Three_Ancestors_Temple_-_nigu.JPG"/>
          <p:cNvPicPr/>
          <p:nvPr/>
        </p:nvPicPr>
        <p:blipFill>
          <a:blip r:embed="rId1"/>
          <a:stretch/>
        </p:blipFill>
        <p:spPr>
          <a:xfrm>
            <a:off x="1092240" y="3573360"/>
            <a:ext cx="3551040" cy="2664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73" name="TextovéPole 4"/>
          <p:cNvSpPr/>
          <p:nvPr/>
        </p:nvSpPr>
        <p:spPr>
          <a:xfrm>
            <a:off x="2050920" y="6308640"/>
            <a:ext cx="18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Sang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ázek 5" descr="400px-Luang_Prabang_Takuhatsu_ルアンパバーン_托鉢僧_DSCF6990.JPG"/>
          <p:cNvPicPr/>
          <p:nvPr/>
        </p:nvPicPr>
        <p:blipFill>
          <a:blip r:embed="rId2"/>
          <a:stretch/>
        </p:blipFill>
        <p:spPr>
          <a:xfrm>
            <a:off x="5867280" y="3429000"/>
            <a:ext cx="1920960" cy="287964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75" name="TextovéPole 6"/>
          <p:cNvSpPr/>
          <p:nvPr/>
        </p:nvSpPr>
        <p:spPr>
          <a:xfrm>
            <a:off x="5940360" y="6381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Sang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Náboženská ob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HÍNAJÁNA („malý vůz“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minantní směr buddhismu na </a:t>
            </a:r>
            <a:r>
              <a:rPr b="1" lang="cs-CZ" sz="2000" spc="-1" strike="noStrike">
                <a:solidFill>
                  <a:srgbClr val="00b050"/>
                </a:solidFill>
                <a:latin typeface="Calibri"/>
              </a:rPr>
              <a:t>Srí Lance, Barma,Thajsko, Kambodža a La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ORTODOXNÍ ŠKOLA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: drží se striktně původní Buddhovy nau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oustředí se na vlastní vysvobození ze sans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ideálem je </a:t>
            </a: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ARHANT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= dokonalý mnich-svět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MAHÁJÁNA („velký vůz“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zpřístupnění nirvány všem bytostem (ne jen individuální vysvobozen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bytost dokonalá jako arhant: dobrovolně setrvává v sansář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moc k probuzení vš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Buddha byl zbožštěn, </a:t>
            </a: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NAUKA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se stala </a:t>
            </a:r>
            <a:r>
              <a:rPr b="1" i="1" lang="cs-CZ" sz="2000" spc="-1" strike="noStrike">
                <a:solidFill>
                  <a:srgbClr val="00b050"/>
                </a:solidFill>
                <a:latin typeface="Calibri"/>
              </a:rPr>
              <a:t>NÁBOŽENSTV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rozšířen ve </a:t>
            </a:r>
            <a:r>
              <a:rPr b="1" lang="cs-CZ" sz="2000" spc="-1" strike="noStrike">
                <a:solidFill>
                  <a:srgbClr val="00b050"/>
                </a:solidFill>
                <a:latin typeface="Calibri"/>
              </a:rPr>
              <a:t>východní As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ýraznější role lai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2060"/>
                </a:solidFill>
                <a:latin typeface="Calibri"/>
              </a:rPr>
              <a:t>Náboženská obe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dmítnutí varn a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ístupný všem lidem bez rozdí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 principu všichni rov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i v praxi ideál nenásilí, lásky a soucítění (nikomu ho nevnucují, nepřesvědčuj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enám je přiznána možnost dospět k probu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ísná kontrola žen ze strany muž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Poutní místa</a:t>
            </a:r>
            <a:br>
              <a:rPr sz="3200"/>
            </a:b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Místo Buddhova narození, Lumbi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3" descr="800px-Lumbinibodhi.jpg"/>
          <p:cNvPicPr/>
          <p:nvPr/>
        </p:nvPicPr>
        <p:blipFill>
          <a:blip r:embed="rId1"/>
          <a:stretch/>
        </p:blipFill>
        <p:spPr>
          <a:xfrm>
            <a:off x="1258920" y="1413000"/>
            <a:ext cx="2881440" cy="21603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82" name="TextovéPole 4"/>
          <p:cNvSpPr/>
          <p:nvPr/>
        </p:nvSpPr>
        <p:spPr>
          <a:xfrm>
            <a:off x="1763640" y="36450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Lumb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5" descr="677px-Asokalumbini.jpg"/>
          <p:cNvPicPr/>
          <p:nvPr/>
        </p:nvPicPr>
        <p:blipFill>
          <a:blip r:embed="rId2"/>
          <a:stretch/>
        </p:blipFill>
        <p:spPr>
          <a:xfrm>
            <a:off x="4932360" y="1413000"/>
            <a:ext cx="2519280" cy="223344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84" name="TextovéPole 6"/>
          <p:cNvSpPr/>
          <p:nvPr/>
        </p:nvSpPr>
        <p:spPr>
          <a:xfrm>
            <a:off x="5292720" y="37162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Lumb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ázek 7" descr="Maya_Devi_temple-Nepal.JPG"/>
          <p:cNvPicPr/>
          <p:nvPr/>
        </p:nvPicPr>
        <p:blipFill>
          <a:blip r:embed="rId3"/>
          <a:stretch/>
        </p:blipFill>
        <p:spPr>
          <a:xfrm>
            <a:off x="1258920" y="4076640"/>
            <a:ext cx="2897280" cy="21718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86" name="TextovéPole 8"/>
          <p:cNvSpPr/>
          <p:nvPr/>
        </p:nvSpPr>
        <p:spPr>
          <a:xfrm>
            <a:off x="1763640" y="638172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Lumbin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ázek 9" descr="800px-Lumbini,_eternal_flame.jpg"/>
          <p:cNvPicPr/>
          <p:nvPr/>
        </p:nvPicPr>
        <p:blipFill>
          <a:blip r:embed="rId4"/>
          <a:stretch/>
        </p:blipFill>
        <p:spPr>
          <a:xfrm>
            <a:off x="4643280" y="4076640"/>
            <a:ext cx="3313440" cy="22068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88" name="TextovéPole 10"/>
          <p:cNvSpPr/>
          <p:nvPr/>
        </p:nvSpPr>
        <p:spPr>
          <a:xfrm>
            <a:off x="5435640" y="638172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Lumbin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ušina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3" descr="800px-Kusinara.jpg"/>
          <p:cNvPicPr/>
          <p:nvPr/>
        </p:nvPicPr>
        <p:blipFill>
          <a:blip r:embed="rId1"/>
          <a:stretch/>
        </p:blipFill>
        <p:spPr>
          <a:xfrm>
            <a:off x="324000" y="1268280"/>
            <a:ext cx="4127400" cy="309744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91" name="TextovéPole 4"/>
          <p:cNvSpPr/>
          <p:nvPr/>
        </p:nvSpPr>
        <p:spPr>
          <a:xfrm>
            <a:off x="1258920" y="4508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Kushinag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5" descr="800px-Mahaparinirvana.jpg"/>
          <p:cNvPicPr/>
          <p:nvPr/>
        </p:nvPicPr>
        <p:blipFill>
          <a:blip r:embed="rId2"/>
          <a:stretch/>
        </p:blipFill>
        <p:spPr>
          <a:xfrm>
            <a:off x="4932360" y="2276640"/>
            <a:ext cx="3881520" cy="13683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93" name="TextovéPole 6"/>
          <p:cNvSpPr/>
          <p:nvPr/>
        </p:nvSpPr>
        <p:spPr>
          <a:xfrm>
            <a:off x="5796000" y="371628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Kushinag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Bódhj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ástupný symbol pro obsah 3" descr="450px-Mahabodhitemple.jpg"/>
          <p:cNvPicPr/>
          <p:nvPr/>
        </p:nvPicPr>
        <p:blipFill>
          <a:blip r:embed="rId1"/>
          <a:stretch/>
        </p:blipFill>
        <p:spPr>
          <a:xfrm>
            <a:off x="611280" y="1052640"/>
            <a:ext cx="3348000" cy="4464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96" name="TextovéPole 4"/>
          <p:cNvSpPr/>
          <p:nvPr/>
        </p:nvSpPr>
        <p:spPr>
          <a:xfrm>
            <a:off x="1116000" y="56610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Bodh_Ga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5" descr="388px-Mahabodhitree.jpg"/>
          <p:cNvPicPr/>
          <p:nvPr/>
        </p:nvPicPr>
        <p:blipFill>
          <a:blip r:embed="rId2"/>
          <a:stretch/>
        </p:blipFill>
        <p:spPr>
          <a:xfrm>
            <a:off x="4859280" y="1052640"/>
            <a:ext cx="2892600" cy="4464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98" name="TextovéPole 6"/>
          <p:cNvSpPr/>
          <p:nvPr/>
        </p:nvSpPr>
        <p:spPr>
          <a:xfrm>
            <a:off x="5435640" y="56624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de.wikipedia.org/wiki/Bodhga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yaikto, Myanmar (Bar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Zástupný symbol pro obsah 3" descr="Golden_Rock.JPG"/>
          <p:cNvPicPr/>
          <p:nvPr/>
        </p:nvPicPr>
        <p:blipFill>
          <a:blip r:embed="rId1"/>
          <a:stretch/>
        </p:blipFill>
        <p:spPr>
          <a:xfrm>
            <a:off x="684360" y="1197000"/>
            <a:ext cx="3236760" cy="4896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01" name="TextovéPole 4"/>
          <p:cNvSpPr/>
          <p:nvPr/>
        </p:nvSpPr>
        <p:spPr>
          <a:xfrm>
            <a:off x="1187280" y="623736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Kyaiktiyo_Pago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rázek 5" descr="Kyaikhtiyo-Sunset.JPG"/>
          <p:cNvPicPr/>
          <p:nvPr/>
        </p:nvPicPr>
        <p:blipFill>
          <a:blip r:embed="rId2"/>
          <a:stretch/>
        </p:blipFill>
        <p:spPr>
          <a:xfrm>
            <a:off x="4284720" y="1844640"/>
            <a:ext cx="4511520" cy="338472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03" name="TextovéPole 6"/>
          <p:cNvSpPr/>
          <p:nvPr/>
        </p:nvSpPr>
        <p:spPr>
          <a:xfrm>
            <a:off x="5292720" y="537372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Kyaiktiyo_Pago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Wat Phra Kaeo, Bangk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ástupný symbol pro obsah 3" descr="Grand_Palace_Bangkok.jpg"/>
          <p:cNvPicPr/>
          <p:nvPr/>
        </p:nvPicPr>
        <p:blipFill>
          <a:blip r:embed="rId1"/>
          <a:stretch/>
        </p:blipFill>
        <p:spPr>
          <a:xfrm>
            <a:off x="365040" y="1197000"/>
            <a:ext cx="4854600" cy="3240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06" name="TextovéPole 4"/>
          <p:cNvSpPr/>
          <p:nvPr/>
        </p:nvSpPr>
        <p:spPr>
          <a:xfrm>
            <a:off x="1332000" y="458136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Wat_Phra_Kae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5" descr="398px-Emerald_Buddha_Photo_D_Ramey_Logan.jpg"/>
          <p:cNvPicPr/>
          <p:nvPr/>
        </p:nvPicPr>
        <p:blipFill>
          <a:blip r:embed="rId2"/>
          <a:stretch/>
        </p:blipFill>
        <p:spPr>
          <a:xfrm>
            <a:off x="6043680" y="1125360"/>
            <a:ext cx="2344680" cy="352764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08" name="TextovéPole 6"/>
          <p:cNvSpPr/>
          <p:nvPr/>
        </p:nvSpPr>
        <p:spPr>
          <a:xfrm>
            <a:off x="6156360" y="4797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Wat_Phra_Kae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ůvodně praktický návod, jak překonat strast, později vznik náboženského systé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ejímá koncepci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CYKLICKÉHO VÝVOJE A KOLOBĚHU ŽIVOTŮ </a:t>
            </a: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z hinduis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ejímá konečný cíl směřování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VYSVOBOZENÍ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z koloběhu životů (mókša) – užívá pojem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ROBU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uka o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MÍJIVOSTI BY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uka o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EZPODST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edinou pravou skutečností –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IRVÁN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dokonalá harmo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EUZNÁVÁ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varny ani ka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cesta k probuzen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KAŽDÉHO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včetně ž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uddhistou se člověk stává,a to svým rozhodnut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Angkor Vat, Kambod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Zástupný symbol pro obsah 3" descr="Angkor_Wat.jpg"/>
          <p:cNvPicPr/>
          <p:nvPr/>
        </p:nvPicPr>
        <p:blipFill>
          <a:blip r:embed="rId1"/>
          <a:stretch/>
        </p:blipFill>
        <p:spPr>
          <a:xfrm>
            <a:off x="250920" y="1557360"/>
            <a:ext cx="4130640" cy="28083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11" name="TextovéPole 4"/>
          <p:cNvSpPr/>
          <p:nvPr/>
        </p:nvSpPr>
        <p:spPr>
          <a:xfrm>
            <a:off x="1258920" y="45086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Angkor_V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ek 5" descr="800px-Angkor-Wat-from-the-air.JPG"/>
          <p:cNvPicPr/>
          <p:nvPr/>
        </p:nvPicPr>
        <p:blipFill>
          <a:blip r:embed="rId2"/>
          <a:stretch/>
        </p:blipFill>
        <p:spPr>
          <a:xfrm>
            <a:off x="4932360" y="1557360"/>
            <a:ext cx="3743280" cy="28083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13" name="TextovéPole 6"/>
          <p:cNvSpPr/>
          <p:nvPr/>
        </p:nvSpPr>
        <p:spPr>
          <a:xfrm>
            <a:off x="6012000" y="45086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Angkor_V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Borobudur, Jáva (Indonés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ástupný symbol pro obsah 3" descr="800px-Borobudur-Nothwest-view.jpg"/>
          <p:cNvPicPr/>
          <p:nvPr/>
        </p:nvPicPr>
        <p:blipFill>
          <a:blip r:embed="rId1"/>
          <a:stretch/>
        </p:blipFill>
        <p:spPr>
          <a:xfrm>
            <a:off x="324000" y="1844640"/>
            <a:ext cx="4572000" cy="18003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16" name="TextovéPole 4"/>
          <p:cNvSpPr/>
          <p:nvPr/>
        </p:nvSpPr>
        <p:spPr>
          <a:xfrm>
            <a:off x="1619280" y="378936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Borobud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5" descr="Borobudur_2008.JPG"/>
          <p:cNvPicPr/>
          <p:nvPr/>
        </p:nvPicPr>
        <p:blipFill>
          <a:blip r:embed="rId2"/>
          <a:stretch/>
        </p:blipFill>
        <p:spPr>
          <a:xfrm>
            <a:off x="5219640" y="1557360"/>
            <a:ext cx="3552840" cy="266364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18" name="TextovéPole 6"/>
          <p:cNvSpPr/>
          <p:nvPr/>
        </p:nvSpPr>
        <p:spPr>
          <a:xfrm>
            <a:off x="5940360" y="4292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Borobud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Lhasa, Tib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ástupný symbol pro obsah 3" descr="800px-Potala.jpg"/>
          <p:cNvPicPr/>
          <p:nvPr/>
        </p:nvPicPr>
        <p:blipFill>
          <a:blip r:embed="rId1"/>
          <a:stretch/>
        </p:blipFill>
        <p:spPr>
          <a:xfrm>
            <a:off x="468360" y="1197000"/>
            <a:ext cx="3743280" cy="24940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1476360" y="386064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Lh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ek 5" descr="363px-Dalai_Lama_1430_Luca_Galuzzi_2007crop.jpg"/>
          <p:cNvPicPr/>
          <p:nvPr/>
        </p:nvPicPr>
        <p:blipFill>
          <a:blip r:embed="rId2"/>
          <a:stretch/>
        </p:blipFill>
        <p:spPr>
          <a:xfrm>
            <a:off x="5940360" y="907920"/>
            <a:ext cx="1657440" cy="27370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23" name="TextovéPole 6"/>
          <p:cNvSpPr/>
          <p:nvPr/>
        </p:nvSpPr>
        <p:spPr>
          <a:xfrm>
            <a:off x="5867280" y="378936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Dalai_L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ázek 7" descr="Labrang2.jpg"/>
          <p:cNvPicPr/>
          <p:nvPr/>
        </p:nvPicPr>
        <p:blipFill>
          <a:blip r:embed="rId3"/>
          <a:stretch/>
        </p:blipFill>
        <p:spPr>
          <a:xfrm>
            <a:off x="3059280" y="4203720"/>
            <a:ext cx="3241440" cy="210492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25" name="TextovéPole 8"/>
          <p:cNvSpPr/>
          <p:nvPr/>
        </p:nvSpPr>
        <p:spPr>
          <a:xfrm>
            <a:off x="3564000" y="6381720"/>
            <a:ext cx="23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Modlitební_mlýn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Obrazový atlas. Poutní a svatá místa. Universum, Praha 20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Šlachta, Mojmír: Ohniska napětí ve světě, Kartografie Praha, Praha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Historicko-společenský kontext v době vz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znik v 6. st. př.n.l. v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EVERNÍ IND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indická společnost rozdělena do varn a postupně k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eškerý mocenský monopol v rukou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RÁHMANŮ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na ně tlak především ze strany kšatrij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d 7.st. vznik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EZÁVISLÝCH DUCHOVNÍCH ŠK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ejich hlasatelé potuln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ASKETOVÉ = ŠRAMA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DUCHOVNÍ A SOCIÁLNÍ REFORMÁTO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ediné ze šramanských hnutí významněji rozšířené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UDDH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 Indie postupně vytlačen do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JV a V As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dnes v Indii 1 % obyvat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šíření buddhismu zcela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KOJNOU CEST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kvůli němu nikdy žádná náboženská vál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Osobnost zakladatele - Budd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564-3 př.n.l. – 484-3 př.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UDDHA = PROBUZE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lastní jméno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IDHÁRTA GAUTÁ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ůvod z varny kšatri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 29 let obklopen přepyc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ásadní přelom  v chápání života –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ČTVERO SETKÁNÍ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tajné opuštění městských hradeb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setkání se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TARCEM, TĚŽCE NEMOCNÝM a NEBOŽTÍKEM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k životu neodmyslitelně patř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OLEST A STRAST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ovází člověka po celý živ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tvrté setkání s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ASKETOU, SVATÝM MUŽEM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učení o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MÍJIVOST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všech věcí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OPROŠTĚNÍ SE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d nich v osamělé medit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3" descr="Buddha_lantau.jpg"/>
          <p:cNvPicPr/>
          <p:nvPr/>
        </p:nvPicPr>
        <p:blipFill>
          <a:blip r:embed="rId1"/>
          <a:stretch/>
        </p:blipFill>
        <p:spPr>
          <a:xfrm>
            <a:off x="6948360" y="4292640"/>
            <a:ext cx="2016360" cy="19018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51" name="TextovéPole 4"/>
          <p:cNvSpPr/>
          <p:nvPr/>
        </p:nvSpPr>
        <p:spPr>
          <a:xfrm>
            <a:off x="7020000" y="6308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Buddh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5" descr="600px-Birthplacebuddha.jpg"/>
          <p:cNvPicPr/>
          <p:nvPr/>
        </p:nvPicPr>
        <p:blipFill>
          <a:blip r:embed="rId2"/>
          <a:stretch/>
        </p:blipFill>
        <p:spPr>
          <a:xfrm>
            <a:off x="6372360" y="692280"/>
            <a:ext cx="2016000" cy="2016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53" name="TextovéPole 6"/>
          <p:cNvSpPr/>
          <p:nvPr/>
        </p:nvSpPr>
        <p:spPr>
          <a:xfrm>
            <a:off x="6300720" y="278136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Gautama_Budd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Osobnost zakladatele - Budd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opuštění domova, rodin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putování po severovýchodní Indii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naslouchání různým duchovním učitelům(neuspokojen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u města Gaja usedl po fíkovní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okamžik </a:t>
            </a:r>
            <a:r>
              <a:rPr b="1" i="1" lang="cs-CZ" sz="2600" spc="-1" strike="noStrike">
                <a:solidFill>
                  <a:srgbClr val="00b050"/>
                </a:solidFill>
                <a:latin typeface="Calibri"/>
              </a:rPr>
              <a:t>VELKÉHO PROBU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skrze hlubokou meditaci nazř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600" spc="-1" strike="noStrike">
                <a:solidFill>
                  <a:srgbClr val="00b050"/>
                </a:solidFill>
                <a:latin typeface="Calibri"/>
              </a:rPr>
              <a:t>ČTYŘ  VZNEŠENÝCH (UŠLECHTILÝCH) PRAV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o strasti a jejím překonání – stal se Buddh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od probuzení až po fyzický skon putování severní Indi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šíření nového uč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Posvátné tex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b050"/>
                </a:solidFill>
                <a:latin typeface="Calibri"/>
              </a:rPr>
              <a:t>TRIPITAKA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pálijsky Tipitaka, „</a:t>
            </a:r>
            <a:r>
              <a:rPr b="1" i="1" lang="cs-CZ" sz="2200" spc="-1" strike="noStrike">
                <a:solidFill>
                  <a:srgbClr val="00b050"/>
                </a:solidFill>
                <a:latin typeface="Calibri"/>
              </a:rPr>
              <a:t>TROJÍ KOŠ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tři základní části: Sútrapitaka, Vinajapitaka, Abhidharmapit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sepsána v jazyce </a:t>
            </a:r>
            <a:r>
              <a:rPr b="1" i="1" lang="cs-CZ" sz="2200" spc="-1" strike="noStrike">
                <a:solidFill>
                  <a:srgbClr val="00b050"/>
                </a:solidFill>
                <a:latin typeface="Calibri"/>
              </a:rPr>
              <a:t>PÁLI – PÁLIJSKÝ KÁN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1. Vinajapitaka („Koš kázně“)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nejstarší a nejmenší čá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regulace mnišského živo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2. Suttapitaka („Koš rozprav“)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5 sbírek (nikáj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rozpravy připisované Buddhovi – základy buddhistického uč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3. Abhidhammapitaka („Koš zvláštního učení“)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7 dě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také Buddhovy rozpravy zabývající se specifickými téma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ákladní pojmy buddhismus přej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VÉDSKÉHO MYŠLENÍ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SANSÁRA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koloběh život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KARM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in ve smyslu příčiny a úči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inem je i myšlenka, zám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lý čin může být důsledkem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NEVĚDOMOST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kladen silný důraz na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Z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DHARM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namenal kosmický řád – odvozují se zákonitosti společens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hinduismu význam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VINNOST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– místo člověka ve společenském uspořád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buddhismu označení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BUDDHOVA UČENÍ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české překlady norma, držmo – to, čeho je třeba se drž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445px-Sermon_in_the_Deer_Park_depicted_at_Wat_Chedi_Liem-KayEss-1.jpeg"/>
          <p:cNvPicPr/>
          <p:nvPr/>
        </p:nvPicPr>
        <p:blipFill>
          <a:blip r:embed="rId1"/>
          <a:stretch/>
        </p:blipFill>
        <p:spPr>
          <a:xfrm>
            <a:off x="6156360" y="189000"/>
            <a:ext cx="2243160" cy="302400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61" name="TextovéPole 4"/>
          <p:cNvSpPr/>
          <p:nvPr/>
        </p:nvSpPr>
        <p:spPr>
          <a:xfrm>
            <a:off x="6227640" y="328464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Gautama_Budd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Calibri"/>
              </a:rPr>
              <a:t>NIRVÁNA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av </a:t>
            </a:r>
            <a:r>
              <a:rPr b="1" i="1" lang="cs-CZ" sz="2800" spc="-1" strike="noStrike">
                <a:solidFill>
                  <a:srgbClr val="00b050"/>
                </a:solidFill>
                <a:latin typeface="Calibri"/>
              </a:rPr>
              <a:t>TRVALÝ, HARMONICKÝ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a bezvýhradně </a:t>
            </a:r>
            <a:r>
              <a:rPr b="1" i="1" lang="cs-CZ" sz="2800" spc="-1" strike="noStrike">
                <a:solidFill>
                  <a:srgbClr val="00b050"/>
                </a:solidFill>
                <a:latin typeface="Calibri"/>
              </a:rPr>
              <a:t>BLAŽE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cíl buddhis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echod ze sansáry do nirvány = </a:t>
            </a:r>
            <a:r>
              <a:rPr b="1" i="1" lang="cs-CZ" sz="2800" spc="-1" strike="noStrike">
                <a:solidFill>
                  <a:srgbClr val="00b050"/>
                </a:solidFill>
                <a:latin typeface="Calibri"/>
              </a:rPr>
              <a:t>VYVA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b050"/>
                </a:solidFill>
                <a:latin typeface="Calibri"/>
              </a:rPr>
              <a:t>ZÁNIK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strastiplné exis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ové pojm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tři základní životní charakteristiky: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POMÍJIVOST, STRASTNOST, BEZPODSTATNOST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„tři příznaky každé věci sestavené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EZPODSTATNOST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soubor pěti složek, ze kterých se sestává každá živá bytost: tělesná podoba, pociťování, smyslové vnímání,povahové složky a zkušenostní poz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tyto složky netvoří žádnou jedinečnou individualitu ve smyslu duchovním (žádné pravé j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vá bytost: sestavována </a:t>
            </a: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ÚČINKEM PŮSOBENÍ KARMANOVÉHO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záko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ůsledky dobrých i zlých činů ji přidržují v sansá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b050"/>
                </a:solidFill>
                <a:latin typeface="Calibri"/>
              </a:rPr>
              <a:t>TRŠNA =ULPÍVÁNÍ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 životě, chtění, tou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4:03:02Z</dcterms:created>
  <dc:creator>Kacenka</dc:creator>
  <dc:description/>
  <dc:language>en-US</dc:language>
  <cp:lastModifiedBy>Kacenka</cp:lastModifiedBy>
  <dcterms:modified xsi:type="dcterms:W3CDTF">2013-03-10T20:24:56Z</dcterms:modified>
  <cp:revision>9</cp:revision>
  <dc:subject/>
  <dc:title>Buddhismus</dc:title>
</cp:coreProperties>
</file>