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E8B4-05BF-4465-8A21-FFBCDC2D4C3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ECED-B557-4716-BA6C-412D1DE18E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6264-FE8F-4C46-96D2-12DF5F6C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BC3-46DF-4DF0-AE21-0118376C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F672-5FC6-4B88-AB7E-95FDDDAF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6AC-AA4E-4192-9915-B714B220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EB6B-412C-4219-BD5C-C5F36C40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792A-4630-4C70-AA98-31D6A82A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E724-D573-4CCB-BF70-B130CB29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7E1-2069-4CE6-9326-B6D897AE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719-4BA6-4DD8-B6A7-49282EEE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EE9-B6CB-49E1-83FA-B7289527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54ED-E3E3-4F2E-893D-926BB6AE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D42C-A28F-4706-9118-FD38061A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3C56-890F-4014-A5D9-B0BF6657CB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Náboženské spory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 muslimských zem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7380360" y="40464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VY_32_INOVACE_22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ovéPole 4"/>
          <p:cNvSpPr/>
          <p:nvPr/>
        </p:nvSpPr>
        <p:spPr>
          <a:xfrm>
            <a:off x="7381800" y="6381720"/>
            <a:ext cx="15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alibri"/>
              </a:rPr>
              <a:t>Mgr. Kateřina Budínov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5" descr="irak-_mapa.jpg"/>
          <p:cNvPicPr/>
          <p:nvPr/>
        </p:nvPicPr>
        <p:blipFill>
          <a:blip r:embed="rId2"/>
          <a:stretch/>
        </p:blipFill>
        <p:spPr>
          <a:xfrm>
            <a:off x="250920" y="2781360"/>
            <a:ext cx="4086000" cy="3168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2" name="TextovéPole 6"/>
          <p:cNvSpPr/>
          <p:nvPr/>
        </p:nvSpPr>
        <p:spPr>
          <a:xfrm>
            <a:off x="1187280" y="6093000"/>
            <a:ext cx="20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http://leccos.com/index.php/clanky/ir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7" descr="iran.gif"/>
          <p:cNvPicPr/>
          <p:nvPr/>
        </p:nvPicPr>
        <p:blipFill>
          <a:blip r:embed="rId3"/>
          <a:stretch/>
        </p:blipFill>
        <p:spPr>
          <a:xfrm>
            <a:off x="4500720" y="2997360"/>
            <a:ext cx="4379760" cy="280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4" name="TextovéPole 8"/>
          <p:cNvSpPr/>
          <p:nvPr/>
        </p:nvSpPr>
        <p:spPr>
          <a:xfrm>
            <a:off x="5796000" y="5877000"/>
            <a:ext cx="21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http://go.hrw.com/atlas/span_htm/iran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fghánistá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34280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jedna z nejchudších a nejméně rozvinutých zemí svě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70c0"/>
                </a:solidFill>
                <a:latin typeface="Calibri"/>
              </a:rPr>
              <a:t>NEJVĚTŠÍ PRODUCENT OPI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(výroba heroinu – narkostá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992: vznik islámského stá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radikální hnutí </a:t>
            </a:r>
            <a:r>
              <a:rPr b="1" i="1" lang="cs-CZ" sz="2000" spc="-1" strike="noStrike">
                <a:solidFill>
                  <a:srgbClr val="0070c0"/>
                </a:solidFill>
                <a:latin typeface="Calibri"/>
              </a:rPr>
              <a:t>TALIBAN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: krajní výklad norem islá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základna extrémistických hnutí: </a:t>
            </a:r>
            <a:r>
              <a:rPr b="1" i="1" lang="cs-CZ" sz="2000" spc="-1" strike="noStrike">
                <a:solidFill>
                  <a:srgbClr val="0070c0"/>
                </a:solidFill>
                <a:latin typeface="Calibri"/>
              </a:rPr>
              <a:t>al-Kajdá (Usáma bin Ládi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2001: útok NATO: nové vedení v čele zem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2004: ústava: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000" spc="-1" strike="noStrike">
                <a:solidFill>
                  <a:srgbClr val="0070c0"/>
                </a:solidFill>
                <a:latin typeface="Calibri"/>
              </a:rPr>
              <a:t>ISLÁMSKÁ REPUBLIK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(islám: státní ideolog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elký vliv </a:t>
            </a:r>
            <a:r>
              <a:rPr b="1" i="1" lang="cs-CZ" sz="2000" spc="-1" strike="noStrike">
                <a:solidFill>
                  <a:srgbClr val="0070c0"/>
                </a:solidFill>
                <a:latin typeface="Calibri"/>
              </a:rPr>
              <a:t>MULLOVÉ</a:t>
            </a:r>
            <a:r>
              <a:rPr b="0" i="1" lang="cs-CZ" sz="20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(venkovští duchovn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80 % sunnit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Obrázek 3" descr="Flag_of_Afghanistan.svg.png"/>
          <p:cNvPicPr/>
          <p:nvPr/>
        </p:nvPicPr>
        <p:blipFill>
          <a:blip r:embed="rId1"/>
          <a:stretch/>
        </p:blipFill>
        <p:spPr>
          <a:xfrm>
            <a:off x="6588000" y="115920"/>
            <a:ext cx="2305080" cy="1536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08" name="TextovéPole 4"/>
          <p:cNvSpPr/>
          <p:nvPr/>
        </p:nvSpPr>
        <p:spPr>
          <a:xfrm>
            <a:off x="6732720" y="1773360"/>
            <a:ext cx="19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http://cs.wikipedia.org/wiki/Afghánistá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rázek 5" descr="Mapa_Afghánistánu.PNG"/>
          <p:cNvPicPr/>
          <p:nvPr/>
        </p:nvPicPr>
        <p:blipFill>
          <a:blip r:embed="rId2"/>
          <a:stretch/>
        </p:blipFill>
        <p:spPr>
          <a:xfrm>
            <a:off x="6443640" y="3933720"/>
            <a:ext cx="2449440" cy="2625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0" name="TextovéPole 6"/>
          <p:cNvSpPr/>
          <p:nvPr/>
        </p:nvSpPr>
        <p:spPr>
          <a:xfrm>
            <a:off x="6732720" y="6597720"/>
            <a:ext cx="208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http://cs.wikipedia.org/wiki/Afghánistá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Obrázek 7" descr="Taliban_beating_woman_in_public_RAWA.jpg"/>
          <p:cNvPicPr/>
          <p:nvPr/>
        </p:nvPicPr>
        <p:blipFill>
          <a:blip r:embed="rId3"/>
          <a:stretch/>
        </p:blipFill>
        <p:spPr>
          <a:xfrm>
            <a:off x="324000" y="4653000"/>
            <a:ext cx="2879640" cy="1946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2" name="TextovéPole 8"/>
          <p:cNvSpPr/>
          <p:nvPr/>
        </p:nvSpPr>
        <p:spPr>
          <a:xfrm>
            <a:off x="684360" y="659772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http://cs.wikipedia.org/wiki/Afghánistá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Obrázek 9" descr="Hamid_Mir_interviewing_Osama_bin_Laden.jpg"/>
          <p:cNvPicPr/>
          <p:nvPr/>
        </p:nvPicPr>
        <p:blipFill>
          <a:blip r:embed="rId4"/>
          <a:stretch/>
        </p:blipFill>
        <p:spPr>
          <a:xfrm>
            <a:off x="3348000" y="4653000"/>
            <a:ext cx="3002040" cy="1944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4" name="TextovéPole 10"/>
          <p:cNvSpPr/>
          <p:nvPr/>
        </p:nvSpPr>
        <p:spPr>
          <a:xfrm>
            <a:off x="3708360" y="664200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http://cs.wikipedia.org/wiki/Afghánistá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álevka, Vladimír: Světová politika ve 20. století II., Nakladatelství Aleš Skřivan ml., Praha 200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brazový atlas. Poutní a svatá místa. Universum, Praha 201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Šlachta, Mojmír: Ohniska napětí ve světě, Kartografie Praha, Praha 200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álka mezi Irákem a Írán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979: padl císařský režim v Íránu: faktickou hlavou státu se stal </a:t>
            </a:r>
            <a:r>
              <a:rPr b="1" i="1" lang="cs-CZ" sz="2000" spc="-1" strike="noStrike">
                <a:solidFill>
                  <a:srgbClr val="0070c0"/>
                </a:solidFill>
                <a:latin typeface="Calibri"/>
              </a:rPr>
              <a:t>AJATOLLÁH CHOMEJ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 Íránu proces tzv. </a:t>
            </a:r>
            <a:r>
              <a:rPr b="1" i="1" lang="cs-CZ" sz="2000" spc="-1" strike="noStrike">
                <a:solidFill>
                  <a:srgbClr val="0070c0"/>
                </a:solidFill>
                <a:latin typeface="Calibri"/>
              </a:rPr>
              <a:t>ISLÁMSKÉ REVOLUC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zformování náboženského režimu (fundamentální, xenofobn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Obrázek 3" descr="Shah_and_Farah.jpg"/>
          <p:cNvPicPr/>
          <p:nvPr/>
        </p:nvPicPr>
        <p:blipFill>
          <a:blip r:embed="rId1"/>
          <a:stretch/>
        </p:blipFill>
        <p:spPr>
          <a:xfrm>
            <a:off x="971640" y="2482920"/>
            <a:ext cx="2952720" cy="404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ovéPole 4"/>
          <p:cNvSpPr/>
          <p:nvPr/>
        </p:nvSpPr>
        <p:spPr>
          <a:xfrm>
            <a:off x="1187280" y="659772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http://cs.wikipedia.org/wiki/Islámská_revolu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تصویر_خمینی.jpg"/>
          <p:cNvPicPr/>
          <p:nvPr/>
        </p:nvPicPr>
        <p:blipFill>
          <a:blip r:embed="rId2"/>
          <a:stretch/>
        </p:blipFill>
        <p:spPr>
          <a:xfrm>
            <a:off x="5219640" y="2492280"/>
            <a:ext cx="2890800" cy="4059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0" name="TextovéPole 6"/>
          <p:cNvSpPr/>
          <p:nvPr/>
        </p:nvSpPr>
        <p:spPr>
          <a:xfrm>
            <a:off x="5724360" y="6597720"/>
            <a:ext cx="23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http://cs.wikipedia.org/wiki/Ajatolláh_Chomejn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álka mezi Irákem a Írán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980: váleční konflikt Iráku s Íránem o území Šatt -al-Arabu v Perském zálivu (řeka v Íráku – hranice s Íráne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flikt zapříčinil irácký diktátor </a:t>
            </a:r>
            <a:r>
              <a:rPr b="1" i="1" lang="cs-CZ" sz="2000" spc="-1" strike="noStrike">
                <a:solidFill>
                  <a:srgbClr val="0070c0"/>
                </a:solidFill>
                <a:latin typeface="Calibri"/>
              </a:rPr>
              <a:t>SADDÁM HUSAJN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, útok irácké armá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zpočátku Irák převahu (obsazení ropné provincie Chúzestá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flikt postupně přerostl do podoby </a:t>
            </a:r>
            <a:r>
              <a:rPr b="0" i="1" lang="cs-CZ" sz="2000" spc="-1" strike="noStrike">
                <a:solidFill>
                  <a:srgbClr val="0070c0"/>
                </a:solidFill>
                <a:latin typeface="Calibri"/>
              </a:rPr>
              <a:t>„</a:t>
            </a:r>
            <a:r>
              <a:rPr b="1" i="1" lang="cs-CZ" sz="2000" spc="-1" strike="noStrike">
                <a:solidFill>
                  <a:srgbClr val="0070c0"/>
                </a:solidFill>
                <a:latin typeface="Calibri"/>
              </a:rPr>
              <a:t>svaté války</a:t>
            </a:r>
            <a:r>
              <a:rPr b="0" i="1" lang="cs-CZ" sz="2000" spc="-1" strike="noStrike">
                <a:solidFill>
                  <a:srgbClr val="0070c0"/>
                </a:solidFill>
                <a:latin typeface="Calibri"/>
              </a:rPr>
              <a:t>“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mezi íránskými šíity a iráckými sunn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982: Írán přešel do protiofenzivy, válka se přenesla na irácké územ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988: zprostředkováno příměří, konečný mír roku 1990 (status qu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Obrázek 7" descr="Shat_Al-Arab-Basra.jpg"/>
          <p:cNvPicPr/>
          <p:nvPr/>
        </p:nvPicPr>
        <p:blipFill>
          <a:blip r:embed="rId1"/>
          <a:stretch/>
        </p:blipFill>
        <p:spPr>
          <a:xfrm>
            <a:off x="684360" y="3860640"/>
            <a:ext cx="3600360" cy="2700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4" name="TextovéPole 8"/>
          <p:cNvSpPr/>
          <p:nvPr/>
        </p:nvSpPr>
        <p:spPr>
          <a:xfrm>
            <a:off x="1332000" y="6597720"/>
            <a:ext cx="21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http://cs.wikipedia.org/wiki/Šatt_al-Ara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9" descr="Children_In_iraq-iran_war4.jpg"/>
          <p:cNvPicPr/>
          <p:nvPr/>
        </p:nvPicPr>
        <p:blipFill>
          <a:blip r:embed="rId2"/>
          <a:stretch/>
        </p:blipFill>
        <p:spPr>
          <a:xfrm>
            <a:off x="4643280" y="3860640"/>
            <a:ext cx="3857760" cy="2664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6" name="TextovéPole 10"/>
          <p:cNvSpPr/>
          <p:nvPr/>
        </p:nvSpPr>
        <p:spPr>
          <a:xfrm>
            <a:off x="5435640" y="6597720"/>
            <a:ext cx="20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http://en.wikipedia.org/wiki/Iran–Iraq_W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álka v Perském záliv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990: irácká armáda vtrhla do </a:t>
            </a:r>
            <a:r>
              <a:rPr b="1" i="1" lang="cs-CZ" sz="2800" spc="-1" strike="noStrike">
                <a:solidFill>
                  <a:srgbClr val="0070c0"/>
                </a:solidFill>
                <a:latin typeface="Calibri"/>
              </a:rPr>
              <a:t>KUVAJTU</a:t>
            </a:r>
            <a:r>
              <a:rPr b="0" i="1" lang="cs-CZ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(rop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Bagdád vyhlásil jeho </a:t>
            </a:r>
            <a:r>
              <a:rPr b="1" i="1" lang="cs-CZ" sz="2800" spc="-1" strike="noStrike">
                <a:solidFill>
                  <a:srgbClr val="0070c0"/>
                </a:solidFill>
                <a:latin typeface="Calibri"/>
              </a:rPr>
              <a:t>ANEX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uvajtský emír utekl do Saudské Aráb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Rada bezpečnosti uvalila na Irák hospodářské sankce, Husajn neustoup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Obrázek 3" descr="3787986-kuvajt-mapa.jpg"/>
          <p:cNvPicPr/>
          <p:nvPr/>
        </p:nvPicPr>
        <p:blipFill>
          <a:blip r:embed="rId1"/>
          <a:stretch/>
        </p:blipFill>
        <p:spPr>
          <a:xfrm>
            <a:off x="755640" y="3429000"/>
            <a:ext cx="3816360" cy="2828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0" name="TextovéPole 4"/>
          <p:cNvSpPr/>
          <p:nvPr/>
        </p:nvSpPr>
        <p:spPr>
          <a:xfrm>
            <a:off x="900000" y="6351480"/>
            <a:ext cx="360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ttp://www.google.cz/imgres?q=Kuvajt&amp;hl=cs&amp;tbo=d&amp;tbm=isch&amp;tbnid=ctd7B-sDWOC7MM:&amp;imgrefurl=http://aktualne.centrum.cz/zahranici/blizky-vychod/clanek.phtml%3Fid%3D731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Obrázek 5" descr="450px-Kuweit-towers.JPG"/>
          <p:cNvPicPr/>
          <p:nvPr/>
        </p:nvPicPr>
        <p:blipFill>
          <a:blip r:embed="rId2"/>
          <a:stretch/>
        </p:blipFill>
        <p:spPr>
          <a:xfrm>
            <a:off x="5508720" y="3284640"/>
            <a:ext cx="2232000" cy="2976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2" name="TextovéPole 6"/>
          <p:cNvSpPr/>
          <p:nvPr/>
        </p:nvSpPr>
        <p:spPr>
          <a:xfrm>
            <a:off x="5724360" y="6381720"/>
            <a:ext cx="18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http://cs.wikipedia.org/wiki/Kuvaj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álka v Perském záliv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1991: zahájena operac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0070c0"/>
                </a:solidFill>
                <a:latin typeface="Calibri"/>
              </a:rPr>
              <a:t>POUŠTNÍ BOUŘE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(Mezinárodní síly OS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uvajt byl bleskově osvoboz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pojenecké jednotky proniklo hluboko na irácké území, ale Husajnův režim se udrž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Obrázek 3" descr="Iraq,_Saddam_Hussein_(222).jpg"/>
          <p:cNvPicPr/>
          <p:nvPr/>
        </p:nvPicPr>
        <p:blipFill>
          <a:blip r:embed="rId1"/>
          <a:stretch/>
        </p:blipFill>
        <p:spPr>
          <a:xfrm>
            <a:off x="900000" y="3068640"/>
            <a:ext cx="2617920" cy="3384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6" name="TextovéPole 4"/>
          <p:cNvSpPr/>
          <p:nvPr/>
        </p:nvSpPr>
        <p:spPr>
          <a:xfrm>
            <a:off x="1258920" y="6524640"/>
            <a:ext cx="21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http://cs.wikipedia.org/wiki/Saddám_Husaj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ázek 5" descr="800px-USAF_F-16A_F-15C_F-15E_Desert_Storm_pic.jpg"/>
          <p:cNvPicPr/>
          <p:nvPr/>
        </p:nvPicPr>
        <p:blipFill>
          <a:blip r:embed="rId2"/>
          <a:stretch/>
        </p:blipFill>
        <p:spPr>
          <a:xfrm>
            <a:off x="3995640" y="3213000"/>
            <a:ext cx="4857840" cy="3095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8" name="TextovéPole 6"/>
          <p:cNvSpPr/>
          <p:nvPr/>
        </p:nvSpPr>
        <p:spPr>
          <a:xfrm>
            <a:off x="5292720" y="645336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http://cs.wikipedia.org/wiki/Válka_v_Záliv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rák d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islám: </a:t>
            </a:r>
            <a:r>
              <a:rPr b="1" i="1" lang="cs-CZ" sz="1800" spc="-1" strike="noStrike">
                <a:solidFill>
                  <a:srgbClr val="0070c0"/>
                </a:solidFill>
                <a:latin typeface="Calibri"/>
              </a:rPr>
              <a:t>STÁTNÍ</a:t>
            </a:r>
            <a:r>
              <a:rPr b="0" i="1" lang="cs-CZ" sz="1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áboženstv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70c0"/>
                </a:solidFill>
                <a:latin typeface="Calibri"/>
              </a:rPr>
              <a:t>97% muslimů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(zbytek křesťané východního rit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šíité: 60-65% x sunnité 32-3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unnité: většina iráck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800" spc="-1" strike="noStrike">
                <a:solidFill>
                  <a:srgbClr val="0070c0"/>
                </a:solidFill>
                <a:latin typeface="Calibri"/>
              </a:rPr>
              <a:t>KURD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vážně na JV země (Bagdád religiózně smíšený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Irák: země s druhou největší šíitskou většinou (jih, střed země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70c0"/>
                </a:solidFill>
                <a:latin typeface="Calibri"/>
              </a:rPr>
              <a:t>MOCENSKÁ ELIT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: vždy </a:t>
            </a:r>
            <a:r>
              <a:rPr b="1" i="1" lang="cs-CZ" sz="1800" spc="-1" strike="noStrike">
                <a:solidFill>
                  <a:srgbClr val="0070c0"/>
                </a:solidFill>
                <a:latin typeface="Calibri"/>
              </a:rPr>
              <a:t>SUNNITÉ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; od králů až po Saddáma Husaj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 válce v zálivu (1991) tvrdě potlačena šíitská revoluce (velitelé armády – sunnité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2003: smeten režim Saddáma Husajna (US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olby 2005: převahu získali šíité: polovina poslaneckých kře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Obrázek 4" descr="Kurdish-inhabited_area_by_CIA_(1992).jpg"/>
          <p:cNvPicPr/>
          <p:nvPr/>
        </p:nvPicPr>
        <p:blipFill>
          <a:blip r:embed="rId1"/>
          <a:stretch/>
        </p:blipFill>
        <p:spPr>
          <a:xfrm>
            <a:off x="2484360" y="4508640"/>
            <a:ext cx="2519280" cy="2057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2" name="TextovéPole 5"/>
          <p:cNvSpPr/>
          <p:nvPr/>
        </p:nvSpPr>
        <p:spPr>
          <a:xfrm>
            <a:off x="2700360" y="659772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http://de.wikipedia.org/wiki/Kur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rázek 6" descr="Kurdscostunme.jpg"/>
          <p:cNvPicPr/>
          <p:nvPr/>
        </p:nvPicPr>
        <p:blipFill>
          <a:blip r:embed="rId2"/>
          <a:stretch/>
        </p:blipFill>
        <p:spPr>
          <a:xfrm>
            <a:off x="6875640" y="3789360"/>
            <a:ext cx="1985760" cy="244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4" name="TextovéPole 7"/>
          <p:cNvSpPr/>
          <p:nvPr/>
        </p:nvSpPr>
        <p:spPr>
          <a:xfrm>
            <a:off x="7020000" y="638172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http://de.wikipedia.org/wiki/Kur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Obrázek 8" descr="Flag_of_Iraq.svg.png"/>
          <p:cNvPicPr/>
          <p:nvPr/>
        </p:nvPicPr>
        <p:blipFill>
          <a:blip r:embed="rId3"/>
          <a:stretch/>
        </p:blipFill>
        <p:spPr>
          <a:xfrm>
            <a:off x="5796000" y="260280"/>
            <a:ext cx="2736720" cy="1824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6" name="TextovéPole 9"/>
          <p:cNvSpPr/>
          <p:nvPr/>
        </p:nvSpPr>
        <p:spPr>
          <a:xfrm>
            <a:off x="6516720" y="2133720"/>
            <a:ext cx="16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http://cs.wikipedia.org/wiki/Irá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rák d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šíismu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 Iráku dvě nejposvátnější míst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70c0"/>
                </a:solidFill>
                <a:latin typeface="Calibri"/>
              </a:rPr>
              <a:t>NADŽAF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: hrobka imáma Alího (zakladatel šiísm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70c0"/>
                </a:solidFill>
                <a:latin typeface="Calibri"/>
              </a:rPr>
              <a:t>KARBALÁ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: hrob Husajna, Alího sy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ustálé střety  a vzájemné teroristické útoky: intenzita projevů občanské vál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ojska USA neustále přítom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má vzniknout federativní republ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Obrázek 3" descr="800px-Meshed_ali_usnavy_(PD).jpg"/>
          <p:cNvPicPr/>
          <p:nvPr/>
        </p:nvPicPr>
        <p:blipFill>
          <a:blip r:embed="rId1"/>
          <a:stretch/>
        </p:blipFill>
        <p:spPr>
          <a:xfrm>
            <a:off x="468360" y="3429000"/>
            <a:ext cx="4143240" cy="2952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0" name="TextovéPole 4"/>
          <p:cNvSpPr/>
          <p:nvPr/>
        </p:nvSpPr>
        <p:spPr>
          <a:xfrm>
            <a:off x="1332000" y="645336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http://cs.wikipedia.org/wiki/Nadž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rázek 5" descr="IMG_2753.JPG"/>
          <p:cNvPicPr/>
          <p:nvPr/>
        </p:nvPicPr>
        <p:blipFill>
          <a:blip r:embed="rId2"/>
          <a:stretch/>
        </p:blipFill>
        <p:spPr>
          <a:xfrm>
            <a:off x="5292720" y="2781360"/>
            <a:ext cx="2808360" cy="3637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2" name="Obrázek 6" descr="IMG_2752.JPG"/>
          <p:cNvPicPr/>
          <p:nvPr/>
        </p:nvPicPr>
        <p:blipFill>
          <a:blip r:embed="rId3"/>
          <a:stretch/>
        </p:blipFill>
        <p:spPr>
          <a:xfrm>
            <a:off x="5867280" y="55440"/>
            <a:ext cx="2737080" cy="1933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3" name="TextovéPole 7"/>
          <p:cNvSpPr/>
          <p:nvPr/>
        </p:nvSpPr>
        <p:spPr>
          <a:xfrm>
            <a:off x="5651640" y="1989000"/>
            <a:ext cx="32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Obrazový atlas. Poutní a svatá místa. Universum, Praha 2011, str. 217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ovéPole 8"/>
          <p:cNvSpPr/>
          <p:nvPr/>
        </p:nvSpPr>
        <p:spPr>
          <a:xfrm>
            <a:off x="5003640" y="652464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Obrazový atlas. Poutní a svatá místa. Universum, Praha 2011, str. 21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Írán d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907920"/>
            <a:ext cx="82296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islám: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600" spc="-1" strike="noStrike">
                <a:solidFill>
                  <a:srgbClr val="0070c0"/>
                </a:solidFill>
                <a:latin typeface="Calibri"/>
              </a:rPr>
              <a:t>STÁTNÍ</a:t>
            </a:r>
            <a:r>
              <a:rPr b="1" lang="cs-CZ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náboženství (Íránská islámská republik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základní kámen mocenského systém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70c0"/>
                </a:solidFill>
                <a:latin typeface="Calibri"/>
              </a:rPr>
              <a:t>90% šíité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, 10% sunn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70c0"/>
                </a:solidFill>
                <a:latin typeface="Calibri"/>
              </a:rPr>
              <a:t>TEOKRATICKÝ STÁT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: ústava 1979: znalci islámského práva nadřazeni držitelům světské mo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nejvyšší hlava státu</a:t>
            </a:r>
            <a:r>
              <a:rPr b="1" lang="cs-CZ" sz="1600" spc="-1" strike="noStrike">
                <a:solidFill>
                  <a:srgbClr val="0070c0"/>
                </a:solidFill>
                <a:latin typeface="Calibri"/>
              </a:rPr>
              <a:t>: </a:t>
            </a:r>
            <a:r>
              <a:rPr b="1" i="1" lang="cs-CZ" sz="1600" spc="-1" strike="noStrike">
                <a:solidFill>
                  <a:srgbClr val="0070c0"/>
                </a:solidFill>
                <a:latin typeface="Calibri"/>
              </a:rPr>
              <a:t>RAHBAR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: 1979-1989: ajatolláh Chomejní, 1989 – dodnes: </a:t>
            </a:r>
            <a:r>
              <a:rPr b="1" i="1" lang="cs-CZ" sz="1600" spc="-1" strike="noStrike">
                <a:solidFill>
                  <a:srgbClr val="0070c0"/>
                </a:solidFill>
                <a:latin typeface="Calibri"/>
              </a:rPr>
              <a:t>M. Alí Chamene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rahbara volí Rada expertů: 86 šíitských duchovn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rezident republiky: dnes </a:t>
            </a:r>
            <a:r>
              <a:rPr b="1" i="1" lang="cs-CZ" sz="1600" spc="-1" strike="noStrike">
                <a:solidFill>
                  <a:srgbClr val="0070c0"/>
                </a:solidFill>
                <a:latin typeface="Calibri"/>
              </a:rPr>
              <a:t>Mahmúd Ahmadínežád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: zástupce státu v zahraničí, v čele vlá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Obrázek 3" descr="450px-Mahmoud_Ahmadinejad.jpg"/>
          <p:cNvPicPr/>
          <p:nvPr/>
        </p:nvPicPr>
        <p:blipFill>
          <a:blip r:embed="rId1"/>
          <a:stretch/>
        </p:blipFill>
        <p:spPr>
          <a:xfrm>
            <a:off x="971640" y="3429000"/>
            <a:ext cx="2305080" cy="3073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8" name="TextovéPole 4"/>
          <p:cNvSpPr/>
          <p:nvPr/>
        </p:nvSpPr>
        <p:spPr>
          <a:xfrm>
            <a:off x="900000" y="6524640"/>
            <a:ext cx="244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http://cs.wikipedia.org/wiki/Mahmúd_Ahmadínežá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rázek 5" descr="754px-Grand_Ayatollah_Ali_Khamenei,.jpg"/>
          <p:cNvPicPr/>
          <p:nvPr/>
        </p:nvPicPr>
        <p:blipFill>
          <a:blip r:embed="rId2"/>
          <a:stretch/>
        </p:blipFill>
        <p:spPr>
          <a:xfrm>
            <a:off x="4211640" y="3429000"/>
            <a:ext cx="361800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00" name="TextovéPole 6"/>
          <p:cNvSpPr/>
          <p:nvPr/>
        </p:nvSpPr>
        <p:spPr>
          <a:xfrm>
            <a:off x="5003640" y="6381720"/>
            <a:ext cx="244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http://cs.wikipedia.org/wiki/Sajjid_Alí_Chamene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ázek 7" descr="Flag_of_Iran.svg.png"/>
          <p:cNvPicPr/>
          <p:nvPr/>
        </p:nvPicPr>
        <p:blipFill>
          <a:blip r:embed="rId3"/>
          <a:stretch/>
        </p:blipFill>
        <p:spPr>
          <a:xfrm>
            <a:off x="5724360" y="115920"/>
            <a:ext cx="2586240" cy="1476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02" name="TextovéPole 8"/>
          <p:cNvSpPr/>
          <p:nvPr/>
        </p:nvSpPr>
        <p:spPr>
          <a:xfrm>
            <a:off x="6156360" y="1628640"/>
            <a:ext cx="16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http://cs.wikipedia.org/wiki/Irá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Írán d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řístup k náboženským menšinám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ficiálně uznávaná ještě tři monoteistická náboženství: křesťanství, judaismus, zoroastrism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onverze od islámu: trestní post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áboženské menšiny se soustředí v Teherá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oroastrismus: Chomejního režim je pronásled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řesťanství: náhled jako na sympatizanty západu (především pronásledovaná protestantská vyznání – nejsou legáln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udaismus: odchod ze země – protiizraelský slovník současného preziden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12:08:11Z</dcterms:created>
  <dc:creator>Kacenka</dc:creator>
  <dc:description/>
  <dc:language>en-US</dc:language>
  <cp:lastModifiedBy>Kacenka</cp:lastModifiedBy>
  <dcterms:modified xsi:type="dcterms:W3CDTF">2013-02-05T15:59:44Z</dcterms:modified>
  <cp:revision>8</cp:revision>
  <dc:subject/>
  <dc:title>Náboženské problémy muslimských zemí</dc:title>
</cp:coreProperties>
</file>