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29-4BEA-4011-8A4B-10496446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ED6-9D07-44A4-BA11-CDF601C8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FCD-5D43-4983-99E3-7E7297AD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905-4874-4706-B536-81108C7B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1E0-257C-46CD-89FC-0FD9C09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223-01A9-4C25-A4E6-8A2DFE7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183-312E-4424-944B-18F5E63E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ECA-315B-4ABD-995F-58B693EF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E3D-0B2F-4BAC-8633-0B56DE9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F9F-7A68-453D-8709-07591B1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CFD-ACC6-4082-ADC1-6F3B072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D3C-2E01-4239-BBC3-E07A74D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E5E-DD46-48C8-A19A-3CBC57F14C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632523"/>
                </a:solidFill>
                <a:latin typeface="Calibri"/>
              </a:rPr>
              <a:t>Křesťanství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3"/>
          <p:cNvSpPr/>
          <p:nvPr/>
        </p:nvSpPr>
        <p:spPr>
          <a:xfrm>
            <a:off x="7451640" y="1159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VY_32_INOVACE_22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4"/>
          <p:cNvSpPr/>
          <p:nvPr/>
        </p:nvSpPr>
        <p:spPr>
          <a:xfrm>
            <a:off x="7596360" y="6093000"/>
            <a:ext cx="129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Mgr. Kateřina Budínov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Čtyři portréty Ježí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MATOU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ředevší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ŽÍŠŮV VZTAH K ŽIDOVSKÉ VÍŘE</a:t>
            </a:r>
            <a:r>
              <a:rPr b="0" i="1" lang="cs-CZ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jak přišel naplnit Starý zákon a soudit židy za jejich nevěrnost k Boh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 jak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YSTEMATICKÝ PŘEHLED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ova učení pro vnitřní život církve i její mis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MARE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vyzdviže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ŽÍŠOVÝCH ČINŮ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než jeho 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CESTA POKORNÉ SLUŽBY A UTRP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LUKÁ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ukazuj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BOŽÍ MILOST</a:t>
            </a:r>
            <a:r>
              <a:rPr b="0" i="1" lang="cs-CZ" sz="24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RO KAŽDÉHO, I KDYŽ NEZASLOUŽE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A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Bůh poslal Ježíše do světa, aby h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PA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Život Ježíše Krista podle evangelií</a:t>
            </a:r>
            <a:br>
              <a:rPr sz="3200"/>
            </a:b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Mlá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arozen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v BETLÉMĚ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(„adoptivní otec“ Josef + Panna Marie) za vlády krále Heroda Velik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arození z panny: počat z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DUCHA SVATÉHO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(zvěstoval archanděl Gabriel) –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EPOSKVRNĚNÉ POČ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mudrci od východu – sledování hvězdy: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OCTA NAROZENÉMU KRÁLI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(Kašpar, Melichar a Baltaz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Herodova žárlivost –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VRAŽDĚNÍ NOVOROZEŇAT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– útěk rodiny do Egyp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pak časový odstup 30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Narození Pá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Zástupný symbol pro obsah 5" descr="800px-Nativity_Church15.jpg"/>
          <p:cNvPicPr/>
          <p:nvPr/>
        </p:nvPicPr>
        <p:blipFill>
          <a:blip r:embed="rId1"/>
          <a:stretch/>
        </p:blipFill>
        <p:spPr>
          <a:xfrm>
            <a:off x="755640" y="692280"/>
            <a:ext cx="3481560" cy="261144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72" name="TextovéPole 6"/>
          <p:cNvSpPr/>
          <p:nvPr/>
        </p:nvSpPr>
        <p:spPr>
          <a:xfrm>
            <a:off x="1476360" y="3357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de.wikipedia.org/wiki/Betle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7" descr="795px-Jesus_birthplace_in_Bethlehem.jpg"/>
          <p:cNvPicPr/>
          <p:nvPr/>
        </p:nvPicPr>
        <p:blipFill>
          <a:blip r:embed="rId2"/>
          <a:stretch/>
        </p:blipFill>
        <p:spPr>
          <a:xfrm>
            <a:off x="4643280" y="692280"/>
            <a:ext cx="3481560" cy="26272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74" name="TextovéPole 8"/>
          <p:cNvSpPr/>
          <p:nvPr/>
        </p:nvSpPr>
        <p:spPr>
          <a:xfrm>
            <a:off x="5364000" y="3357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Bethle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rázek 9" descr="405px-Annunciation_Melozzo_da_Forli_Pantheon.jpg"/>
          <p:cNvPicPr/>
          <p:nvPr/>
        </p:nvPicPr>
        <p:blipFill>
          <a:blip r:embed="rId3"/>
          <a:stretch/>
        </p:blipFill>
        <p:spPr>
          <a:xfrm>
            <a:off x="1573200" y="3645000"/>
            <a:ext cx="1774800" cy="2628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76" name="TextovéPole 10"/>
          <p:cNvSpPr/>
          <p:nvPr/>
        </p:nvSpPr>
        <p:spPr>
          <a:xfrm>
            <a:off x="1187280" y="638172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Zvěstování_Panny_Ma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11" descr="687px-Albrecht_Dürer_-_Adorazione_dei_Magi_-_Google_Art_Project.jpg"/>
          <p:cNvPicPr/>
          <p:nvPr/>
        </p:nvPicPr>
        <p:blipFill>
          <a:blip r:embed="rId4"/>
          <a:stretch/>
        </p:blipFill>
        <p:spPr>
          <a:xfrm>
            <a:off x="4643280" y="3645000"/>
            <a:ext cx="3457800" cy="2628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78" name="TextovéPole 12"/>
          <p:cNvSpPr/>
          <p:nvPr/>
        </p:nvSpPr>
        <p:spPr>
          <a:xfrm>
            <a:off x="5364000" y="6381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Tři_králov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Dvanáct apošto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setkání s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JANEM KŘTITELEM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v Judské poušti: Ježíš křest nepotřeboval, „byl bez hříchu“ (přesto se nechal pokřtí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oté odchází do pouště: 40 denní půst: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ČELÍ POKUŠENÍ ĎÁB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o uvěznění Jana odchází na sever: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PŮSOBENÍ V GALILEJI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město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KAFARNAUM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ovolává svých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12 UČEDNÍKŮ=APOŠTOLOVÉ (poslové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etr: původně Šim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přezdívka „Petr“=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SKÁ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vůdčí osobnost,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PRVNÍ BISK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Jakub, Jan, Ondře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Filip, Natanael (Bartoloměj), Matouš (Levi), Jakub Mladší, Tadeáš, Šim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Tomáš: neuvěřil, že byl Ježíš vzkříšen, dokud ho sám nevidě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JIDÁŠ IŠKARIOTSKÝ: ZRÁDCE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za třicet stříbrný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455px-Pope-peter_pprubens.jpg"/>
          <p:cNvPicPr/>
          <p:nvPr/>
        </p:nvPicPr>
        <p:blipFill>
          <a:blip r:embed="rId1"/>
          <a:stretch/>
        </p:blipFill>
        <p:spPr>
          <a:xfrm>
            <a:off x="5506920" y="3141720"/>
            <a:ext cx="1081080" cy="14209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82" name="TextovéPole 4"/>
          <p:cNvSpPr/>
          <p:nvPr/>
        </p:nvSpPr>
        <p:spPr>
          <a:xfrm>
            <a:off x="5076720" y="4581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Saint_P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5" descr="405px-KissOfJudas.jpg"/>
          <p:cNvPicPr/>
          <p:nvPr/>
        </p:nvPicPr>
        <p:blipFill>
          <a:blip r:embed="rId2"/>
          <a:stretch/>
        </p:blipFill>
        <p:spPr>
          <a:xfrm>
            <a:off x="7667640" y="5038560"/>
            <a:ext cx="1079640" cy="159876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84" name="TextovéPole 6"/>
          <p:cNvSpPr/>
          <p:nvPr/>
        </p:nvSpPr>
        <p:spPr>
          <a:xfrm>
            <a:off x="7170840" y="66499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Saint_P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Působ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ežíš konal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ZÁZRAKY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: důkaz přicházejícího Božího králov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pomoc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ODOBENSTV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zodpovídá lidem otá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BOŽÍ UZDRAVENÍ A SVOBODU OBYČEJNÝM LIDEM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království patří chudým, plačícím a trpícím, ne bohatý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Boží král narozen u koryta ve stáji: narodil se, aby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LOUŽIL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, ne vládn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žádné království jen pro židy: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KRÁLOVSTVÍ JE PRO VŠECH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OKÁNÍ A VÍRA: NADĚJE NA SPÁ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Zat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ŘEDPOVĚZENÍ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své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MRTI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učedník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Kristus v Jeruzalémě: na svátek Pesach – křesťanské Velikon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návštěva chrámu: každoroční chrámová daň:jeho protest proti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UP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spiknutí farizejů a saduceů proti Ježíšov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h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EDODRŽOVÁNÍ RITUÁLNÍCH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řed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OSLEDNÍ VEČEŘ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GETSEMANSKÁ ZAHRADA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n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OLIVOVÉ HOŘ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atčení: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ETR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ho 3x zapřel: potvrzení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ŘEHKOSTI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člově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výslech u Annáše, tchán velekněze Kaifá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dsoudil h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YNEDRION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(především farizejové a saduceové) z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ROU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dsouzen z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ÁBOŽENSKÝCH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důvodů, ale ukřižován jak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BUŘI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brázek 3" descr="800px-Simon_ushakov_last_supper_1685.jpg"/>
          <p:cNvPicPr/>
          <p:nvPr/>
        </p:nvPicPr>
        <p:blipFill>
          <a:blip r:embed="rId1"/>
          <a:stretch/>
        </p:blipFill>
        <p:spPr>
          <a:xfrm>
            <a:off x="6588000" y="2276640"/>
            <a:ext cx="2384640" cy="1728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90" name="TextovéPole 4"/>
          <p:cNvSpPr/>
          <p:nvPr/>
        </p:nvSpPr>
        <p:spPr>
          <a:xfrm>
            <a:off x="6804000" y="400536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Poslední_večeř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Ukřiž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ežíš před Pilátem: „Ecce homo!“ – „Ejhle, člověk!“, „Myji si nad rozsudkem ruce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eho tělo zlomeno a krev vylita –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OVÁ SMLOUVA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mezi lidmi a Bo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BIČOV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asazena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TRNOVÁ KORUNA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(zesměšnění jako krále Božího královstv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KŘÍŽOVÁ CESTA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(kalvár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ukřižován na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GOLGO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Munkacsy_-_christ_before_pilate.jpg"/>
          <p:cNvPicPr/>
          <p:nvPr/>
        </p:nvPicPr>
        <p:blipFill>
          <a:blip r:embed="rId1"/>
          <a:stretch/>
        </p:blipFill>
        <p:spPr>
          <a:xfrm>
            <a:off x="5148360" y="3933720"/>
            <a:ext cx="3381120" cy="223200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94" name="TextovéPole 4"/>
          <p:cNvSpPr/>
          <p:nvPr/>
        </p:nvSpPr>
        <p:spPr>
          <a:xfrm>
            <a:off x="5796000" y="630864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de.wikipedia.org/wiki/Pontius_Pil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Křížová cesta: 1. zastavení</a:t>
            </a:r>
            <a:br>
              <a:rPr sz="3200"/>
            </a:b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Ježíš odsouzen k smr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ástupný symbol pro obsah 3" descr="800px-Käppele_(Würzburg)_Kreuzweg_01_-_IMG_6915.JPG"/>
          <p:cNvPicPr/>
          <p:nvPr/>
        </p:nvPicPr>
        <p:blipFill>
          <a:blip r:embed="rId1"/>
          <a:stretch/>
        </p:blipFill>
        <p:spPr>
          <a:xfrm>
            <a:off x="971640" y="1125360"/>
            <a:ext cx="720072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97" name="TextovéPole 4"/>
          <p:cNvSpPr/>
          <p:nvPr/>
        </p:nvSpPr>
        <p:spPr>
          <a:xfrm>
            <a:off x="3635280" y="664200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2. zastavení: Ježíš přijímá kří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ástupný symbol pro obsah 3" descr="800px-Käppele_(Würzburg)_Kreuzweg_02_-_IMG_6916.JPG"/>
          <p:cNvPicPr/>
          <p:nvPr/>
        </p:nvPicPr>
        <p:blipFill>
          <a:blip r:embed="rId1"/>
          <a:stretch/>
        </p:blipFill>
        <p:spPr>
          <a:xfrm>
            <a:off x="826920" y="836640"/>
            <a:ext cx="72010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00" name="TextovéPole 4"/>
          <p:cNvSpPr/>
          <p:nvPr/>
        </p:nvSpPr>
        <p:spPr>
          <a:xfrm>
            <a:off x="3492360" y="652464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3. zastavení: Ježíš poprvé padá pod kříž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ástupný symbol pro obsah 3" descr="800px-Käppele_(Würzburg)_Kreuzweg_03_-_IMG_6918.JPG"/>
          <p:cNvPicPr/>
          <p:nvPr/>
        </p:nvPicPr>
        <p:blipFill>
          <a:blip r:embed="rId1"/>
          <a:stretch/>
        </p:blipFill>
        <p:spPr>
          <a:xfrm>
            <a:off x="895320" y="836640"/>
            <a:ext cx="72010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03" name="TextovéPole 4"/>
          <p:cNvSpPr/>
          <p:nvPr/>
        </p:nvSpPr>
        <p:spPr>
          <a:xfrm>
            <a:off x="3564000" y="652464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Základn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vznik jako odnož židovství v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1. STOLETÍ N.L. V PALESTI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MONOTEISTICKÉ</a:t>
            </a:r>
            <a:r>
              <a:rPr b="1" lang="cs-CZ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áboženstv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ZJEVENÉ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náboženství (seslané člověku od Boh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osoba Bohočlověka Ježíše Krista: Syn Boha, Syn člověka – plně božský, plně lidský, bez hří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Bůh ve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TŘECH OSOBÁCH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: tzv.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VATÁ TROJICE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: Bůh –Otec, Syn a Duch svat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křesťanská církev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OKRAČOVÁNÍM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vyvoleného lidu Staré smlou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4. zastavení: Ježíš potkává svou mat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ástupný symbol pro obsah 3" descr="800px-Käppele_(Würzburg)_Kreuzweg_04_-_IMG_6919.JPG"/>
          <p:cNvPicPr/>
          <p:nvPr/>
        </p:nvPicPr>
        <p:blipFill>
          <a:blip r:embed="rId1"/>
          <a:stretch/>
        </p:blipFill>
        <p:spPr>
          <a:xfrm>
            <a:off x="1116000" y="907920"/>
            <a:ext cx="71992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06" name="TextovéPole 4"/>
          <p:cNvSpPr/>
          <p:nvPr/>
        </p:nvSpPr>
        <p:spPr>
          <a:xfrm>
            <a:off x="3851280" y="645336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5. zastavení: Šimon pomáhá Ježíši nést kří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ástupný symbol pro obsah 3" descr="800px-Käppele_(Würzburg)_Kreuzweg_05_-_IMG_6920.JPG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09" name="TextovéPole 4"/>
          <p:cNvSpPr/>
          <p:nvPr/>
        </p:nvSpPr>
        <p:spPr>
          <a:xfrm>
            <a:off x="3708360" y="652464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6. zastavení: Veronika podává Ježíši rou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ástupný symbol pro obsah 3" descr="800px-Käppele_(Würzburg)_Kreuzweg_06_-_IMG_6921.JPG"/>
          <p:cNvPicPr/>
          <p:nvPr/>
        </p:nvPicPr>
        <p:blipFill>
          <a:blip r:embed="rId1"/>
          <a:stretch/>
        </p:blipFill>
        <p:spPr>
          <a:xfrm>
            <a:off x="971640" y="836640"/>
            <a:ext cx="720072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12" name="TextovéPole 4"/>
          <p:cNvSpPr/>
          <p:nvPr/>
        </p:nvSpPr>
        <p:spPr>
          <a:xfrm>
            <a:off x="3924360" y="652464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7. zastavení: Ježíš padá podruhé pod kříž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ástupný symbol pro obsah 3" descr="800px-Käppele_(Würzburg)_Kreuzweg_07_-_IMG_6922.JPG"/>
          <p:cNvPicPr/>
          <p:nvPr/>
        </p:nvPicPr>
        <p:blipFill>
          <a:blip r:embed="rId1"/>
          <a:stretch/>
        </p:blipFill>
        <p:spPr>
          <a:xfrm>
            <a:off x="971640" y="907920"/>
            <a:ext cx="71992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15" name="TextovéPole 4"/>
          <p:cNvSpPr/>
          <p:nvPr/>
        </p:nvSpPr>
        <p:spPr>
          <a:xfrm>
            <a:off x="3564000" y="652464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8. zastavení: Ježíš napomíná plačící ž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ástupný symbol pro obsah 3" descr="800px-Käppele_(Würzburg)_Kreuzweg_08_-_IMG_6923.JPG"/>
          <p:cNvPicPr/>
          <p:nvPr/>
        </p:nvPicPr>
        <p:blipFill>
          <a:blip r:embed="rId1"/>
          <a:stretch/>
        </p:blipFill>
        <p:spPr>
          <a:xfrm>
            <a:off x="971640" y="907920"/>
            <a:ext cx="71992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18" name="TextovéPole 4"/>
          <p:cNvSpPr/>
          <p:nvPr/>
        </p:nvSpPr>
        <p:spPr>
          <a:xfrm>
            <a:off x="3708360" y="6524640"/>
            <a:ext cx="21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9. zastavení: Ježíš potřetí padá pod kříž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ástupný symbol pro obsah 3" descr="800px-Käppele_(Würzburg)_Kreuzweg_09_-_IMG_6924.JPG"/>
          <p:cNvPicPr/>
          <p:nvPr/>
        </p:nvPicPr>
        <p:blipFill>
          <a:blip r:embed="rId1"/>
          <a:stretch/>
        </p:blipFill>
        <p:spPr>
          <a:xfrm>
            <a:off x="971640" y="836640"/>
            <a:ext cx="71992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21" name="TextovéPole 4"/>
          <p:cNvSpPr/>
          <p:nvPr/>
        </p:nvSpPr>
        <p:spPr>
          <a:xfrm>
            <a:off x="3635280" y="6453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0. zastavení: Ježíš zbaven rou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ástupný symbol pro obsah 3" descr="800px-Käppele_(Würzburg)_Kreuzweg_10_-_IMG_6925.JPG"/>
          <p:cNvPicPr/>
          <p:nvPr/>
        </p:nvPicPr>
        <p:blipFill>
          <a:blip r:embed="rId1"/>
          <a:stretch/>
        </p:blipFill>
        <p:spPr>
          <a:xfrm>
            <a:off x="971640" y="907920"/>
            <a:ext cx="719928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24" name="TextovéPole 4"/>
          <p:cNvSpPr/>
          <p:nvPr/>
        </p:nvSpPr>
        <p:spPr>
          <a:xfrm>
            <a:off x="3564000" y="652464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1. zastavení: Ježíš přibit na kří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Zástupný symbol pro obsah 3" descr="800px-Käppele_(Würzburg)_Kreuzweg_11_-_IMG_6926.JPG"/>
          <p:cNvPicPr/>
          <p:nvPr/>
        </p:nvPicPr>
        <p:blipFill>
          <a:blip r:embed="rId1"/>
          <a:stretch/>
        </p:blipFill>
        <p:spPr>
          <a:xfrm>
            <a:off x="900000" y="836640"/>
            <a:ext cx="7197840" cy="5400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27" name="TextovéPole 4"/>
          <p:cNvSpPr/>
          <p:nvPr/>
        </p:nvSpPr>
        <p:spPr>
          <a:xfrm>
            <a:off x="3419640" y="652464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2. zastavení: Ježíš umírá na kříž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ástupný symbol pro obsah 3" descr="450px-Käppele_(Würzburg)_Kreuzweg_12_-_IMG_6927.JPG"/>
          <p:cNvPicPr/>
          <p:nvPr/>
        </p:nvPicPr>
        <p:blipFill>
          <a:blip r:embed="rId1"/>
          <a:stretch/>
        </p:blipFill>
        <p:spPr>
          <a:xfrm>
            <a:off x="2484360" y="692280"/>
            <a:ext cx="4391280" cy="58561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30" name="TextovéPole 4"/>
          <p:cNvSpPr/>
          <p:nvPr/>
        </p:nvSpPr>
        <p:spPr>
          <a:xfrm>
            <a:off x="3708360" y="66420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3. zastavení: Tělo Ježíše sňato z kří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Zástupný symbol pro obsah 3" descr="450px-Käppele_(Würzburg)_Kreuzweg_13_-_IMG_6928.JPG"/>
          <p:cNvPicPr/>
          <p:nvPr/>
        </p:nvPicPr>
        <p:blipFill>
          <a:blip r:embed="rId2"/>
          <a:stretch/>
        </p:blipFill>
        <p:spPr>
          <a:xfrm>
            <a:off x="2340000" y="692280"/>
            <a:ext cx="4340160" cy="57862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33" name="TextovéPole 6"/>
          <p:cNvSpPr/>
          <p:nvPr/>
        </p:nvSpPr>
        <p:spPr>
          <a:xfrm>
            <a:off x="3635280" y="664200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Základn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 Kristu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CHRISTOS=POMAZANÝ, POSVĚCE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áklad víry: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ŽÍŠOVA SMRT A VZKŘÍ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mrtvýchvstání: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MRT NEZNAMENÁ KON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značen z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MESIÁŠ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zázračně nakrmil početné zástupy, vyháněl démony, odpouštěl hříchy, ohlašoval příchod božího král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spása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VÍROU V JEŽÍŠ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ne dodržováním zák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 přinesl království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DUCHOV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RÁLOVSTVÍ V LIDSKÝCH SRD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ako mesiáš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OSVOBODIL LIDI OD HŘÍC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ako Syn boží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DINEČNÝ VZTAH K BO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ako Syn člověk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E ZTOTOŽŇOVAL SE VŠEMI LID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4. zastavení: Tělo Ježíše uloženo do hro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Zástupný symbol pro obsah 3" descr="800px-Käppele_(Würzburg)_Kreuzweg_14_-_IMG_6929.JPG"/>
          <p:cNvPicPr/>
          <p:nvPr/>
        </p:nvPicPr>
        <p:blipFill>
          <a:blip r:embed="rId1"/>
          <a:stretch/>
        </p:blipFill>
        <p:spPr>
          <a:xfrm>
            <a:off x="1042920" y="909720"/>
            <a:ext cx="7201080" cy="53989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36" name="TextovéPole 4"/>
          <p:cNvSpPr/>
          <p:nvPr/>
        </p:nvSpPr>
        <p:spPr>
          <a:xfrm>
            <a:off x="3635280" y="645336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ížová_c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728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Vzkříš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39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ženy ho přišli po třech dnech nabalzamovat: hrob byl prázdn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40 DNŮ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bývá na zemi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S APOŠT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té vystupuje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A NEBESA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na Olivové hoř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OVÝM DRUHEM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mesiáše: ne pozemským králem, ale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EBESKÝM VLADAŘ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seslal svéh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DUCHA SVATÉHO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– jeho přítomnost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A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632523"/>
                </a:solidFill>
                <a:latin typeface="Calibri"/>
              </a:rPr>
              <a:t>Svatý Pavel – apoštol pohanů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křesťanský teolog a misionář, původní jméno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SA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první, kdo uceleně vysvětlil Kristovu smrt a vzkříšení=Boží plán spá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úspěšně ŠÍŘIL evangelium v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POHANSKÉM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světě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nežádal po nich, aby se stali ži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narodil se okolo roku 5 n.l. v Tarsu v Kilikii (jižní Turecko) v židovské rodi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vyrůstal jako věrný farizeus –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PRONÁSLEDOVAL KŘESŤ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na cestě do Damašku se mu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ZJEVIL KRISTU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OBRÁCEN VZKŘÍŠENÝM JEŽÍŠ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cestoval po východním Středomoří a kázal evange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nakonec zatčen a poprav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jeho příběh vyprávějí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SKUTKY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část Nového zák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autor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LISTŮ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: část Nového zákon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NEJSTARŠÍ</a:t>
            </a:r>
            <a:r>
              <a:rPr b="0" i="1" lang="cs-CZ" sz="2000" spc="-1" strike="noStrike">
                <a:solidFill>
                  <a:srgbClr val="254061"/>
                </a:solidFill>
                <a:latin typeface="Calibri"/>
              </a:rPr>
              <a:t> a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NEJDŮLEŽITĚJŠÍ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 dokumenty původní círk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NEJVĚTŠÍ</a:t>
            </a:r>
            <a:r>
              <a:rPr b="0" i="1" lang="cs-CZ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důležitost má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MILOST OD BO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VYKOUPENÍ</a:t>
            </a:r>
            <a:r>
              <a:rPr b="0" i="1" lang="cs-CZ" sz="2000" spc="-1" strike="noStrike">
                <a:solidFill>
                  <a:srgbClr val="254061"/>
                </a:solidFill>
                <a:latin typeface="Calibri"/>
              </a:rPr>
              <a:t> výlučně </a:t>
            </a:r>
            <a:r>
              <a:rPr b="1" i="1" lang="cs-CZ" sz="2000" spc="-1" strike="noStrike">
                <a:solidFill>
                  <a:srgbClr val="254061"/>
                </a:solidFill>
                <a:latin typeface="Calibri"/>
              </a:rPr>
              <a:t>VÍROU A SVÁT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ázek 3" descr="418px-Conversión_de_San_Pablo.jpg"/>
          <p:cNvPicPr/>
          <p:nvPr/>
        </p:nvPicPr>
        <p:blipFill>
          <a:blip r:embed="rId1"/>
          <a:stretch/>
        </p:blipFill>
        <p:spPr>
          <a:xfrm>
            <a:off x="6804000" y="3284640"/>
            <a:ext cx="2141640" cy="306864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42" name="TextovéPole 5"/>
          <p:cNvSpPr/>
          <p:nvPr/>
        </p:nvSpPr>
        <p:spPr>
          <a:xfrm>
            <a:off x="6732720" y="6453360"/>
            <a:ext cx="23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de.wikipedia.org/wiki/Paulus_von_Tars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VATÁ KNIHA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křesťan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2 části: </a:t>
            </a:r>
            <a:r>
              <a:rPr b="1" lang="cs-CZ" sz="2800" spc="-1" strike="noStrike">
                <a:solidFill>
                  <a:srgbClr val="17375e"/>
                </a:solidFill>
                <a:latin typeface="Calibri"/>
              </a:rPr>
              <a:t>Starý zákon, Nový zák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tarý zákon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39 knih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křesťanského Starého záko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(x židovský: 24 kni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APLNĚNÍ STARÉHO ZÁKONA </a:t>
            </a: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v Ježíši a v rané církvi =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OVÉM IZRA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ežíš-Mesiáš: předpovězen ve Starém záko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Nov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27 kni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4 EVANGELIA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Marek, Matouš, Lukáš a J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synoptická evangelia: podobný obraz Ježíše, společný materiál: Marek, Matouš, Luká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napsána asi mezi 65-80 n.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Janovo: vznik o něco později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libri"/>
              </a:rPr>
              <a:t>2. 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SKUTKY APOŠTOLŮ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autor evangelista Luká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záznam o rané církvi od Ježíšova nanebevstoupení po konec života sv. Pav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libri"/>
              </a:rPr>
              <a:t>3. 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21 DOPISŮ ČILI EPIŠTOL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(13x Pavlovo jméno, ale také Jan, Pet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KNIHA ZJEVENÍ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Janova vize o Ježíšově vládě nad nebem i zem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katolická církev: mezi Starý a Nový zákon vkládá ještě sedm knih apokryfů (ortodoxní církev devět) x protestanti je vypouštěj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32523"/>
                </a:solidFill>
                <a:latin typeface="Calibri"/>
              </a:rPr>
              <a:t>Věrou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32523"/>
                </a:solidFill>
                <a:latin typeface="Calibri"/>
              </a:rPr>
              <a:t>4 základní dogmata o Ježíši Kristov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1. Ježíš byl mesiá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2. mesiáš byl ukřižován a vstal z mrtvý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3. nyní dostal Ježíš od Boha nejvyšší místo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neb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4. všem, kdo budou litovat svých hříchů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uvěří v Ježíše, Bůh odpu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Hlavní články ví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ejsvětější Trojice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e Bůh jako tři osoby v jedn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Bůh Otec, Bůh Syn a Bůh Duch svat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VTĚLEN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zrození Boha v lidském těle v podobě Ježíš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VYKOUPEN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míření mezi Bohem a lidmi dosažené Ježíšovou smrtí a vzkříš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JEŽÍŠ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vrcholný příklad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EBEOBĚTOVÁN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světu odpuštěny hří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Duch svatý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silou Boha v nynějším svě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inspiroval sepsání Pís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: jeho prostřednictvím dodnes promlou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vá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197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JÁDREM BOHOSLUŽBY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v římskokatolické a ortodoxní církvi (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obřady: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KONKRETIZUJÍ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věřícím tajemství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KRISTOVA VTĚLENÍ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,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SMRTI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a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VZKŘÍŠENÍ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s použitím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MATERIÁLNÍCH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 slož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0000"/>
                </a:solidFill>
                <a:latin typeface="Calibri"/>
              </a:rPr>
              <a:t>1. SVATÉ PŘIJIM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ožití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CHLEBA (HOSTIE)=TĚLA KRISTA a VÍNA=KRVE KRI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řipomenutí Ježíšovi smrti na kříži a její sdíl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katolická církev: bohoslužba spojená s příjímáním=MŠ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EUCHARISTIE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chléb (hostie) a víno posvěceny knězem – pozdvihne hostii k Bohu – podá ji každému věřícím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přijímání podjednou: věřící přijímají pouze hostii x podobojí: přijímají hostii i ví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TRANSSUBSTANCIACE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: víra katolíků, že po posvěcení se stávají chléb a víno skutečným tělem a krví Ježíš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vá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2. KŘEST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břad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UVEDENÍ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do řad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ČLENŮ CÍRK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OČIŠTĚNÍ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člověka od HŘÍC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většina křtí novorozeňata x baptisté: věřící dospěl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do 4. stol.: pokřtění dospělých úplným ponořením do vody x vysoká kojenecká úmrtnost: křest dě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3. BIŘMOVÁNÍ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řijetí z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LNOPRÁVNÉHO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člen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CÍRK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12-13 let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síleno k odpovědnosti a uvědomělému vztahu k živo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tvrzuje svoji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VÍ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vá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4. SMÍŘENÍ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ZPOVĚĎ z HŘÍCHŮ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a jejich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ODPUŠTĚNÍ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(rozhřeš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5. POSLEDNÍ POMAZÁNÍ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mazání umírajícího ole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VIATIKUM=POSLEDNÍ SVATÉ PŘIJÍM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6. VYSVĚCENÍ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ostavení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DUCHOVNÍCH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mohou sloužit v kostelech a podávat svá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7. SŇATEK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ahrnuje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ŘIJÍMÁNÍ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muž a žena podávají chleba a vín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VZÁJEM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rotestantské církve: svátosti přijímání a kř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Základn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zájem o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KAŽDÉHO ČLOVĚKA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otroky a chudinu, vyjádření určitých sociálních požada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předložení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OVÝCH</a:t>
            </a:r>
            <a:r>
              <a:rPr b="0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hodn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HUMAN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ŘÁTELSTVÍ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VZÁJEMNÉ POCHOP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PŘEKONÁNÍ STRACHU ZE SMRTI VZKŘÍŠ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vá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Zástupný symbol pro obsah 3" descr="800px-Lutherische_Abendmahlsfeier.JPG"/>
          <p:cNvPicPr/>
          <p:nvPr/>
        </p:nvPicPr>
        <p:blipFill>
          <a:blip r:embed="rId1"/>
          <a:stretch/>
        </p:blipFill>
        <p:spPr>
          <a:xfrm>
            <a:off x="852480" y="620640"/>
            <a:ext cx="3503520" cy="26272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59" name="TextovéPole 4"/>
          <p:cNvSpPr/>
          <p:nvPr/>
        </p:nvSpPr>
        <p:spPr>
          <a:xfrm>
            <a:off x="1332000" y="335772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de.wikipedia.org/wiki/Kommun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rázek 5" descr="398px-Child_baptism_with_water.jpg"/>
          <p:cNvPicPr/>
          <p:nvPr/>
        </p:nvPicPr>
        <p:blipFill>
          <a:blip r:embed="rId2"/>
          <a:stretch/>
        </p:blipFill>
        <p:spPr>
          <a:xfrm>
            <a:off x="5724360" y="466560"/>
            <a:ext cx="2127240" cy="277524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61" name="TextovéPole 6"/>
          <p:cNvSpPr/>
          <p:nvPr/>
        </p:nvSpPr>
        <p:spPr>
          <a:xfrm>
            <a:off x="5724360" y="3357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Bapt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8" descr="800px-Confirmation_blessing.jpg"/>
          <p:cNvPicPr/>
          <p:nvPr/>
        </p:nvPicPr>
        <p:blipFill>
          <a:blip r:embed="rId3"/>
          <a:stretch/>
        </p:blipFill>
        <p:spPr>
          <a:xfrm>
            <a:off x="684360" y="3716280"/>
            <a:ext cx="3892320" cy="26290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63" name="TextovéPole 9"/>
          <p:cNvSpPr/>
          <p:nvPr/>
        </p:nvSpPr>
        <p:spPr>
          <a:xfrm>
            <a:off x="147636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Confi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ázek 10" descr="486px-Исповедь_берн_собор.jpg"/>
          <p:cNvPicPr/>
          <p:nvPr/>
        </p:nvPicPr>
        <p:blipFill>
          <a:blip r:embed="rId4"/>
          <a:stretch/>
        </p:blipFill>
        <p:spPr>
          <a:xfrm>
            <a:off x="5724360" y="3716280"/>
            <a:ext cx="2127240" cy="26290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65" name="TextovéPole 11"/>
          <p:cNvSpPr/>
          <p:nvPr/>
        </p:nvSpPr>
        <p:spPr>
          <a:xfrm>
            <a:off x="5219640" y="6453360"/>
            <a:ext cx="34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Sacrament_of_Penance_(Catholic_Churc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Kos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Calibri"/>
              </a:rPr>
              <a:t>Společné prvky kostelů všech křesťanských církv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1. OLTÁŘ</a:t>
            </a: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starší kostely: věřící obrácený k oltáři zároveň čelem k VÝCHODNÍMU SMĚRU (Jeruzalém) x modernější: uprostřed kost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představuje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STŮL POSLEDNÍ VEČEŘE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(přijímání: chléb a vín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2. KAZATELNA</a:t>
            </a: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vyvýšené plošiny: pronášena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KÁZ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ústřední bod protestantských církví: důraz na hlásání Bible než na oslavu svátos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3. BAREVNÁ OKNA</a:t>
            </a: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mozaiky barevného skla –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BIBLICKÉ NÁMĚ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dříve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VIZUÁLNÍ POMŮCKA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pro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NEGRAMOTNÉ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 věří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4. KŘTITELNICE</a:t>
            </a: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VODA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 používaná při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KŘT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ve většině hned za dveřmi (křest=dveře do církve) x přenosná: uprostřed kostela: křest do rodiny věříc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5. ZPOVĚDNICE</a:t>
            </a: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starší katolické kostely: dřevěná budka s mřížkou: odděluje kněze od kajícníka x dnes: hovořit tváří v tvá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Prvky koste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Zástupný symbol pro obsah 3" descr="Unchurch.jpg"/>
          <p:cNvPicPr/>
          <p:nvPr/>
        </p:nvPicPr>
        <p:blipFill>
          <a:blip r:embed="rId1"/>
          <a:stretch/>
        </p:blipFill>
        <p:spPr>
          <a:xfrm>
            <a:off x="1042920" y="620640"/>
            <a:ext cx="2016360" cy="280836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70" name="TextovéPole 4"/>
          <p:cNvSpPr/>
          <p:nvPr/>
        </p:nvSpPr>
        <p:spPr>
          <a:xfrm>
            <a:off x="1193760" y="345744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de.wikipedia.org/wiki/Al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ázek 5" descr="403px-Město_Brno_-_kazatelna_v_kostele_Sv._Jakuba.jpg"/>
          <p:cNvPicPr/>
          <p:nvPr/>
        </p:nvPicPr>
        <p:blipFill>
          <a:blip r:embed="rId2"/>
          <a:stretch/>
        </p:blipFill>
        <p:spPr>
          <a:xfrm>
            <a:off x="3924360" y="3645000"/>
            <a:ext cx="1931760" cy="280836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72" name="TextovéPole 6"/>
          <p:cNvSpPr/>
          <p:nvPr/>
        </p:nvSpPr>
        <p:spPr>
          <a:xfrm>
            <a:off x="3995640" y="647856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azatel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ázek 7" descr="450px-Vitraj_v_Katedrale_sv._Vita_v_Praze.jpg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68776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74" name="TextovéPole 8"/>
          <p:cNvSpPr/>
          <p:nvPr/>
        </p:nvSpPr>
        <p:spPr>
          <a:xfrm>
            <a:off x="1187280" y="649116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Vitrá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rázek 9" descr="800px-Sovana_z11.jpg"/>
          <p:cNvPicPr/>
          <p:nvPr/>
        </p:nvPicPr>
        <p:blipFill>
          <a:blip r:embed="rId4"/>
          <a:stretch/>
        </p:blipFill>
        <p:spPr>
          <a:xfrm>
            <a:off x="3924360" y="620640"/>
            <a:ext cx="4103640" cy="273708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76" name="TextovéPole 10"/>
          <p:cNvSpPr/>
          <p:nvPr/>
        </p:nvSpPr>
        <p:spPr>
          <a:xfrm>
            <a:off x="4932360" y="33829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Křtiteln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ázek 11" descr="Chelmno_kosciol_pofranciszkanski_konfesjonal.jpg"/>
          <p:cNvPicPr/>
          <p:nvPr/>
        </p:nvPicPr>
        <p:blipFill>
          <a:blip r:embed="rId5"/>
          <a:stretch/>
        </p:blipFill>
        <p:spPr>
          <a:xfrm>
            <a:off x="6012000" y="3645000"/>
            <a:ext cx="2016000" cy="280836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78" name="TextovéPole 12"/>
          <p:cNvSpPr/>
          <p:nvPr/>
        </p:nvSpPr>
        <p:spPr>
          <a:xfrm>
            <a:off x="6041880" y="64785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Zpovědn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Cyklus křesťanských svát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NEDĚLNÍ SHROMÁŽDĚNÍ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společná večeře: tzv. „lámání chleba“: připomenutí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POSLEDNÍ VEČEŘE PÁNĚ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s apošt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tento první den pracovního týdne – označován jako den Páně – později pracovní klid (nepracovní den – nedě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Calibri"/>
              </a:rPr>
              <a:t>VELIKONOCE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NEDĚLE PO PRVNÍM JARNÍM ÚPLŇKU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(podle lunárního kalendáře – svátek pohybliv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ŠESTITÝDENNÍ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přípravné období=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40 DENNÍ POSTNÍ DO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počátek: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POPELEČNÍ STŘEDA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(kajícník se posypával popelem): čtyři dny před první postní neděl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poslední šestý </a:t>
            </a: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SVATÝ TÝDEN: KVĚTNÁ=PAŠIJOVÁ 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neděle: Ježíšův vjezd do Jeruzalé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ZPŘÍTOMNĚNÍ JEŽÍŠOVA ZMRTVÝCHVST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slavení podle židovského dělení času: den začíná večerem předchozího dne: tedy čtvrtečním večere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ZELENÝ ČTVRTEK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poslední večeře Páně, Jidášova zrada, Ježíšovo zatč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VELKÝ PÁTEK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smutek nad Ježíšovou smrtí, den velkého po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BÍLÁ SOBOTA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spočinutí Ježíšova těla v hrobě, p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7375e"/>
                </a:solidFill>
                <a:latin typeface="Calibri"/>
              </a:rPr>
              <a:t>NEDĚLE</a:t>
            </a:r>
            <a:r>
              <a:rPr b="1" lang="cs-CZ" sz="1800" spc="-1" strike="noStrike">
                <a:solidFill>
                  <a:srgbClr val="632523"/>
                </a:solidFill>
                <a:latin typeface="Calibri"/>
              </a:rPr>
              <a:t>: Ježíšovo zmrtvýchvst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Cyklus křesťanských svát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VÁNOC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slav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ŽÍŠOVA NARO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ústřední myšlenka: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INKARNACE=ZROZENÍ V TĚL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, početí i narození Bohočlově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řípravné období=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ADVENT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čtyři nedě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25.12.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AROZENÍ JEŽÍ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6.1. svátek Tří krá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ačátek církevního roku: 1. adventní nedě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LETNICE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Svatodušní 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ZROZENÍ křesťanské církve: k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APOŠTOLŮM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sestoupil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DUCH SVATÝ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z Kris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Křesťanství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NEJVĚTŠÍ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 náboženství na světě: dvě miliardy vyznavačů (20 000 různých církví a sek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ejvětší: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</a:rPr>
              <a:t>ŘÍMSKOKATOLICKÁ</a:t>
            </a: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: 1 200 000 000 vyznavačů; protestantské církve: 360 000 000 (anglikánská: 80 000 000), pravoslavná: 170 000 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největší účast v církvích: USA: 40%:1/4 katolí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Afrika: křesťané početnější než muslim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32523"/>
                </a:solidFill>
                <a:latin typeface="Calibri"/>
              </a:rPr>
              <a:t>Jižní Korea: každý rok o 10% věřících v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Rozšíření křesťan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Zástupný symbol pro obsah 3" descr="800px-Christian_percentage_by_country.png"/>
          <p:cNvPicPr/>
          <p:nvPr/>
        </p:nvPicPr>
        <p:blipFill>
          <a:blip r:embed="rId1"/>
          <a:stretch/>
        </p:blipFill>
        <p:spPr>
          <a:xfrm>
            <a:off x="468360" y="1125360"/>
            <a:ext cx="8353440" cy="390384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187" name="TextovéPole 4"/>
          <p:cNvSpPr/>
          <p:nvPr/>
        </p:nvSpPr>
        <p:spPr>
          <a:xfrm>
            <a:off x="3419640" y="5157720"/>
            <a:ext cx="19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Calibri"/>
              </a:rPr>
              <a:t>http://cs.wikipedia.org/wiki/Křesťanstv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32523"/>
                </a:solidFill>
                <a:latin typeface="Calibri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Eliade, Mircea: Dějiny náboženského myšlení I. Od doby kamenné po eleusinská mystéria.OIKOYMENH, Praha 199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Průvodce Biblí. Česká biblická společnost, Praha 199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Historicko-společenský kontext v době vz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rok 6 n.l.: Palestina definitivně </a:t>
            </a:r>
            <a:r>
              <a:rPr b="1" i="1" lang="cs-CZ" sz="2600" spc="-1" strike="noStrike">
                <a:solidFill>
                  <a:srgbClr val="17375e"/>
                </a:solidFill>
                <a:latin typeface="Calibri"/>
              </a:rPr>
              <a:t>ŘÍMSKOU PROVINCIÍ (PILÁT PONSKÝ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</a:rPr>
              <a:t>NÁBOŽENSKÁ AUTONOMIE ŽIDŮ</a:t>
            </a:r>
            <a:r>
              <a:rPr b="0" lang="cs-CZ" sz="2600" spc="-1" strike="noStrike">
                <a:solidFill>
                  <a:srgbClr val="632523"/>
                </a:solidFill>
                <a:latin typeface="Calibri"/>
              </a:rPr>
              <a:t>: </a:t>
            </a: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synedrium s nejvyšším knězem (židovská veler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v lidu </a:t>
            </a:r>
            <a:r>
              <a:rPr b="1" i="1" lang="cs-CZ" sz="2600" spc="-1" strike="noStrike">
                <a:solidFill>
                  <a:srgbClr val="17375e"/>
                </a:solidFill>
                <a:latin typeface="Calibri"/>
              </a:rPr>
              <a:t>ODPOR</a:t>
            </a:r>
            <a:r>
              <a:rPr b="0" lang="cs-CZ" sz="2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proti římské nadvládě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jejich pohled upřen k budoucnosti – naděje na obnovení </a:t>
            </a:r>
            <a:r>
              <a:rPr b="1" i="1" lang="cs-CZ" sz="2600" spc="-1" strike="noStrike">
                <a:solidFill>
                  <a:srgbClr val="17375e"/>
                </a:solidFill>
                <a:latin typeface="Calibri"/>
              </a:rPr>
              <a:t>DAVIDOVSKÉHO</a:t>
            </a:r>
            <a:r>
              <a:rPr b="0" lang="cs-CZ" sz="2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království (příchod Mesiáše – Krist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32523"/>
                </a:solidFill>
                <a:latin typeface="Calibri"/>
              </a:rPr>
              <a:t>důraz na zachovávání Zákona (obřízka, dodržování šabatu, stravovací předpis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Historicko-společenský kontext v době vzni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alibri"/>
              </a:rPr>
              <a:t>Směry židovství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FARIZEOVÉ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HLAVNÍ PŘEDSTAVITELÉ ŽIDOVSTV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kladen hlavní důraz na </a:t>
            </a: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plnění předpisů rituálních, kultických a mravn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oddělovali se od nižších vrstev – </a:t>
            </a: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pocity nadřaze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SADUCEOVÉ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kněžská kasta</a:t>
            </a:r>
            <a:r>
              <a:rPr b="0" i="1" lang="cs-CZ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(velekněží),</a:t>
            </a: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přední místa ve správě židovského st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přísné dodržování Zákona</a:t>
            </a:r>
            <a:r>
              <a:rPr b="0" i="1" lang="cs-CZ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(uznání jen Pentateuchu), nevěřili v Mesiáš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ESEJCI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žili v uzavřenosti, pilná práce, společenství majetku, odmítali nási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ZÉLÓTI</a:t>
            </a:r>
            <a:r>
              <a:rPr b="0" lang="cs-CZ" sz="2000" spc="-1" strike="noStrike">
                <a:solidFill>
                  <a:srgbClr val="632523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lidové protiřímské hnutí</a:t>
            </a: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burcující k násilnému povst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632523"/>
                </a:solidFill>
                <a:latin typeface="Calibri"/>
              </a:rPr>
              <a:t>myšlenka pomsty Pomaza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7375e"/>
                </a:solidFill>
                <a:latin typeface="Calibri"/>
              </a:rPr>
              <a:t>do mesiášské doby promítá sociální tou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vatý Jan Křti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ŘEDCHŮDCE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dchod na poušť v blízkosti Jerich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asketická životosprá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hlásal, že království Boží se přiblíž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znamoval příchod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MESIÁŠE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rysy pomazaného krá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důraz n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OK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rováděl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ŘEST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: zasvěcování pro Boží království, očištění od všech dřívějších špatností (v řece Jordá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Boží soud i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roti členům izraelského národa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předtím očekáván soud nad jinými národy, vyvýšení Izrae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nechal se od něj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POKŘTÍT I JEŽÍŠ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Jan ho uznal za Mesiáš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220px-Guido_Reni_063.jpg"/>
          <p:cNvPicPr/>
          <p:nvPr/>
        </p:nvPicPr>
        <p:blipFill>
          <a:blip r:embed="rId1"/>
          <a:stretch/>
        </p:blipFill>
        <p:spPr>
          <a:xfrm>
            <a:off x="6516720" y="260280"/>
            <a:ext cx="2235240" cy="3168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57" name="TextovéPole 4"/>
          <p:cNvSpPr/>
          <p:nvPr/>
        </p:nvSpPr>
        <p:spPr>
          <a:xfrm>
            <a:off x="6516720" y="350028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en.wikipedia.org/wiki/John_the_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Postava Ježíše Krista – historická fa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900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narozen za vlády palestinského krále Heroda Velikého as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roku 4/5 před.n.l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 –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ukřižován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mezi rokem 30 až 33 n.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mlád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V NAZARET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syn tesaře (čtyři bratři, několik sest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zaujat Janovým kázání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dával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ZÁKONU NOVÝ SMYSL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bez ohledu 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TRADICE</a:t>
            </a:r>
            <a:r>
              <a:rPr b="0" i="1" lang="cs-CZ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(pohoršoval farizeje a zákoník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mohl rozpoutat lidové povstání proti Řím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Bůh jako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PÁN MILOST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otvírá své králov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CHUDÝM, ZAVRŽENÝM a ZATRACENÝM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(židé: důraz na pozemské statk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rozhodnutí synedrionu o jeho smrti  (jako rušitele trad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vydán soudu Piláta Pontského jako buřič – jako takový ukřižov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310px-Spas_vsederzhitel_sinay.jpg"/>
          <p:cNvPicPr/>
          <p:nvPr/>
        </p:nvPicPr>
        <p:blipFill>
          <a:blip r:embed="rId1"/>
          <a:stretch/>
        </p:blipFill>
        <p:spPr>
          <a:xfrm>
            <a:off x="7596360" y="1144440"/>
            <a:ext cx="1368360" cy="26449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61" name="TextovéPole 4"/>
          <p:cNvSpPr/>
          <p:nvPr/>
        </p:nvSpPr>
        <p:spPr>
          <a:xfrm>
            <a:off x="7128000" y="38606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Ježíš_Kris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Evangelia a Ježíš Kris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EVANGELIUM = DOBRÁ ZPRÁVA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o život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Ježíše Kr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čtyři novozákonní evangel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MAREK, MATOUŠ, LUKÁŠ A J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vznikla 30 let po Ježíšově sm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chtějí ukázat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JEŽÍŠŮV VÝZNAM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pro křesť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základní zámě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ÁZAT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evangelium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NEVĚŘÍCÍM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k obrá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VĚŘÍCÍM K POSÍLENÍ VÍRY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(nejde o čistě historickou zprá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DĚJINY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632523"/>
                </a:solidFill>
                <a:latin typeface="Calibri"/>
              </a:rPr>
              <a:t>viděné</a:t>
            </a:r>
            <a:r>
              <a:rPr b="0" lang="cs-CZ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OČIMA</a:t>
            </a:r>
            <a:r>
              <a:rPr b="0" i="1" lang="cs-CZ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</a:rPr>
              <a:t>KŘESŤA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3" descr="170px-Papyrus52sw.jpg"/>
          <p:cNvPicPr/>
          <p:nvPr/>
        </p:nvPicPr>
        <p:blipFill>
          <a:blip r:embed="rId1"/>
          <a:stretch/>
        </p:blipFill>
        <p:spPr>
          <a:xfrm>
            <a:off x="6659640" y="981000"/>
            <a:ext cx="2351160" cy="3384720"/>
          </a:xfrm>
          <a:prstGeom prst="rect">
            <a:avLst/>
          </a:prstGeom>
          <a:ln cap="rnd" w="38160">
            <a:solidFill>
              <a:srgbClr val="632523"/>
            </a:solidFill>
            <a:round/>
          </a:ln>
        </p:spPr>
      </p:pic>
      <p:sp>
        <p:nvSpPr>
          <p:cNvPr id="65" name="TextovéPole 4"/>
          <p:cNvSpPr/>
          <p:nvPr/>
        </p:nvSpPr>
        <p:spPr>
          <a:xfrm>
            <a:off x="6875640" y="443700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632523"/>
                </a:solidFill>
                <a:latin typeface="Arial"/>
              </a:rPr>
              <a:t>http://cs.wikipedia.org/wiki/Evangel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0:16:17Z</dcterms:created>
  <dc:creator>Kacenka</dc:creator>
  <dc:description/>
  <dc:language>en-US</dc:language>
  <cp:lastModifiedBy>Kacenka</cp:lastModifiedBy>
  <dcterms:modified xsi:type="dcterms:W3CDTF">2013-01-02T17:25:22Z</dcterms:modified>
  <cp:revision>26</cp:revision>
  <dc:subject/>
  <dc:title>Křesťanství</dc:title>
</cp:coreProperties>
</file>