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F0B-B82E-49B5-8152-D793C31B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F0D-9A18-487B-AD85-2ABD7C0D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572-A00E-401F-AC5D-2CB510AC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A7C-80EC-4DD1-B372-9F2E06D5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9BF-88EB-4819-BAEC-571E6BF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783-591D-4845-9E43-C920BBD1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401-8111-4FDC-B97C-B1AB658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A95-B28D-426C-A6D9-FA70BF9C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33E-3F89-45B6-9DD5-73EFA306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3BC-FCD9-45E5-915B-168A554B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B82-0350-49C0-97EC-221F8EF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AC7-91E0-4901-BA59-9E7B9181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A47C-20A6-4F8B-8936-F88F8BBB32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600" spc="-1" strike="noStrike">
                <a:solidFill>
                  <a:srgbClr val="002060"/>
                </a:solidFill>
                <a:latin typeface="Calibri"/>
              </a:rPr>
              <a:t>Dějiny žid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7"/>
          <p:cNvSpPr/>
          <p:nvPr/>
        </p:nvSpPr>
        <p:spPr>
          <a:xfrm>
            <a:off x="7169040" y="1573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2060"/>
                </a:solidFill>
                <a:latin typeface="Calibri"/>
              </a:rPr>
              <a:t>VY_32_INOVACE_22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7165800" y="63928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2060"/>
                </a:solidFill>
                <a:latin typeface="Calibri"/>
              </a:rPr>
              <a:t>Mgr. Kateřina Budín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Římské období (37 př.n.l. – 324 n.l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Judea podřízena římské správě – v čele římský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rokurá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časté protiřímské povstání (snaha Římanů židy omezova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židovská válka v letech 66-73 n.l.: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dé krutě poraženi, Jeruzalém dobyt,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Chrám vypá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alší římský útlak, další povstání (Bar Kochba 132-135 n.l.) – poraženo – židé odcházejí ze země 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DIASPOR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do Evrop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Obrázek 3" descr="Sack_of_jerusalem.JPG"/>
          <p:cNvPicPr/>
          <p:nvPr/>
        </p:nvPicPr>
        <p:blipFill>
          <a:blip r:embed="rId1"/>
          <a:stretch/>
        </p:blipFill>
        <p:spPr>
          <a:xfrm>
            <a:off x="1835280" y="3429000"/>
            <a:ext cx="5541840" cy="299412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71" name="TextovéPole 4"/>
          <p:cNvSpPr/>
          <p:nvPr/>
        </p:nvSpPr>
        <p:spPr>
          <a:xfrm>
            <a:off x="3132000" y="6526080"/>
            <a:ext cx="28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Sack_of_jerusalem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Antijudaismus v an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judaismus chápán jak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ÝCHA A KRITIKA HELENISTICKÉHO NÁBOŽEN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judaismus byl tzv.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OVOLENÉ</a:t>
            </a:r>
            <a:r>
              <a:rPr b="1" i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áboženství: osvobozen od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císařského kultu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(ten ale odrážel loajalitu k císaři i ke státu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edpisy 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šabatu a stravování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bránily židům v normálním pohanském životě – předmětem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výsměchu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pohan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ezobrazitelný bůh Izraele je vznešenější než zlatá modla –antický člověk jeho nezobrazitelnost nechá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židé mají dobrý důvod, proč ho skrý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„</a:t>
            </a: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Židovský středověk“(od 7. – 17.-18. století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7. století dobytí Palestiny Araby: islá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8. – 10. století: židovská společenství ve střední Evrop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8. století: judaismus převzali Chazarové (mezi Černým a Kaspickým moř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vní polovina 12. stolet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dé na Pyrenejském poloostrově, jižní Fran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2. – 13. stol.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stěhování německých židů na východ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 židovské němčiny v neněmeckém prostřed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zniklo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IDIŠ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jazy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300: židé vyhnáni i z Francie a Ang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východní Evropa od Litvy po Ukrajinu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těžiště židovského osíd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416px-Page_from_Yiddish-Hebrew-Latin-German_dictionary_by_Elijah_Levita.jpg"/>
          <p:cNvPicPr/>
          <p:nvPr/>
        </p:nvPicPr>
        <p:blipFill>
          <a:blip r:embed="rId1"/>
          <a:stretch/>
        </p:blipFill>
        <p:spPr>
          <a:xfrm>
            <a:off x="6488280" y="2730600"/>
            <a:ext cx="2535120" cy="365112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77" name="TextovéPole 4"/>
          <p:cNvSpPr/>
          <p:nvPr/>
        </p:nvSpPr>
        <p:spPr>
          <a:xfrm>
            <a:off x="6588000" y="645336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en.wikipedia.org/wiki/Yiddish_langu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6"/>
          <p:cNvSpPr/>
          <p:nvPr/>
        </p:nvSpPr>
        <p:spPr>
          <a:xfrm>
            <a:off x="6516720" y="245412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2060"/>
                </a:solidFill>
                <a:latin typeface="Calibri"/>
              </a:rPr>
              <a:t>Slovník němčina –latina-hebrejština-jidi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Životní podmínky židů ve středově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obývají uzavřené ulice a čtvrti: odpovídalo i jejich vlastním potřebám: blízko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SYNANOGY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, hranice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ŠABATU</a:t>
            </a:r>
            <a:r>
              <a:rPr b="1" lang="cs-CZ" sz="2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KOŠER</a:t>
            </a:r>
            <a:r>
              <a:rPr b="1" lang="cs-CZ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řezníci,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RITUÁLNÍ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 koupe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GHETTA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 zřizována po roce 1434 (basilejský konci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nejstarší: 1462 ve Frankfurtu nad Mohan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1215: rozhodnutí o odlišení židů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OBLEČENÍM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: němečtí židé špičatý klobouk s rohy, později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ŽLUTÁ SKVRNA ČI ŽLUTÝ KRUH </a:t>
            </a:r>
            <a:r>
              <a:rPr b="1" lang="cs-CZ" sz="2200" spc="-1" strike="noStrike">
                <a:solidFill>
                  <a:srgbClr val="002060"/>
                </a:solidFill>
                <a:latin typeface="Calibri"/>
              </a:rPr>
              <a:t>na vnější straně oděvu, obvyklé </a:t>
            </a:r>
            <a:r>
              <a:rPr b="1" i="1" lang="cs-CZ" sz="2200" spc="-1" strike="noStrike">
                <a:solidFill>
                  <a:srgbClr val="c00000"/>
                </a:solidFill>
                <a:latin typeface="Calibri"/>
              </a:rPr>
              <a:t>KAFTANY, PEJZ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Krakow_Ghetto_Gate_73170.jpg"/>
          <p:cNvPicPr/>
          <p:nvPr/>
        </p:nvPicPr>
        <p:blipFill>
          <a:blip r:embed="rId1"/>
          <a:stretch/>
        </p:blipFill>
        <p:spPr>
          <a:xfrm>
            <a:off x="900000" y="3789360"/>
            <a:ext cx="4176720" cy="278460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82" name="TextovéPole 5"/>
          <p:cNvSpPr/>
          <p:nvPr/>
        </p:nvSpPr>
        <p:spPr>
          <a:xfrm>
            <a:off x="1230480" y="6585120"/>
            <a:ext cx="33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Krakow_Ghetto_Gate_73170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rázek 6" descr="450px-Bnei_Brak_IMG_5976.JPG"/>
          <p:cNvPicPr/>
          <p:nvPr/>
        </p:nvPicPr>
        <p:blipFill>
          <a:blip r:embed="rId2"/>
          <a:stretch/>
        </p:blipFill>
        <p:spPr>
          <a:xfrm>
            <a:off x="5580000" y="3403440"/>
            <a:ext cx="2376720" cy="316872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84" name="TextovéPole 7"/>
          <p:cNvSpPr/>
          <p:nvPr/>
        </p:nvSpPr>
        <p:spPr>
          <a:xfrm>
            <a:off x="5651640" y="65912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en.wikipedia.org/wiki/Haredi_Juda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Středověký křesťansko-židovský antagonism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motiv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BOHOVRAŽDY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ukřižování Ježíš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židovská diaspora – chápána jak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TREST BOŽ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ĎÁBLŮV NÁSTROJ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 křesťanském svě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motiv „židovské svině“ – ďábelský symb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bviňováni z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RITUÁLNÍCH VRAŽ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4. století: obvinění z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OTRAVOVÁNÍ STUDN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elká epidemie moru v letech 1348-134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Židé v raném středově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litická a právní diskrimin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VYLOUČEN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židů z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VEŘEJNÝCH ÚŘ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bdobí vlády Karlovců v Evropě (Franská říš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chrana: ceněni jak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LÉKAŘI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OBCHODNÍCI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, zajišťovali námořní 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křest pohanských otroků ve vlastnictví židů pouze s povolením židů-křesťanská církev se bouř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Křížové výpravy a jejich důsled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095: vyhlášení první křížové výpravy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OGROMY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na židovské ob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edevším v Německu velmi krva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kvůli nebezpečí se stahují do blízkosti panských rezidencí a hradů – postupná ztráta nároku n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OZEMKOVÉ VLAS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stupně ztrát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RÁVA NA ZBRA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Komorní otroctv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právní systé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zranění či zabití žida – </a:t>
            </a:r>
            <a:r>
              <a:rPr b="1" i="1" lang="cs-CZ" sz="3000" spc="-1" strike="noStrike">
                <a:solidFill>
                  <a:srgbClr val="c00000"/>
                </a:solidFill>
                <a:latin typeface="Calibri"/>
              </a:rPr>
              <a:t>PROVINĚNÍ</a:t>
            </a: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 se proti </a:t>
            </a:r>
            <a:r>
              <a:rPr b="1" i="1" lang="cs-CZ" sz="3000" spc="-1" strike="noStrike">
                <a:solidFill>
                  <a:srgbClr val="c00000"/>
                </a:solidFill>
                <a:latin typeface="Calibri"/>
              </a:rPr>
              <a:t>DAŇOVÝM</a:t>
            </a: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 zájmům císař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původně myšleno jako ochrana židů – postupně předmětem hospodářské politi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trpěni tak dlouho, dokud měli svůj </a:t>
            </a:r>
            <a:r>
              <a:rPr b="1" i="1" lang="cs-CZ" sz="3000" spc="-1" strike="noStrike">
                <a:solidFill>
                  <a:srgbClr val="c00000"/>
                </a:solidFill>
                <a:latin typeface="Calibri"/>
              </a:rPr>
              <a:t>HOSPODÁŘSKÝ VÝZN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hospodářsky nelukrativní - vypověze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2060"/>
                </a:solidFill>
                <a:latin typeface="Calibri"/>
              </a:rPr>
              <a:t>zavedení pravidelné daně z hlav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Dvorští žid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armádní dodavatelé na habsburském dvoř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rakouští židé díky tomu kontakty s vyššími vrstvami obyvatels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ipodobnění životního sty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tále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EROVNOPRÁVN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– jejich privilegia a právo pobytu omezeno na 10-25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ke konci 18. století zlepšení právních podmínek židů u d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masa chudých židů stále v právní nejisto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ůjčování na zástavu (úrokové obchody mezi křesťany nemorální) – monopolní postav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Osvícenství, tolerance, emanci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svícenský absolutistický stá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ODPORA VYROVNÁNÍ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židů s ostatním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ymazání židovských zvláštnost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Josef II.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TOLERANČNÍ PATENT</a:t>
            </a:r>
            <a:r>
              <a:rPr b="1" lang="cs-CZ" sz="28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INTEGRACE</a:t>
            </a:r>
            <a:r>
              <a:rPr b="1" lang="cs-CZ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židů jako užitečných státních občanů; přijmutí určitých křestních jmen, povinnost vést matriky něme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řijetí světského vzdělání, užívání spisovné němčiny – zřeknutí se židovské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stupné slavení liturgie v němčině (židé cítí šanci na zlepšení postave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emusí nosit ozna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rázek 3" descr="Toleranzpatent_001.jpg"/>
          <p:cNvPicPr/>
          <p:nvPr/>
        </p:nvPicPr>
        <p:blipFill>
          <a:blip r:embed="rId1"/>
          <a:stretch/>
        </p:blipFill>
        <p:spPr>
          <a:xfrm>
            <a:off x="7443720" y="115920"/>
            <a:ext cx="1577880" cy="223344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98" name="TextovéPole 4"/>
          <p:cNvSpPr/>
          <p:nvPr/>
        </p:nvSpPr>
        <p:spPr>
          <a:xfrm>
            <a:off x="7380360" y="23493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Toleranzpatent_00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Kanna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bývali jej různé náro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3000 př.n.l.: semitské kmeny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KENANEJC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vnitro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700 př.n.l.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FÉNIČANÉ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pod pohořím Libanon na pobřeží Stř. mo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300 př.n.l.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ELIŠTEJC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na jihu této oblasti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ALESTIN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800 př.n.l.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EBREJC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příchod do Palestiny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MONOTEISTICKÉ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nábožen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Abrahám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yvedl na příkaz Boha svůj rod z Uru do Kanaánnu („věčné vlastnictví země“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nešní Izraelci jako potomci Abrahamovi mají božské právo na vlastnictví své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brahámův vnuk Jákob obdržel jméno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IZRAEL = BŮH SPOJ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jeden z izraelských kmenů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EHUD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pojmenován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UDE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pro ži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Antisemitismus 19. stole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560" y="907920"/>
            <a:ext cx="8713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2. polovině 19. století plná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OLITICKÁ ROVNOPRÁVNOST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ntisemitismus: nástroj politické agit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DREYFUSSOVA AFÉRA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e Francii,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ILSNERIÁDA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v Čechá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dmítání proto, že chtějí být stejní (předtím proto, že jsou ji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 Evropy příliv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VÝCHODNÍCH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ži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emožnost působit ve státní správě, armádě, justici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růst jejich podílu na tzv.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VOBODNÝCH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povoláních: lékaři, advokáti, umělci (perspektivní povolá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evraživost díky úspěchu židovských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ODNIKATELŮ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továrníků) – </a:t>
            </a: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„kapitalističtí vykořisťovatelé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ový rys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RASOVÝ ANTISEMITISMUS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boj na základě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IOLOGICKÉ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ODSTATY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a ne ví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Karikatura východního ž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ázek 5" descr="20121020212015!1904_Russian_Tsar-Stop_your_cruel_oppression_of_the_Jews-LOC_hh0145s.jpg"/>
          <p:cNvPicPr/>
          <p:nvPr/>
        </p:nvPicPr>
        <p:blipFill>
          <a:blip r:embed="rId1"/>
          <a:stretch/>
        </p:blipFill>
        <p:spPr>
          <a:xfrm>
            <a:off x="971640" y="981000"/>
            <a:ext cx="7443720" cy="50547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03" name="TextovéPole 4"/>
          <p:cNvSpPr/>
          <p:nvPr/>
        </p:nvSpPr>
        <p:spPr>
          <a:xfrm>
            <a:off x="3708360" y="6165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de.wikipedia.org/wiki/Pog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Sion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reakce na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NEPODAŘENOU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emancip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avzdory své snaze nebyli okolím přij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úsilí o návrat do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ZASLÍBENÉ ZEMĚ – PALESTINY (Kanaánu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Sión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– vrchol v Jeruzalé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akladatel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THEODOR HERZ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OGROMY V RUSKU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letech 1881-1882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íčina prvn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CÍLENÉ EMIGRACE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dovských kolonistů do Palest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882-1904: příchod asi 25 000 ži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 Palestině vznikají tzv.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KIBUCI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acovní tábory, kultivace neúrodných oblastí, společné vlastnictví vše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Kibu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Zástupný symbol pro obsah 3" descr="800px-Kfar_Etzion_1947.jpg"/>
          <p:cNvPicPr/>
          <p:nvPr/>
        </p:nvPicPr>
        <p:blipFill>
          <a:blip r:embed="rId1"/>
          <a:stretch/>
        </p:blipFill>
        <p:spPr>
          <a:xfrm>
            <a:off x="611280" y="836640"/>
            <a:ext cx="3816360" cy="25797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08" name="TextovéPole 4"/>
          <p:cNvSpPr/>
          <p:nvPr/>
        </p:nvSpPr>
        <p:spPr>
          <a:xfrm>
            <a:off x="1116000" y="3475080"/>
            <a:ext cx="28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Kfar_Etzion_194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ek 6" descr="Mishmar_HaEmek.JPG"/>
          <p:cNvPicPr/>
          <p:nvPr/>
        </p:nvPicPr>
        <p:blipFill>
          <a:blip r:embed="rId2"/>
          <a:stretch/>
        </p:blipFill>
        <p:spPr>
          <a:xfrm>
            <a:off x="4746600" y="836640"/>
            <a:ext cx="3857760" cy="25923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10" name="TextovéPole 7"/>
          <p:cNvSpPr/>
          <p:nvPr/>
        </p:nvSpPr>
        <p:spPr>
          <a:xfrm>
            <a:off x="5221440" y="348300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en.wikipedia.org/wiki/File:Mishmar_HaEmek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rázek 8" descr="800px-PikiWiki_Israel_3290_Picking_Cotton.jpg"/>
          <p:cNvPicPr/>
          <p:nvPr/>
        </p:nvPicPr>
        <p:blipFill>
          <a:blip r:embed="rId3"/>
          <a:stretch/>
        </p:blipFill>
        <p:spPr>
          <a:xfrm>
            <a:off x="622440" y="3789360"/>
            <a:ext cx="3805200" cy="252108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12" name="TextovéPole 9"/>
          <p:cNvSpPr/>
          <p:nvPr/>
        </p:nvSpPr>
        <p:spPr>
          <a:xfrm>
            <a:off x="755640" y="638172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en.wikipedia.org/wiki/File:PikiWiki_Israel_3290_Picking_Cotto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ázek 10" descr="Second_aliyah_Pioneers_in_Migdal_1912_in_kuffiyeh.jpg"/>
          <p:cNvPicPr/>
          <p:nvPr/>
        </p:nvPicPr>
        <p:blipFill>
          <a:blip r:embed="rId4"/>
          <a:stretch/>
        </p:blipFill>
        <p:spPr>
          <a:xfrm>
            <a:off x="4716360" y="3789360"/>
            <a:ext cx="3888000" cy="251928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14" name="TextovéPole 11"/>
          <p:cNvSpPr/>
          <p:nvPr/>
        </p:nvSpPr>
        <p:spPr>
          <a:xfrm>
            <a:off x="4572000" y="64040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en.wikipedia.org/wiki/File:Second_aliyah_Pioneers_in_Migdal_1912_in_kuffiyeh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1. světová vá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0972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917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ALFOUROVA DEKLARACE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vláda VB se staví příznivě ke vzniku židovského státu (vzpruha pro židy, zrada pro Araby – napětí začín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920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RITOVÉ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vyhlašují nad Palestinou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MANDÁT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přechodná správa než vznikne samostatný stá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ůsledkem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ROMADNÉ STĚHOVÁNÍ ŽI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922: vydán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ÍLÉ KNIHY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pírá předchozí deklar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dé právo na stát, ale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NE ZCELA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židovsk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KVÓTY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pro počet obyvatel (tlaky ze strany Arab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30. léta: častá střetnutí židů a Arabů, v Evropě buj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ANTISEMITISMUS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– židé prchají do USA nebo Palest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Genoc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1935: </a:t>
            </a:r>
            <a:r>
              <a:rPr b="1" i="1" lang="cs-CZ" sz="2600" spc="-1" strike="noStrike">
                <a:solidFill>
                  <a:srgbClr val="c00000"/>
                </a:solidFill>
                <a:latin typeface="Calibri"/>
              </a:rPr>
              <a:t>NORIMBERSKÉ ZÁKONY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: Zákon na ochranu německé krve a c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listopad 1938: </a:t>
            </a:r>
            <a:r>
              <a:rPr b="1" i="1" lang="cs-CZ" sz="2600" spc="-1" strike="noStrike">
                <a:solidFill>
                  <a:srgbClr val="c00000"/>
                </a:solidFill>
                <a:latin typeface="Calibri"/>
              </a:rPr>
              <a:t>KŘIŠŤÁLOVÁ NOC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: velký pogrom na ži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1941: povinnost nosit </a:t>
            </a:r>
            <a:r>
              <a:rPr b="1" i="1" lang="cs-CZ" sz="2600" spc="-1" strike="noStrike">
                <a:solidFill>
                  <a:srgbClr val="c00000"/>
                </a:solidFill>
                <a:latin typeface="Calibri"/>
              </a:rPr>
              <a:t>ŽLUTOU HVĚZDU 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s nápisem J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cílem nacistů: očistit Německo od židů (pak rozšířeno na Evrop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leden 1942: konference ve Wannsee: </a:t>
            </a:r>
            <a:r>
              <a:rPr b="1" i="1" lang="cs-CZ" sz="2600" spc="-1" strike="noStrike">
                <a:solidFill>
                  <a:srgbClr val="c00000"/>
                </a:solidFill>
                <a:latin typeface="Calibri"/>
              </a:rPr>
              <a:t>KONEČNÉ ŘEŠENÍ ŽIDOVSKÉ OTÁZKY</a:t>
            </a: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 – fyzická likvid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židé ji hebrejsky nazývají </a:t>
            </a:r>
            <a:r>
              <a:rPr b="1" lang="cs-CZ" sz="2600" spc="-1" strike="noStrike">
                <a:solidFill>
                  <a:srgbClr val="c00000"/>
                </a:solidFill>
                <a:latin typeface="Calibri"/>
              </a:rPr>
              <a:t>ŠO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2060"/>
                </a:solidFill>
                <a:latin typeface="Calibri"/>
              </a:rPr>
              <a:t>bylo vyvražděno asi 6 miliónů evropských žid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Genoc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ástupný symbol pro obsah 3" descr="Judenstern_JMW.jpg"/>
          <p:cNvPicPr/>
          <p:nvPr/>
        </p:nvPicPr>
        <p:blipFill>
          <a:blip r:embed="rId1"/>
          <a:stretch/>
        </p:blipFill>
        <p:spPr>
          <a:xfrm>
            <a:off x="1131840" y="836640"/>
            <a:ext cx="2892600" cy="261288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1187280" y="350028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Judenstern_JMW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ek 6" descr="Birkenau_gate.JPG"/>
          <p:cNvPicPr/>
          <p:nvPr/>
        </p:nvPicPr>
        <p:blipFill>
          <a:blip r:embed="rId2"/>
          <a:stretch/>
        </p:blipFill>
        <p:spPr>
          <a:xfrm>
            <a:off x="4859280" y="907920"/>
            <a:ext cx="3384720" cy="253872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23" name="TextovéPole 7"/>
          <p:cNvSpPr/>
          <p:nvPr/>
        </p:nvSpPr>
        <p:spPr>
          <a:xfrm>
            <a:off x="5076720" y="3481560"/>
            <a:ext cx="273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Birkenau_gat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ázek 8" descr="800px-Arbeit_macht_frei_sign,_main_gate_of_the_Auschwitz_I_concentration_camp,_Poland_-_20051127.jpg"/>
          <p:cNvPicPr/>
          <p:nvPr/>
        </p:nvPicPr>
        <p:blipFill>
          <a:blip r:embed="rId3"/>
          <a:stretch/>
        </p:blipFill>
        <p:spPr>
          <a:xfrm>
            <a:off x="898560" y="3789360"/>
            <a:ext cx="3313080" cy="24843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25" name="TextovéPole 9"/>
          <p:cNvSpPr/>
          <p:nvPr/>
        </p:nvSpPr>
        <p:spPr>
          <a:xfrm>
            <a:off x="1332000" y="63356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Auschwitz-Birken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rázek 10" descr="Zyklon_B_Container.jpg"/>
          <p:cNvPicPr/>
          <p:nvPr/>
        </p:nvPicPr>
        <p:blipFill>
          <a:blip r:embed="rId4"/>
          <a:stretch/>
        </p:blipFill>
        <p:spPr>
          <a:xfrm>
            <a:off x="4859280" y="3824280"/>
            <a:ext cx="3384720" cy="24843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27" name="TextovéPole 11"/>
          <p:cNvSpPr/>
          <p:nvPr/>
        </p:nvSpPr>
        <p:spPr>
          <a:xfrm>
            <a:off x="5076720" y="6381720"/>
            <a:ext cx="28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Zyklon_B_Container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znik státu Izra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945: na veřejnost hrůzy holocaustu: obrovská vlna sympatií k žid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 skončení války očekávají židé vytvoření státu na území Palesti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946:organizování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IZRAELSKÝCH VOJENSKÝCH JEDNOTEK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 Palestině-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HAGANA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(dobrovolnické jednot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B pod tlakem veřejného mínění: vzdává se odpovědnosti nad Palestin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istopad 1947: deklarace OSN: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ROZDĚLENÍ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Palestiny na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ŽIDOVSKOU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a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ARABSKOU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část, Jeruzalém zvláštní status: ochrana svatých mí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. izraelsko-arabská válk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14.5. 1948: vyhlášen stát Izra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tát je ihned napaden Egyptem, Sýrií, Libanonem, Zajordánsk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únor 1949: příměř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Izrael uhájil svou existenci, k ustavení arabského státu nedoš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UPRCHLICKÝ PROBLÉM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: 800 000 Arabů – uprchlické tábory (OSN); trvalé ohnisko nepokojů (terorism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dpora USA x SSSR: podpora Arab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Suezská k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Egypt: 1952: k moci se dostal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ABDAL NÁS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červenec 1956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ZNÁRODNĚN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anglo-francouzské Společnosti suezského průpl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B, Francie: hospodářská blokáda + vojenský útok (podílel se i Izrael – říjen 195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Izrael obsadil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INAJSKÝ POLOOSTR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SN vyslalo své jednotky do Egypta, výzva k zastavení boj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rozhodující: s vojenskou akcí nesouhlasily U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demarkační linie z roku </a:t>
            </a:r>
            <a:r>
              <a:rPr b="1" lang="cs-CZ" sz="2800" spc="-1" strike="noStrike">
                <a:solidFill>
                  <a:srgbClr val="c00000"/>
                </a:solidFill>
                <a:latin typeface="Calibri"/>
              </a:rPr>
              <a:t>19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Calibri"/>
              </a:rPr>
              <a:t>Šestidenní vá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1967: Egypt: blokáda Akabského zálivu: znemožnil Izraeli přístup do Indického oceá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okamžitá odveta Izraele: zničení většiny egyptského letec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obsazení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INAJE</a:t>
            </a: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 na jihu,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GOLANSKÝCH VÝŠIN </a:t>
            </a: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na severu (Sýrie),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ÁSMA GAZY</a:t>
            </a: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, svatých míst v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JERUZALÉM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Calibri"/>
              </a:rPr>
              <a:t>konec po 6 dnech: příměří (Arabové ale připravují odve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Kana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5" descr="Kenaan_mapa_s_popisky.jpg"/>
          <p:cNvPicPr/>
          <p:nvPr/>
        </p:nvPicPr>
        <p:blipFill>
          <a:blip r:embed="rId1"/>
          <a:stretch/>
        </p:blipFill>
        <p:spPr>
          <a:xfrm>
            <a:off x="2195640" y="907920"/>
            <a:ext cx="4895640" cy="516744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48" name="TextovéPole 6"/>
          <p:cNvSpPr/>
          <p:nvPr/>
        </p:nvSpPr>
        <p:spPr>
          <a:xfrm>
            <a:off x="3419640" y="6165720"/>
            <a:ext cx="34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Soubor:Kenaan_mapa_s_popisk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„</a:t>
            </a: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Jom kippurská válka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700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říjen 1973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EGYPT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obsazuje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INAJ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ÝRIE GOLANSKÉ VÝŠINY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ečekaný útok pro Izrael – svátek Jom kipp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březen 1979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depsání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EPARÁTNÍ MÍRO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VÉ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smlouvy mezi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IZRAELEM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EGYPTEM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(Anvar Sadat) v Camp Davi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yklizení židovských osad na Sina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esouhlas ostatních arabských stát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zrádce arabské v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49323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Mapa válečných konfliktů na </a:t>
            </a:r>
            <a:br>
              <a:rPr sz="3600"/>
            </a:b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Blízkém východ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3816360" cy="63309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38" name="TextovéPole 5"/>
          <p:cNvSpPr/>
          <p:nvPr/>
        </p:nvSpPr>
        <p:spPr>
          <a:xfrm>
            <a:off x="4751280" y="6524640"/>
            <a:ext cx="43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Šlachta, Mojmír: Ohniska napětí ve světě, Kartografie Praha, Praha 2007, str. 7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Vztahy s okolními arabskými st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Jordánsk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988: král Husajn II. se oficiálně vzdal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PRAVÉHO BŘEHU JORDÁNU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e prospěch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PALESTINC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řijalo největší množství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PALESTINSKÝCH UPRCHL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994: uzavření mírové smlouvy s Izrae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ýrie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VÁLEČNÝ STAV S IZRAELEM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, spojenectví s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ÍRÁNEM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, mrazivé vztahy s U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roblém: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GOLANSKÉ VÝŠINY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(zemědělský potenciál): Izrael je obsadil ve válce roku 1967 – roku 1981 je Izrael anektoval (OSN neuznal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elký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STRATEGICKÝ VÝZNAM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: předpolí k nástupu na Damašek; vodní zdro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Libanon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nejmenší, nestabilní, vnitřní sp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982: tažení Izraele: chtěl zlikvidovat základnu Organizace pro osvobození Palestiny (neúspěšn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 roce 2005 jih země ovládl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HIZBALLÁH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(teroristická organizace podporující Palesti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Státy Blízkého vých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835280" y="787320"/>
            <a:ext cx="5400720" cy="562140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43" name="TextovéPole 5"/>
          <p:cNvSpPr/>
          <p:nvPr/>
        </p:nvSpPr>
        <p:spPr>
          <a:xfrm>
            <a:off x="2771640" y="651996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Šlachta, Mojmír: Ohniska napětí ve světě, Kartografie Praha, Praha 2007, str. 7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Izrael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836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lízký východ: Izrael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EDINÁ FUNKČÍ DEMOKRACIE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západního ty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last pro každého s židovskými kořeny: 35,5% ze 14-15 miliónů vyznavačů judais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hmotná i duchovn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ODPORA DIASP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izraelské vojenské síly: patří k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NEJKVALITNĚJŠÍM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a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NEJEFEKTIVNĚJŠÍM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vojskům na svět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ohromné výdaje na obran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yspělá a výkonná ekonom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ÚPLNÁ ZÁVISLOST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a dovozu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ENERGETICKÝCH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surovin,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OMEZENÉ ZDROJE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NEJVYŠŠÍ ÚROVEŇ VZDĚLANOSTI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a světě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rozvoj sofistikovaných obo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Palestina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špatné přírodní zdroje, enormně zalidně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ZÁPADNÍ BŘEH JORDÁNU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Judea a Samaří),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ÁSMO GA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ezbytná zahraniční pom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ekonomika nestabil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vlivnění Izraelem: regulace dodávek energie, vody, nabídek pracovních mí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ekonomicky nejslabší část svě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říklon k extremistickým organizac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alestinské organizac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Organizace pro osvobození Palestiny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OOP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1964, Jásir Araf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Al-Fatá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Hamás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: bojovní radikálové, pokojné narovnání nepřijatelné, v čele od 2006 (hospodářský rozkl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brázek 3" descr="415px-ArafatEconomicForum.jpg"/>
          <p:cNvPicPr/>
          <p:nvPr/>
        </p:nvPicPr>
        <p:blipFill>
          <a:blip r:embed="rId1"/>
          <a:stretch/>
        </p:blipFill>
        <p:spPr>
          <a:xfrm>
            <a:off x="6732720" y="3213000"/>
            <a:ext cx="1726920" cy="249408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49" name="TextovéPole 4"/>
          <p:cNvSpPr/>
          <p:nvPr/>
        </p:nvSpPr>
        <p:spPr>
          <a:xfrm>
            <a:off x="6012000" y="580536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ArafatEconomicForum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Izrael x Pales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836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konflikty ohledně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IZRAELSKÝCH OSAD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ALESTINSKÉM ÚZEMÍ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(Palestinci je považují za nelegální) – Izrael je chce opus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alestinci se považují z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OBĚŤ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letitého konfliktu – ospravedlňuje t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ÁSILÍ A TEROR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993: obě strany se dohodly na procesu mírového urovnání (další fáze v roce 2000  ztroskota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2002: stavb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BEZPEČNOSTNÍ ZDI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a Západním břehu: zabránění průniků palestinských teroristů  - zeď zabíhá na palestinské ú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krok po vleklých válkách: Arabové se s existencí Izraele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MÍŘI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Jeruzalé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svátné měst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TŘ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světových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ÁBOŽENSTV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KŘESŤANÉ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chrám Božího hrobu, Getsemanská zahrada, Olivová ho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ŽIDÉ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Zeď nář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MUSLIMOVÉ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mešita al-Aks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na vršku Chrámové h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947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MEZINÁRODNÍ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948: Arabové obsadili celé Staré měs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(i židovskou čtvrť), židé uhájili Novou čtvr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950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HLAVNÍ MĚSTO IZRA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967: židé obsadili Jeruzalém celý – anexe nebyla uznána (zastupitelské úřady v Tel Avi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3" descr="Jerusalem_Dome_of_the_rock_BW_14.JPG"/>
          <p:cNvPicPr/>
          <p:nvPr/>
        </p:nvPicPr>
        <p:blipFill>
          <a:blip r:embed="rId1"/>
          <a:stretch/>
        </p:blipFill>
        <p:spPr>
          <a:xfrm>
            <a:off x="5867280" y="1844640"/>
            <a:ext cx="2808360" cy="187164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155" name="TextovéPole 4"/>
          <p:cNvSpPr/>
          <p:nvPr/>
        </p:nvSpPr>
        <p:spPr>
          <a:xfrm>
            <a:off x="5651640" y="378936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Arial"/>
              </a:rPr>
              <a:t>http://cs.wikipedia.org/wiki/Soubor:Jerusalem_Dome_of_the_rock_BW_14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Eliade, Mircea: Dějiny náboženského myšlení I. Od doby kamenné po eleusinská mystéria.OIKOYMENH, Praha 199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Průvodce Biblí. Česká biblická společnost, Praha 199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Schubert, Kurt: Dějiny židů. Historie, náboženství, antisemitismus, Nakladatelství Svoboda, Prah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Šlachta, Mojmír: Ohniska napětí ve světě, Kartografie Praha, Praha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Doba soudců (1200 – 1000 př.n.l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bdobí mezi obsazením Palestiny a vytvořením králov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ŘECHOD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Izraelců na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USEDLÝ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způsob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Izraelci vytlačují původní obyvatele a zabírají jejich mě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12 izraelských kmenů: podrobení kenanejských kmenů: název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EREC JISRAEL= ZEMĚ IZRAELS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 čele kmenového svazu =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OUD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ojenští velitelé, rádci a soud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kult se provozuje v posvěcených svatyních  a na svatých místech (žádná přenosná svatyně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Doba královská (1000 – 920 př.n.l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znik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TÁ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rvní král =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SA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šechny sjednotil až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DAV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centrum státu Jeruza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razil Pelištejce na jihu (souboj s Goliáš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jeho nástupce =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ŠALAMOUN</a:t>
            </a:r>
            <a:r>
              <a:rPr b="1" lang="cs-CZ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CHRÁM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v Jeruzalémě (hora Sion) – umístěna Schrána smlouvy, národní svatyně, státní nábožen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220px-Weisgerber,_Albert_-_David_a_Golias_(1914).jpg"/>
          <p:cNvPicPr/>
          <p:nvPr/>
        </p:nvPicPr>
        <p:blipFill>
          <a:blip r:embed="rId1"/>
          <a:stretch/>
        </p:blipFill>
        <p:spPr>
          <a:xfrm>
            <a:off x="5867280" y="1197000"/>
            <a:ext cx="2541600" cy="215892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54" name="TextovéPole 4"/>
          <p:cNvSpPr/>
          <p:nvPr/>
        </p:nvSpPr>
        <p:spPr>
          <a:xfrm>
            <a:off x="6156360" y="3411360"/>
            <a:ext cx="21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de.wikipedia.org/wiki/David_(Israe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Doba rozděleného království (920 – 586 př.n.l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 Šalamounově smrti: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ROZDĚLENÍ KRÁL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IZRAELSKÉ KRÁLOVSTVÍ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sever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hlavní město 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AMA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byté Asyřany 721 př.n.l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část obyvatel do otroc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část jich zůstal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jejich potomci </a:t>
            </a: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Samaritá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UDSKÉ KRÁLOVSTVÍ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(jih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hlavní město 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JERUZALÉ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Nabukadnezar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byl </a:t>
            </a: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Jeruzalém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 (586 př.n.l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ničil tzv. </a:t>
            </a:r>
            <a:r>
              <a:rPr b="1" i="1" lang="cs-CZ" sz="2400" spc="-1" strike="noStrike">
                <a:solidFill>
                  <a:srgbClr val="002060"/>
                </a:solidFill>
                <a:latin typeface="Calibri"/>
              </a:rPr>
              <a:t>první chrá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horní vrstvy židů odvlečeni do Babylonu =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BABYLÓNSKÉ ZAJ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657px-Syro-Ephraimite_War.jpg"/>
          <p:cNvPicPr/>
          <p:nvPr/>
        </p:nvPicPr>
        <p:blipFill>
          <a:blip r:embed="rId1"/>
          <a:stretch/>
        </p:blipFill>
        <p:spPr>
          <a:xfrm>
            <a:off x="5092560" y="1511280"/>
            <a:ext cx="3789360" cy="345924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58" name="TextovéPole 4"/>
          <p:cNvSpPr/>
          <p:nvPr/>
        </p:nvSpPr>
        <p:spPr>
          <a:xfrm>
            <a:off x="6227640" y="5013360"/>
            <a:ext cx="27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Soubor:Syro-Ephraimite_War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2060"/>
                </a:solidFill>
                <a:latin typeface="Calibri"/>
              </a:rPr>
              <a:t>Perské období ( 586 – 332 př.n.l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05372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odvlečení židé v Babylonu: působení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ROROKŮ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nabádání k dodržování Zá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erský panovník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Kýros</a:t>
            </a:r>
            <a:r>
              <a:rPr b="1" i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dobyl roku 539 př.n.l. Babylon: umožnil židům </a:t>
            </a:r>
            <a:r>
              <a:rPr b="1" i="1" lang="cs-CZ" sz="2800" spc="-1" strike="noStrike">
                <a:solidFill>
                  <a:srgbClr val="002060"/>
                </a:solidFill>
                <a:latin typeface="Calibri"/>
              </a:rPr>
              <a:t>návrat do vla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ůvodní království nebylo obnov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 Jeruzalémě vybudová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OVÝ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Chrám (vláda kně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erskou nadvládu ukonč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Alexandr Makedonsk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(333 př.n.l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800px-Jerusalem_Ugglan_1.jpg"/>
          <p:cNvPicPr/>
          <p:nvPr/>
        </p:nvPicPr>
        <p:blipFill>
          <a:blip r:embed="rId1"/>
          <a:stretch/>
        </p:blipFill>
        <p:spPr>
          <a:xfrm>
            <a:off x="4859280" y="3573360"/>
            <a:ext cx="4040280" cy="280836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62" name="TextovéPole 4"/>
          <p:cNvSpPr/>
          <p:nvPr/>
        </p:nvSpPr>
        <p:spPr>
          <a:xfrm>
            <a:off x="5724360" y="6454800"/>
            <a:ext cx="23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cs.wikipedia.org/wiki/Jeruzalémský_chrá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Helénistické období (332 – 37 př.n.l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pojenectví s Alexandrem→život podle Tó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ostupná řecká kolonizace Palest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likvidační nařízení vůč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židovskému náboženství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makabejské povstání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: 164 př.n.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dobytí Jeruzaléma a získání Chrá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vznikl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HASMONEJSKÉ KRÁLOVSTVÍ</a:t>
            </a:r>
            <a:r>
              <a:rPr b="1" i="1" lang="cs-CZ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roku 63 př.n.l. dobyto Římany (Pompei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</a:rPr>
              <a:t>Judea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začleněna do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ŘÍMSKÉ ŘÍŠ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40 př.n.l.: judským králem prohlášen Hero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rozšířil území, přestavba jeruzalémského chrá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060"/>
                </a:solidFill>
                <a:latin typeface="Calibri"/>
              </a:rPr>
              <a:t>Herodova přestavba Chrá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3" descr="800px-Jerusalem_Modell_BW_2.JPG"/>
          <p:cNvPicPr/>
          <p:nvPr/>
        </p:nvPicPr>
        <p:blipFill>
          <a:blip r:embed="rId1"/>
          <a:stretch/>
        </p:blipFill>
        <p:spPr>
          <a:xfrm>
            <a:off x="250920" y="1125360"/>
            <a:ext cx="8605800" cy="4942080"/>
          </a:xfrm>
          <a:prstGeom prst="rect">
            <a:avLst/>
          </a:prstGeom>
          <a:ln w="31680">
            <a:solidFill>
              <a:srgbClr val="002060"/>
            </a:solidFill>
            <a:miter/>
          </a:ln>
        </p:spPr>
      </p:pic>
      <p:sp>
        <p:nvSpPr>
          <p:cNvPr id="67" name="TextovéPole 4"/>
          <p:cNvSpPr/>
          <p:nvPr/>
        </p:nvSpPr>
        <p:spPr>
          <a:xfrm>
            <a:off x="3059280" y="6165720"/>
            <a:ext cx="28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2060"/>
                </a:solidFill>
                <a:latin typeface="Calibri"/>
              </a:rPr>
              <a:t>http://en.wikipedia.org/wiki/File:Jerusalem_Modell_BW_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14:12:21Z</dcterms:created>
  <dc:creator>Kacenka</dc:creator>
  <dc:description/>
  <dc:language>en-US</dc:language>
  <cp:lastModifiedBy>Kateřina Budínová</cp:lastModifiedBy>
  <dcterms:modified xsi:type="dcterms:W3CDTF">2013-05-14T05:47:59Z</dcterms:modified>
  <cp:revision>22</cp:revision>
  <dc:subject/>
  <dc:title>Dějiny židů</dc:title>
</cp:coreProperties>
</file>