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8.png" ContentType="image/png"/>
  <Override PartName="/ppt/media/image14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0EA-BEE4-4011-8406-FA341BBE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09A-801E-45D2-8B1E-10F9D6F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1A0-8C1A-4D64-8738-A244C280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6C6-73A4-4736-9456-BE0BCEAF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3F0-76FF-4558-86B1-160E6A7C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823-9BF5-426B-A957-F1065F2B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007A-23F6-4D69-8AED-5B4C3DDD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6AA-B1EA-4E8A-932A-59DF0C70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A20-9A98-4AD7-96AF-8D2E1E3A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7013-8505-4571-A44E-3102B7C6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4CF-E537-4DC4-ADCB-624189D5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BD9-9204-42E3-B2FC-683E1AF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B0F-4178-4963-8226-19C3D032C1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0" spc="-1" strike="noStrike">
                <a:solidFill>
                  <a:srgbClr val="ffff00"/>
                </a:solidFill>
                <a:latin typeface="Calibri"/>
              </a:rPr>
              <a:t>Judaismus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rázek 5" descr="220px-Menorah_0307.jpg"/>
          <p:cNvPicPr/>
          <p:nvPr/>
        </p:nvPicPr>
        <p:blipFill>
          <a:blip r:embed="rId1"/>
          <a:stretch/>
        </p:blipFill>
        <p:spPr>
          <a:xfrm>
            <a:off x="3780000" y="2421000"/>
            <a:ext cx="1512720" cy="2136600"/>
          </a:xfrm>
          <a:prstGeom prst="rect">
            <a:avLst/>
          </a:prstGeom>
          <a:ln cap="rnd" w="111240">
            <a:solidFill>
              <a:srgbClr val="ffff00"/>
            </a:solidFill>
            <a:round/>
          </a:ln>
        </p:spPr>
      </p:pic>
      <p:sp>
        <p:nvSpPr>
          <p:cNvPr id="43" name="TextovéPole 6"/>
          <p:cNvSpPr/>
          <p:nvPr/>
        </p:nvSpPr>
        <p:spPr>
          <a:xfrm>
            <a:off x="3662280" y="465300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Men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ovéPole 7"/>
          <p:cNvSpPr/>
          <p:nvPr/>
        </p:nvSpPr>
        <p:spPr>
          <a:xfrm>
            <a:off x="7308720" y="11592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00"/>
                </a:solidFill>
                <a:latin typeface="Calibri"/>
              </a:rPr>
              <a:t>VY_32_INOVACE_22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8"/>
          <p:cNvSpPr/>
          <p:nvPr/>
        </p:nvSpPr>
        <p:spPr>
          <a:xfrm>
            <a:off x="7093080" y="623736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00"/>
                </a:solidFill>
                <a:latin typeface="Calibri"/>
              </a:rPr>
              <a:t>Mgr. Kateřina Budín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2. NEVIIM, PRORO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zjevování Hospodinovy vůle li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dělen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1, První (velcí) proroci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: a, 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JOZ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historické knih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SOUDC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               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1. a 2. 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SAMUELO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               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1. a 2. 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KRÁLOVSK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2, Pozdní proroci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: a, 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IZAJÁ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b, 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JEREMJÁ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c, Kniha </a:t>
            </a:r>
            <a:r>
              <a:rPr b="1" i="1" lang="cs-CZ" sz="2400" spc="-1" strike="noStrike">
                <a:solidFill>
                  <a:srgbClr val="ffff00"/>
                </a:solidFill>
                <a:latin typeface="Calibri"/>
              </a:rPr>
              <a:t>EZECHI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3, 12 malých proro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- předčítány o šabatu, svátcích, půst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3. KETUVIM, SPIS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část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Žalmy</a:t>
            </a:r>
            <a:r>
              <a:rPr b="0" i="1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áboženské písně, částečně složené králem Davi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b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řísloví</a:t>
            </a:r>
            <a:r>
              <a:rPr b="0" i="1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ipisovaná králi Šalamoun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Jób</a:t>
            </a:r>
            <a:r>
              <a:rPr b="0" i="1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líčí utrpení spravedliv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d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íseň písní</a:t>
            </a:r>
            <a:r>
              <a:rPr b="0" i="1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vatební milostná poezie interpretovaná nábožens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e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Rú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Nářek (pláč Jeremjášů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g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Kaza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h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h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anie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i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Ezdráš a Nechemjá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j,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Dvě knihy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Kronik, Letopis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00"/>
                </a:solidFill>
                <a:latin typeface="Calibri"/>
              </a:rPr>
              <a:t>Věrou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Calibri"/>
              </a:rPr>
              <a:t>základní dogmat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1, víra v jediného Boh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2, víra v příchod mesiáš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3, víra v nesmrtelnost duš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4, víra v existenci posmrtného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Bů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stvořitel a pán světa, nehmotný, neměnný, vševědoucí, všemocný, absolutní, nekoneč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vyznání víry: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„Slyš Izraeli, Hospodin je náš Bůh, Hospodin je jen jeden.“ </a:t>
            </a: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– základ ranní a večerní modlit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nazýván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El (Hospodin</a:t>
            </a: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),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Elohim (Bů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v Exodu uváděn jako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JAHVE </a:t>
            </a: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/JHVH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boží jméno svaté: nesmí se vyslov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smlouva mezi Jahvem a Izraelity:uctívání jediného Boha (za to zisk Země zaslíben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3708360" y="170028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Arial"/>
              </a:rPr>
              <a:t>http://cs.wikipedia.org/wiki/JHV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ázek 7" descr="220px-YHWH3.png"/>
          <p:cNvPicPr/>
          <p:nvPr/>
        </p:nvPicPr>
        <p:blipFill>
          <a:blip r:embed="rId1"/>
          <a:stretch/>
        </p:blipFill>
        <p:spPr>
          <a:xfrm>
            <a:off x="3564000" y="824040"/>
            <a:ext cx="20955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ýt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Stvoření světa</a:t>
            </a: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původ světa a života nebyl náhodn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i="1" lang="cs-CZ" sz="2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Bůh – Stvořit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všechno, co stvořil, je dobr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odlišnost lidí od všech ostatn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učinil je </a:t>
            </a:r>
            <a:r>
              <a:rPr b="1" i="1" lang="cs-CZ" sz="2800" spc="-1" strike="noStrike">
                <a:solidFill>
                  <a:srgbClr val="ffffff"/>
                </a:solidFill>
                <a:latin typeface="Calibri"/>
              </a:rPr>
              <a:t>„ke svému obrazu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člověk svou podobou a svým životem sdílí charakter stvořit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šest dní práce a poté odpočinek – řád lidské prá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vlastní stvoření způsobeno mocí slova Božího (říká: „Buď světlo!“ a bylo světlo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ý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836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Adam a Ev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Adam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znamená obecně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„člověk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Eva: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z Adamova žebra,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tejná podstata jako muž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, ideální part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chutnání ze stromu poznání dobrého a zlého (svedeni had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vzpoura proti Bohu (zákaz ochutná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vyhnáni z Eden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(odděleni od Boha, ponecháni sami sob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tres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žena: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utrpení při porodu (ohrožení na životě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muž: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namáhavé obdělání pů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mrt je otázkou ča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Obrázek 8" descr="220px-Albrecht_Dürer_002.jpg"/>
          <p:cNvPicPr/>
          <p:nvPr/>
        </p:nvPicPr>
        <p:blipFill>
          <a:blip r:embed="rId1"/>
          <a:stretch/>
        </p:blipFill>
        <p:spPr>
          <a:xfrm>
            <a:off x="6516720" y="3141720"/>
            <a:ext cx="2409840" cy="316368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86" name="TextovéPole 9"/>
          <p:cNvSpPr/>
          <p:nvPr/>
        </p:nvSpPr>
        <p:spPr>
          <a:xfrm>
            <a:off x="6804000" y="645336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Adam_a_E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ý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836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ýcha, touha podobat se Bohu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– největší hřích, jaký mohla stvořená bytost spáchat vůči svému stvořiteli =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ĚDIČNÝ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HŘÍCH, PÁ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HŘÍCH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vstoupil do lidského života jako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ŮSLEDEK NEPOSLUŠNOSTI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jeho důsledky postihlo celé lid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ohlavní styk: původně dobrý a přátelský vzta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měnil se ve smyslnou, živočišno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a pokoutní záležit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člověk je výsledkem svých vlastních či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Obrázek 3" descr="156px-Tizian_091.jpg"/>
          <p:cNvPicPr/>
          <p:nvPr/>
        </p:nvPicPr>
        <p:blipFill>
          <a:blip r:embed="rId1"/>
          <a:stretch/>
        </p:blipFill>
        <p:spPr>
          <a:xfrm>
            <a:off x="6516720" y="2637000"/>
            <a:ext cx="2359080" cy="302400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90" name="TextovéPole 4"/>
          <p:cNvSpPr/>
          <p:nvPr/>
        </p:nvSpPr>
        <p:spPr>
          <a:xfrm>
            <a:off x="6659640" y="595008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Adam_and_E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ý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62028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Kain a Ábel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emědělec Kain, pastevec Áb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Bůh přijme Ábelovu oběť, ale ne Kainov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důvod: jejich odlišná víra (ale je to i tichá obhajoba pastýřů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rostá a čistá existence nomádů x odpor proti usedlému životu zemědělc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Kain zabije Áb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Adam a Eva měli další děti – zalidnění zem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(Kain a Šét, nejmenované dce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200px-Cain_kills_Abel.png"/>
          <p:cNvPicPr/>
          <p:nvPr/>
        </p:nvPicPr>
        <p:blipFill>
          <a:blip r:embed="rId1"/>
          <a:stretch/>
        </p:blipFill>
        <p:spPr>
          <a:xfrm>
            <a:off x="6372360" y="3141720"/>
            <a:ext cx="2479680" cy="31478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94" name="TextovéPole 4"/>
          <p:cNvSpPr/>
          <p:nvPr/>
        </p:nvSpPr>
        <p:spPr>
          <a:xfrm>
            <a:off x="6804000" y="6381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K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ý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otopa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ůvod mýtu v Mezopotámii (trvání 40 dnů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dráží snad opravdové rozvodnění Černého mo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žil jediný Noe (uzavřel s Bohem novou smlouv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archa se zachytila v pohoří Arar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ové zalidnění od jeho tří synů (Šém, Chám a Jef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Obrázek 3" descr="330px-Danby-deluge.jpg"/>
          <p:cNvPicPr/>
          <p:nvPr/>
        </p:nvPicPr>
        <p:blipFill>
          <a:blip r:embed="rId1"/>
          <a:stretch/>
        </p:blipFill>
        <p:spPr>
          <a:xfrm>
            <a:off x="2484360" y="3716280"/>
            <a:ext cx="4197600" cy="274788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98" name="TextovéPole 4"/>
          <p:cNvSpPr/>
          <p:nvPr/>
        </p:nvSpPr>
        <p:spPr>
          <a:xfrm>
            <a:off x="3635280" y="652788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de.wikipedia.org/wiki/Sintfl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ý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abylónská věž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tavba až k nebi – vzpoura proti Bohu, poslední „satanský“ č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různé jazy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vaté dějiny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bjasňují původ lidstva a zároveň skutečný lidský údě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220px-Brueghel-tower-of-babel.jpg"/>
          <p:cNvPicPr/>
          <p:nvPr/>
        </p:nvPicPr>
        <p:blipFill>
          <a:blip r:embed="rId1"/>
          <a:stretch/>
        </p:blipFill>
        <p:spPr>
          <a:xfrm>
            <a:off x="2484360" y="3448080"/>
            <a:ext cx="3889440" cy="29336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02" name="TextovéPole 4"/>
          <p:cNvSpPr/>
          <p:nvPr/>
        </p:nvSpPr>
        <p:spPr>
          <a:xfrm>
            <a:off x="3419640" y="652788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Babylónská_vě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Základn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pojetí času =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LINEÁRNÍ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: tento svět má svůj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ZAČÁTEK A KONEC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, zrození jedince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JEDINEČN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náboženství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ZJEVENÉ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= seslané člověku od Boh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vztah člověka a boha: vztah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VZÁJEMNÉ LÁSKY  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a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VZÁJEMNÉ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SMLOUVY 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(vznikla z Božího popudu, zahrnovala nové zjevení Boha, kladla mravní a obřadní požadavk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IZRAELCI: VYVOLENÝ NÁROD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: zprostředkování jeho milosrdenství celému svět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vztah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HIERARCHICKÝ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: povinností člověka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NAPROSTÁ POSLUŠNOST 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Božích příkaz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princip světa: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MONISTICKÝ: VĚČNÉ 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pouze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DOBRO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, nikoli zlo (hlavní příčinou zla je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NEPOSLUŠNOST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– vzpoura člověka proti Boh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částečně svobodná vůle: může mezi dobrem a zlem volit – morální povinností je zvolit dob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člověk je Bohu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PODŘÍZEN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: stvořen k jeho obraz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atriarch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691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Abrahám</a:t>
            </a:r>
            <a:r>
              <a:rPr b="0" i="1" lang="cs-CZ" sz="2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narozen v Uruku v Babyloni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přestěhování se do Cháranu v jižním Turecku – povolání Boh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Boží slib</a:t>
            </a: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: bude mít potomstvo, početné jako hvězdy na nebes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               </a:t>
            </a: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: dostane pro ně jako dědictví zemi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Kana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vydal se na cestu (vše je projevem víry, opustil společnost i víru, kterou z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jeho víra zkoušena rozkaze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o obětování vlastního syna Izá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příklad víry (věřil všemu, co mu Bůh řek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3" descr="250px-Rembrandt_Harmensz._van_Rijn_035.jpg"/>
          <p:cNvPicPr/>
          <p:nvPr/>
        </p:nvPicPr>
        <p:blipFill>
          <a:blip r:embed="rId1"/>
          <a:stretch/>
        </p:blipFill>
        <p:spPr>
          <a:xfrm>
            <a:off x="5940360" y="3357720"/>
            <a:ext cx="2016360" cy="292572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06" name="TextovéPole 4"/>
          <p:cNvSpPr/>
          <p:nvPr/>
        </p:nvSpPr>
        <p:spPr>
          <a:xfrm>
            <a:off x="6084720" y="6381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Abrahá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atriarch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764640"/>
            <a:ext cx="6049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Izák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manželka Rebeka – dvojčata Ezau a Ják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Jákob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vymámil na bratru Ezauov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rávo prvorozenec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raotec Izraelitů: 12 synů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12 izraelských kme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cílem vyprávění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Bůh prosazuje své úmys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i skrze lidskou ctižád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ůh nás bere takové, jací js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Obrázek 3" descr="350px-12_staemme_israels_cs.png"/>
          <p:cNvPicPr/>
          <p:nvPr/>
        </p:nvPicPr>
        <p:blipFill>
          <a:blip r:embed="rId1"/>
          <a:stretch/>
        </p:blipFill>
        <p:spPr>
          <a:xfrm>
            <a:off x="5364000" y="1773360"/>
            <a:ext cx="3021120" cy="46083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10" name="TextovéPole 4"/>
          <p:cNvSpPr/>
          <p:nvPr/>
        </p:nvSpPr>
        <p:spPr>
          <a:xfrm>
            <a:off x="5219640" y="6491160"/>
            <a:ext cx="309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Izraelské_kmeny#Svazek_12_kmen.C5.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atriarch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Josef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ejmladší Jákobův sy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rodán svými bratry jako otrok do Egypta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ostupně až faraonův úředník (díky schopnosti vykládat s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hladomor v Egyptě a u okolních  náro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íchod Josefových bratrů na faraónův dvů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íchod Jákoba do Egypta (židů) – odchod až s Mojžíš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víra v Boha člověka zachr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místo obratu v příběhu :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odpuštění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Josefa svým bratr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kult „boha otců“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– bůh bezprostředního předka, kterého synové uznávaj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ůh nomádů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, který není spojen se svatyní, ale se skupinou lidí, jež doprovází a ochraň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krvavé oběti, bez kněží, bez oltá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odlit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907560"/>
            <a:ext cx="82296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modlitba = mic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denní život: ranní, odpolední a večerní modlit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modlitby individuální i veřejné – v synagoze (zapotřebí přítomnost 10 mužů židovské víry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MINJAN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ymboly modlitb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TALIT = plášť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Obrázek 3" descr="Talit.jpg"/>
          <p:cNvPicPr/>
          <p:nvPr/>
        </p:nvPicPr>
        <p:blipFill>
          <a:blip r:embed="rId1"/>
          <a:stretch/>
        </p:blipFill>
        <p:spPr>
          <a:xfrm>
            <a:off x="4140360" y="2781360"/>
            <a:ext cx="2663640" cy="35463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16" name="TextovéPole 4"/>
          <p:cNvSpPr/>
          <p:nvPr/>
        </p:nvSpPr>
        <p:spPr>
          <a:xfrm>
            <a:off x="4356000" y="6407280"/>
            <a:ext cx="23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Soubor:Talit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odlit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FYLAKTÉRIA (tfilin) = hranaté kožené krabičky se čtyřmi pasážemi písma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(přivázány na hlavě a na paž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ázek 3" descr="200px-IDF_soldier_put_on_tefillin.jpg"/>
          <p:cNvPicPr/>
          <p:nvPr/>
        </p:nvPicPr>
        <p:blipFill>
          <a:blip r:embed="rId1"/>
          <a:stretch/>
        </p:blipFill>
        <p:spPr>
          <a:xfrm>
            <a:off x="3059280" y="1886040"/>
            <a:ext cx="2927160" cy="435132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20" name="TextovéPole 4"/>
          <p:cNvSpPr/>
          <p:nvPr/>
        </p:nvSpPr>
        <p:spPr>
          <a:xfrm>
            <a:off x="2987640" y="630864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Soubor:IDF_soldier_put_on_tefillin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odlit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JARMULKA = čepička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(obnažená hlava projev neúcty k Boh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Obrázek 3" descr="220px-Kipa.jpg"/>
          <p:cNvPicPr/>
          <p:nvPr/>
        </p:nvPicPr>
        <p:blipFill>
          <a:blip r:embed="rId1"/>
          <a:stretch/>
        </p:blipFill>
        <p:spPr>
          <a:xfrm>
            <a:off x="2050920" y="1773360"/>
            <a:ext cx="5185080" cy="438120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24" name="TextovéPole 4"/>
          <p:cNvSpPr/>
          <p:nvPr/>
        </p:nvSpPr>
        <p:spPr>
          <a:xfrm>
            <a:off x="3851280" y="6237360"/>
            <a:ext cx="223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Ki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Svát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Pesach („přeskočení“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hod beránka („židovské Velikonoce“, Pasch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PŘIPOMENUTÍ ODCHODU Z EGYPTA </a:t>
            </a: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pod Mojžíšovým velení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čtení o ušetření izraelských synů (smrt egyptských) – desátá rá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o svátku a po celý týden pouze nekvašené chleby (připravené bez kvásku – na odchodu z Egypta žádný čas na vykynut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čtyři sklenice vína, pátá nedotknuta (vrátí se na svět prorok – začátek vlády mesiáše na zem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4 jídla, která připomínají exodu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tři macesy (nekvašený chlé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hořké byliny=maror: hořkost čtyřistaletého otroctví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petržel ve slané vodě (slzy hebrejských otroků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charoset – směs oříšků, vína a jablek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200" spc="-1" strike="noStrike">
                <a:solidFill>
                  <a:srgbClr val="ffff00"/>
                </a:solidFill>
                <a:latin typeface="Calibri"/>
              </a:rPr>
              <a:t>(symbol malty používané na stavbu egyptských domů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250px-Matzah_brei_serving.jpg"/>
          <p:cNvPicPr/>
          <p:nvPr/>
        </p:nvPicPr>
        <p:blipFill>
          <a:blip r:embed="rId1"/>
          <a:stretch/>
        </p:blipFill>
        <p:spPr>
          <a:xfrm>
            <a:off x="6443640" y="3573360"/>
            <a:ext cx="2490840" cy="18734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28" name="TextovéPole 4"/>
          <p:cNvSpPr/>
          <p:nvPr/>
        </p:nvSpPr>
        <p:spPr>
          <a:xfrm>
            <a:off x="6804000" y="558972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Pass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ek 5" descr="250px-Sedertable.jpg"/>
          <p:cNvPicPr/>
          <p:nvPr/>
        </p:nvPicPr>
        <p:blipFill>
          <a:blip r:embed="rId2"/>
          <a:stretch/>
        </p:blipFill>
        <p:spPr>
          <a:xfrm>
            <a:off x="7691400" y="189000"/>
            <a:ext cx="1270080" cy="16905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30" name="TextovéPole 6"/>
          <p:cNvSpPr/>
          <p:nvPr/>
        </p:nvSpPr>
        <p:spPr>
          <a:xfrm>
            <a:off x="5794200" y="115920"/>
            <a:ext cx="18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Pass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Svát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981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Šavuot („týdny“)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a konci žní, 50 dní po hodu beránka, Letn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dík za úrodu – půda Božím da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Hospodin předal Mojžíšovi Tóru na hoře Sina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lavnost troubení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ipomíná stvoření svě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ový rok neboli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ROŠ HA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10 dní pok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Obrázek 3" descr="215px-Liten_askenasisk_sjofar_5380.jpg"/>
          <p:cNvPicPr/>
          <p:nvPr/>
        </p:nvPicPr>
        <p:blipFill>
          <a:blip r:embed="rId1"/>
          <a:stretch/>
        </p:blipFill>
        <p:spPr>
          <a:xfrm>
            <a:off x="4778280" y="3201840"/>
            <a:ext cx="4041720" cy="281952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34" name="TextovéPole 4"/>
          <p:cNvSpPr/>
          <p:nvPr/>
        </p:nvSpPr>
        <p:spPr>
          <a:xfrm>
            <a:off x="5796000" y="6165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Roš_ha-š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ovéPole 5"/>
          <p:cNvSpPr/>
          <p:nvPr/>
        </p:nvSpPr>
        <p:spPr>
          <a:xfrm>
            <a:off x="493236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ŠO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Svát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40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Jom kipur (den smíření)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celý národ vyznávání hříchů a prosba boha za odpuště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ouštěna koza do pouště – hříchy odneseny pry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ukot („stánky“)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edmidenní oslava konce sklizn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tavba přístřešků z větví či stan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ipomenutí života národa na pouš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imchat Tóra („radost ze zákona“)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pakované cykly četby z Tóry – vyjádření víry, že je Tóra věč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rázek 3" descr="215px-Suka.jpg"/>
          <p:cNvPicPr/>
          <p:nvPr/>
        </p:nvPicPr>
        <p:blipFill>
          <a:blip r:embed="rId1"/>
          <a:stretch/>
        </p:blipFill>
        <p:spPr>
          <a:xfrm>
            <a:off x="6084720" y="2444760"/>
            <a:ext cx="1976760" cy="263988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39" name="TextovéPole 4"/>
          <p:cNvSpPr/>
          <p:nvPr/>
        </p:nvSpPr>
        <p:spPr>
          <a:xfrm>
            <a:off x="6300720" y="5157720"/>
            <a:ext cx="165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Suk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Svát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Šabat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edmý den odpočinek, zákaz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Havdala: nejmladší člen rodiny uhasí rozsvícenou svíci vínem, přičichnutí ke krabici s kořením – připomenutí sladkosti sabatu, který se chýlí ke ko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urim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svobození Izraelců v době Perské říš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Chanuka („Zasvěcení“)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vátek svě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novuposvěcení chrámu v Jeruzalémě v době Seleukovské říš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edmiramenný svícen menora hořel po osm dní – olej jenom na 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Obrázek 3" descr="290px-Shabbat_Candles.jpg"/>
          <p:cNvPicPr/>
          <p:nvPr/>
        </p:nvPicPr>
        <p:blipFill>
          <a:blip r:embed="rId1"/>
          <a:stretch/>
        </p:blipFill>
        <p:spPr>
          <a:xfrm>
            <a:off x="5867280" y="2565360"/>
            <a:ext cx="2656080" cy="199548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43" name="TextovéPole 5"/>
          <p:cNvSpPr/>
          <p:nvPr/>
        </p:nvSpPr>
        <p:spPr>
          <a:xfrm>
            <a:off x="6300720" y="465300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Shabb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Základní charakterist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monoteistické náboženství: Bůh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JEDINÝ, NEVIDITELNÝ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NEZOBRAZITELNÝ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, stvořitel a soudce všeho stvoření, spravedlivý, nevyzpytatelný a tajemn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PATRIARCHÁLNÍ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 náboženství: vystupuje výrazně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MUŽSKÝ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 princ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náboženství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ZASLÍBENÍ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 a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SPÁS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národní a státotvorné náboženstv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IDEA MESIANISMU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: představa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„TRPÍCÍHO MESIÁŠE“: 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svým utrpením a smrtí vykoupí svou zástupnou obětí lidstvo (tato myšlenka ovlivnila Ježíš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IDEA BUDOUCNOSTI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: po konci světa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ZMRTVÝCHVSTÁNÍ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POSLEDNÍ SOUD 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a přeměna světa na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MESIÁNSKÝ STAV 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lidst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Běh židovského živo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691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obřízka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smý den po narození mužského potomka, hebrejské jméno (dívky jméno při prvním šabatu po naroze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ZNAMENÍ ZVLÁŠTNÍHO VZTAHU S BOHEM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, poslušnost lidu Hospodin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tradičně otec, dnes specialista = moh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osažení dospělosti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bat micva ve 12 letech pro dívk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ar micva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ve 13 letech pro chlap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rvní sabat po 13. narozeniná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čtení na bimě pasáž se Sefer Tó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chlapec součást minjan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Obrázek 3" descr="220px-Bar_mitzvah_west_wall.JPG"/>
          <p:cNvPicPr/>
          <p:nvPr/>
        </p:nvPicPr>
        <p:blipFill>
          <a:blip r:embed="rId1"/>
          <a:stretch/>
        </p:blipFill>
        <p:spPr>
          <a:xfrm>
            <a:off x="5508720" y="3573360"/>
            <a:ext cx="3384360" cy="25383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47" name="TextovéPole 4"/>
          <p:cNvSpPr/>
          <p:nvPr/>
        </p:nvSpPr>
        <p:spPr>
          <a:xfrm>
            <a:off x="6288120" y="623736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Bar_mic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Běh židovského živo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vatba: chatuna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odepsání svatební smlouvy=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KTU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břad pod baldachýnem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CHUPOU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(symbol společného domov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odělení sklenice vína – symbol společného úděl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rozdrcení sklenice ženichem – připomenutí zničení Chrá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Obrázek 3" descr="220px-Jewish_wedding_Vienna_Jan_2007_005.jpg"/>
          <p:cNvPicPr/>
          <p:nvPr/>
        </p:nvPicPr>
        <p:blipFill>
          <a:blip r:embed="rId1"/>
          <a:stretch/>
        </p:blipFill>
        <p:spPr>
          <a:xfrm>
            <a:off x="393840" y="3429000"/>
            <a:ext cx="4033800" cy="30243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51" name="TextovéPole 4"/>
          <p:cNvSpPr/>
          <p:nvPr/>
        </p:nvSpPr>
        <p:spPr>
          <a:xfrm>
            <a:off x="1403280" y="6524640"/>
            <a:ext cx="25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Jewish_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rázek 5" descr="200px-Mazel_Tov!_wedding.jpg"/>
          <p:cNvPicPr/>
          <p:nvPr/>
        </p:nvPicPr>
        <p:blipFill>
          <a:blip r:embed="rId2"/>
          <a:stretch/>
        </p:blipFill>
        <p:spPr>
          <a:xfrm>
            <a:off x="4716360" y="3429000"/>
            <a:ext cx="4032360" cy="302580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53" name="TextovéPole 6"/>
          <p:cNvSpPr/>
          <p:nvPr/>
        </p:nvSpPr>
        <p:spPr>
          <a:xfrm>
            <a:off x="5580000" y="6526080"/>
            <a:ext cx="26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Jewish_wed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Koš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=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vhodný, rituálně čist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ravidla stravy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kašrut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(rituálně čisté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žvýkaví býložravci: pouze s dělenými kopy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(požívání krve zakázané – zvířata se nechají nejprve vykrvác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ryby: pouze s ploutvemi a šupina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zakázáno jíst měkkýš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i jídle odděleno mléko a ma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a přípravu pokrmů z mlé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a masa rozdílné nádob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mléčné výrobky pojíst a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několik hodin po požití ma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tato omezení přispívala k soudrž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Izraelců – zbraň proti nebezpečí asimi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Obrázek 3" descr="250px-OUKosher.JPG"/>
          <p:cNvPicPr/>
          <p:nvPr/>
        </p:nvPicPr>
        <p:blipFill>
          <a:blip r:embed="rId1"/>
          <a:stretch/>
        </p:blipFill>
        <p:spPr>
          <a:xfrm>
            <a:off x="5580000" y="2997360"/>
            <a:ext cx="2973600" cy="230328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57" name="TextovéPole 4"/>
          <p:cNvSpPr/>
          <p:nvPr/>
        </p:nvSpPr>
        <p:spPr>
          <a:xfrm>
            <a:off x="6235560" y="541008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Kashr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Chrá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dostavěn za Šalamouna v Jeruzalé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dnes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ZBYTEK ZÁPADNÍ ZDI = ZEĎ NÁŘ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uloženy kamenné desky Tóry (Archa úmluv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3" descr="220px-Western_wall_jerusalem_night.jpg"/>
          <p:cNvPicPr/>
          <p:nvPr/>
        </p:nvPicPr>
        <p:blipFill>
          <a:blip r:embed="rId1"/>
          <a:stretch/>
        </p:blipFill>
        <p:spPr>
          <a:xfrm>
            <a:off x="4500720" y="2744640"/>
            <a:ext cx="4392360" cy="29163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61" name="TextovéPole 4"/>
          <p:cNvSpPr/>
          <p:nvPr/>
        </p:nvSpPr>
        <p:spPr>
          <a:xfrm>
            <a:off x="5651640" y="575928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Zeď_nářk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ek 5" descr="220px-Western-wall-plaza.jpg"/>
          <p:cNvPicPr/>
          <p:nvPr/>
        </p:nvPicPr>
        <p:blipFill>
          <a:blip r:embed="rId2"/>
          <a:stretch/>
        </p:blipFill>
        <p:spPr>
          <a:xfrm>
            <a:off x="250920" y="2743200"/>
            <a:ext cx="3889440" cy="291780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63" name="TextovéPole 6"/>
          <p:cNvSpPr/>
          <p:nvPr/>
        </p:nvSpPr>
        <p:spPr>
          <a:xfrm>
            <a:off x="1260360" y="575928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Zeď_nářk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Bohoslužb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běti zvířat či rostlinných jídel: spalovány na oltá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vykonával velekněz, přisluhovali levité (rituální nádobí na očišťová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smysl oběti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ŘINÁŠÍ USMÍŘENÍ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hříchy jsou odpuštěny a je zase jednota s Bo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bětované věci: to nejcennější, co člověk má – vrací Bohu jeho nejcennější d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inášená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OBĚŤ ZASTUPUJE OBĚTUJÍCÍHO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(výkupné za život obětníka – za své hříchy by zasloužil sm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rok 70 n.l.: skončilo vykonávání obětí – místo ní společná modlitba v synag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v čele komunity =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RABÍ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Synago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CENTRUM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obecních i náboženských záležit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ústředním bodem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VATOSTÁNEK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před zdí obrácenou směrem k Jeruzalé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tevřený výklenek zakrytý závěsem: připomenutí vnitřní svatyně Chrámu (chována původně Archa úmluv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obsahuje svitky Tóry (Sefer Tóra – opsány ručně z hebrejské Tóry, dva dřevěné válce – stromy života, stříbrné hlavice a na koruně zvonečky – symbol boží svrchovanos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ŘEDČÍTACÍ PULT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IMA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– předčítání </a:t>
            </a:r>
            <a:r>
              <a:rPr b="0" i="1" lang="cs-CZ" sz="2400" spc="-1" strike="noStrike">
                <a:solidFill>
                  <a:srgbClr val="ffffff"/>
                </a:solidFill>
                <a:latin typeface="Calibri"/>
              </a:rPr>
              <a:t>TÓ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VĚČNÉ SVĚTLO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symbol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VĚČNÉ PŘÍTOMNOSTI BOHA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, připomínka sedmiramenného svícnu (v Chrámu vždy rozsvícen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VĚ KAMENNÉ TABULE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ESATERO PŘÍKÁZ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Synago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Zástupný symbol pro obsah 3" descr="220px-Great_Synagogue_Plzen_CZ.jpg"/>
          <p:cNvPicPr/>
          <p:nvPr/>
        </p:nvPicPr>
        <p:blipFill>
          <a:blip r:embed="rId1"/>
          <a:stretch/>
        </p:blipFill>
        <p:spPr>
          <a:xfrm>
            <a:off x="1042920" y="836640"/>
            <a:ext cx="2373480" cy="26636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70" name="TextovéPole 4"/>
          <p:cNvSpPr/>
          <p:nvPr/>
        </p:nvSpPr>
        <p:spPr>
          <a:xfrm>
            <a:off x="1332000" y="357336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Synago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ázek 5" descr="250px-Poland_Kraków_-_Old_Synagogue_with_bima.jpg"/>
          <p:cNvPicPr/>
          <p:nvPr/>
        </p:nvPicPr>
        <p:blipFill>
          <a:blip r:embed="rId2"/>
          <a:stretch/>
        </p:blipFill>
        <p:spPr>
          <a:xfrm>
            <a:off x="3995640" y="836640"/>
            <a:ext cx="4168800" cy="25923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72" name="TextovéPole 6"/>
          <p:cNvSpPr/>
          <p:nvPr/>
        </p:nvSpPr>
        <p:spPr>
          <a:xfrm>
            <a:off x="5364000" y="350028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Bi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rázek 7" descr="180px-Szegedzsinagóga3.jpg"/>
          <p:cNvPicPr/>
          <p:nvPr/>
        </p:nvPicPr>
        <p:blipFill>
          <a:blip r:embed="rId3"/>
          <a:stretch/>
        </p:blipFill>
        <p:spPr>
          <a:xfrm>
            <a:off x="1042920" y="3933720"/>
            <a:ext cx="2183040" cy="25196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74" name="TextovéPole 8"/>
          <p:cNvSpPr/>
          <p:nvPr/>
        </p:nvSpPr>
        <p:spPr>
          <a:xfrm>
            <a:off x="1187280" y="65469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Torah_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rázek 9" descr="220px-Aron_kodesh.jpg"/>
          <p:cNvPicPr/>
          <p:nvPr/>
        </p:nvPicPr>
        <p:blipFill>
          <a:blip r:embed="rId4"/>
          <a:stretch/>
        </p:blipFill>
        <p:spPr>
          <a:xfrm>
            <a:off x="3708360" y="3860640"/>
            <a:ext cx="4464000" cy="259272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76" name="TextovéPole 10"/>
          <p:cNvSpPr/>
          <p:nvPr/>
        </p:nvSpPr>
        <p:spPr>
          <a:xfrm>
            <a:off x="4788000" y="652464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Aron_ha-kode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Židovský domo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07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MEZUZA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: horní třetina všech dveří: malý kousek pergamenového svitku ve schránce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(VYZNÁNÍ VÍ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každý žid políbí špičky prstů a pak se dotkne mezuzy – láska k Bohu a Tó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19880" indent="-119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rázek 3" descr="220px-Mezuzah-RS.jpg"/>
          <p:cNvPicPr/>
          <p:nvPr/>
        </p:nvPicPr>
        <p:blipFill>
          <a:blip r:embed="rId1"/>
          <a:stretch/>
        </p:blipFill>
        <p:spPr>
          <a:xfrm>
            <a:off x="1692360" y="2709720"/>
            <a:ext cx="5603760" cy="37436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180" name="TextovéPole 5"/>
          <p:cNvSpPr/>
          <p:nvPr/>
        </p:nvSpPr>
        <p:spPr>
          <a:xfrm>
            <a:off x="3564000" y="64134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Arial"/>
              </a:rPr>
              <a:t>http://en.wikipedia.org/wiki/Mezuz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Židovská rodi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upřednostněno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POSTAVENÍ MUŽE </a:t>
            </a: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– stvořen jako první, žena až z něh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žena svedla muže k ochutnání ze stromu poznání - Bůh ji trestá a podřizuje ji muž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MUŽ</a:t>
            </a: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 autoritu díky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VZDĚLÁNÍ</a:t>
            </a: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 –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ŽENY</a:t>
            </a: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 neměli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PŘÍST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žena nečte z Tóry, oddělená bohoslužba od mužů (pokud vůbe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žena nesvědčí u soudu, neúčast na veřejném živo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ženina role omezena na roli matky a vychovatelky dě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víra předávána po mat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manželstv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bezdětné manželství pokládáno za nešťast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vdova: rodina se ji snažila znovu provd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děti vnímány jako Boží d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uzavření manželství pokládáno za povinnost (množte 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ženitba: 18-2 let muži, dívky mnohem dří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sňatky sjednávány třetí osobo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Calibri"/>
              </a:rPr>
              <a:t>možný rozvod, ale pouze z popudu manž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Et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člověk je nadán svobodou, rozhodnutí pro dobro či z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3 důležité zákon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Calibri"/>
              </a:rPr>
              <a:t>1, naprostý monoteis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Calibri"/>
              </a:rPr>
              <a:t>2, zájem o znevýhodněné osoby (otroci, cizinci, ženy,sirot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Calibri"/>
              </a:rPr>
              <a:t>3, důraz na ducha pospolitosti, smluvní vztah mezi vším lidem a Bohem</a:t>
            </a:r>
            <a:r>
              <a:rPr b="0" i="1" lang="cs-CZ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Osobnost zakladatele: </a:t>
            </a:r>
            <a:r>
              <a:rPr b="1" i="1" lang="cs-CZ" sz="3600" spc="-1" strike="noStrike">
                <a:solidFill>
                  <a:srgbClr val="ffffff"/>
                </a:solidFill>
                <a:latin typeface="Calibri"/>
              </a:rPr>
              <a:t>Mojží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8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postava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HISTORICKÁ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 (1250 př.n.l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nejvyšší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ZÁKONODÁRCE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: od Boh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převzal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TÓ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tvůrce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MONOTEISMU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zákaz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ANTROPOMORFISMU</a:t>
            </a: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(připisová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lidských vlastností Bohu a zobrazování Boh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předání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ETICKÉHO ZÁKONÍ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ffff00"/>
                </a:solidFill>
                <a:latin typeface="Calibri"/>
              </a:rPr>
              <a:t>myšlenka </a:t>
            </a:r>
            <a:r>
              <a:rPr b="1" i="1" lang="cs-CZ" sz="2600" spc="-1" strike="noStrike">
                <a:solidFill>
                  <a:srgbClr val="ffffff"/>
                </a:solidFill>
                <a:latin typeface="Calibri"/>
              </a:rPr>
              <a:t>VYVOLENÉHO NÁRO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3" descr="220px-Moses041.jpg"/>
          <p:cNvPicPr/>
          <p:nvPr/>
        </p:nvPicPr>
        <p:blipFill>
          <a:blip r:embed="rId1"/>
          <a:stretch/>
        </p:blipFill>
        <p:spPr>
          <a:xfrm>
            <a:off x="6826320" y="1700280"/>
            <a:ext cx="2092320" cy="367344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53" name="TextovéPole 4"/>
          <p:cNvSpPr/>
          <p:nvPr/>
        </p:nvSpPr>
        <p:spPr>
          <a:xfrm>
            <a:off x="7020000" y="5445000"/>
            <a:ext cx="187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de.wikipedia.org/wiki/Mo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Desat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stanovy pro lid, který osvobodil z otroctví (odlišné chování od ostatníc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Calibri"/>
              </a:rPr>
              <a:t>VYŘKL JE SÁM BŮH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(ostatní zásady skrze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Mojžíš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Calibri"/>
              </a:rPr>
              <a:t>VYTESÁNO DO KAMENE: SYMBOLIZUJE TRVALOU PLAT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číslo deset: vyjadřovalo úpl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první čtyři přikázání: vztah Izraelců k Bo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dalších šest určuje vztahy k bližní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Et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83664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ejdůležitější závěr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udeš milovat Hospodina, svého Boha, celým svým srdcem a celou svou duší a celou svou silou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Budeš milovat svého bližního jako sebe samého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Nedělej svému bližnímu to, co sám nenávidíš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etické příkazy i v příbězí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obětování Izáka Abrahámem: příkaz poslušnosti k Bohu a plnění jeho vů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Knihy Proroků:varovaly a hrozily tresty v případě odpadnutí od Bo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Kniha Daniel: pevnost ve víře, trest pravých viní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řísloví: úvahy o životní moudrosti, mravní nau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základní morální imperativ: plnění Božích příkazů = </a:t>
            </a: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micv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Judaismus d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052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30% židů zahynulo během druhé světové vá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Izrael („židovský stát“): 4 700 000 židů (2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největší židovská diaspora: USA (5 900 000): podstatný vliv na americké záleži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asimilace světskému životu stále většího počtu žid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smíšená manželství (4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00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00"/>
                </a:solidFill>
                <a:latin typeface="Calibri"/>
              </a:rPr>
              <a:t>Eliade, Mircea: Dějiny náboženského myšlení I. Od doby kamenné po eleusinská mystéria.OIKOYMENH, Praha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00"/>
                </a:solidFill>
                <a:latin typeface="Calibri"/>
              </a:rPr>
              <a:t>Keene, Michael: Světová náboženství, Lion, Londýn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00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00"/>
                </a:solidFill>
                <a:latin typeface="Calibri"/>
              </a:rPr>
              <a:t>Průvodce Biblí. Česká biblická společnost, Praha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ojžíš - životní příbě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9093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arozen v Egyptě (rodiči vložen do košíku a poslán po ře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výchova na faraonově dvo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svědek bití Izraelce egyptským dozorcem (dozorce Mojžíšem zabit – Mojžíšův útě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a hoře Oreb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ZJEVENÍ HOSPODINA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v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TRNITÉM HOŘÍCÍM K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výzva, aby vyvedl lid z egyptského otroctví (návrat do Egyp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odmítnutí faraona propustit Izrael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seslání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ESETI RAN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a Egypt Hospodin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ODVEDENÍ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židů z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EGYPTA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Mojžíš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ronásledováni faraone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ROZESTOUPENÍ MOŘ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růchod Izraelitů x zničení faraonovy armá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250px-Tissot_The_Plague_of_Flies.jpg"/>
          <p:cNvPicPr/>
          <p:nvPr/>
        </p:nvPicPr>
        <p:blipFill>
          <a:blip r:embed="rId1"/>
          <a:stretch/>
        </p:blipFill>
        <p:spPr>
          <a:xfrm>
            <a:off x="6300720" y="3573360"/>
            <a:ext cx="2587680" cy="243072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57" name="TextovéPole 4"/>
          <p:cNvSpPr/>
          <p:nvPr/>
        </p:nvSpPr>
        <p:spPr>
          <a:xfrm>
            <a:off x="6372360" y="6093000"/>
            <a:ext cx="24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cs.wikipedia.org/wiki/Deset_ran_egyptský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Mojžíš – životní příbě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řijetí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DESATERA PŘIKÁZÁNÍ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a vrcholu hory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INA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od Hospod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SMLOUVA S BOHEM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: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PLNĚNÍ DESATERA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a dalších příkaz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říslib získání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ZASLÍBENÉ ZEMĚ = KANAÁ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utování po poušti 40 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ouštní svatyně =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TAN SETKÁVÁNÍ</a:t>
            </a:r>
            <a:r>
              <a:rPr b="1" lang="cs-CZ" sz="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8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8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uložena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ARCHA ÚMLUV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(uvnitř desky </a:t>
            </a:r>
            <a:r>
              <a:rPr b="1" i="1" lang="cs-CZ" sz="2400" spc="-1" strike="noStrike">
                <a:solidFill>
                  <a:srgbClr val="ffffff"/>
                </a:solidFill>
                <a:latin typeface="Calibri"/>
              </a:rPr>
              <a:t>s DESATEREM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řivedení Izraelitů  k Zaslíbené z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zákaz vstupu pro Mojžíše do Zaslíbené zem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(dřívější provinění vyvyšování se na roveň Boh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smrt na hoře Nebo (naproti Jerichu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pohřben samotným Hospodin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7" descr="380px-Schrana01.jpg"/>
          <p:cNvPicPr/>
          <p:nvPr/>
        </p:nvPicPr>
        <p:blipFill>
          <a:blip r:embed="rId1"/>
          <a:stretch/>
        </p:blipFill>
        <p:spPr>
          <a:xfrm>
            <a:off x="5796000" y="2637000"/>
            <a:ext cx="3097080" cy="205416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61" name="TextovéPole 8"/>
          <p:cNvSpPr/>
          <p:nvPr/>
        </p:nvSpPr>
        <p:spPr>
          <a:xfrm>
            <a:off x="6372360" y="4797360"/>
            <a:ext cx="24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Arial"/>
              </a:rPr>
              <a:t>http://en.wikipedia.org/wiki/Ark_of_the_Coven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osvátný text = </a:t>
            </a:r>
            <a:r>
              <a:rPr b="1" i="1" lang="cs-CZ" sz="3600" spc="-1" strike="noStrike">
                <a:solidFill>
                  <a:srgbClr val="ffffff"/>
                </a:solidFill>
                <a:latin typeface="Calibri"/>
              </a:rPr>
              <a:t>Tan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064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hebrejská bible =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TANACH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(křesťanské pojetí = Starý zák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sepsán mezi 1200 př.n.l. – 200 př.n.l. (celkově ukončen 100 n.l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svého druhu i historický zázn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sepsán v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HEBREJŠTINĚ A ARAMEJŠT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24 kni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nejdůležitější: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PĚT KNIH MOJŽÍŠOVO = TÓ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další části Tanachu: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PROROCI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1" i="1" lang="cs-CZ" sz="2200" spc="-1" strike="noStrike">
                <a:solidFill>
                  <a:srgbClr val="ffff00"/>
                </a:solidFill>
                <a:latin typeface="Calibri"/>
              </a:rPr>
              <a:t>Neviim 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a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SPISY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1" i="1" lang="cs-CZ" sz="2200" spc="-1" strike="noStrike">
                <a:solidFill>
                  <a:srgbClr val="ffff00"/>
                </a:solidFill>
                <a:latin typeface="Calibri"/>
              </a:rPr>
              <a:t>Ketuv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VULGATA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= latinský překlad hebrejské bible, sv. Jeroným,přelom 4./5.st.n.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Tóra ústní: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HALACHA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: souhrn náboženského práva (sbírka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MIŠNA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HAGADA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: pojednání o filozofických a etických otázkách 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formou vyprávění (sbírka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GEMARA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Mišna + Gemara = </a:t>
            </a:r>
            <a:r>
              <a:rPr b="1" i="1" lang="cs-CZ" sz="2200" spc="-1" strike="noStrike">
                <a:solidFill>
                  <a:srgbClr val="ffffff"/>
                </a:solidFill>
                <a:latin typeface="Calibri"/>
              </a:rPr>
              <a:t>TALMUD</a:t>
            </a:r>
            <a:r>
              <a:rPr b="1" lang="cs-CZ" sz="2200" spc="-1" strike="noStrike">
                <a:solidFill>
                  <a:srgbClr val="ffff00"/>
                </a:solidFill>
                <a:latin typeface="Calibri"/>
              </a:rPr>
              <a:t> (učení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00"/>
                </a:solidFill>
                <a:latin typeface="Calibri"/>
              </a:rPr>
              <a:t>1. TÓRA (PENTATEUCH, PĚT KNIH MOJŽÍŠOVÝCH),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ZJEVENÉ SLOVO BOŽ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PŘEDČÍTÁNÍ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v synagoze během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ROKU</a:t>
            </a: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(54 oddílů čtených o šabate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pět knih (hebrejské názvy podle prvních slov textu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1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BEREŠIT,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a počátku, 1. kniha Mojžíšova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GENE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- líčí stvoření světa, potopu, příběhy patriarchů – Abrahama, Izáka a Jákob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2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ŠEMOT,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Jména, 2. kniha Mojžíšova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EXOD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- vznik Izraele jako národa, hlavní postavou je Mojžíš, udělení Záko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- uzavření trvalé smlouvy (v ní se jim odevzdal, zároveň je přijal za svůj l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3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VAJIKRA,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A zavolal, 3. kniha Mojžíšova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LEVITIC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- pojednává o kultovních záležitostech příslušníků kmene Le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4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BAMIDBAR,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Na poušti, 4. kniha Mojžíšova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NUMER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- osudy Izraelitů na poušti, připojeny rituální předpi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5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DEVARIM, </a:t>
            </a:r>
            <a:r>
              <a:rPr b="1" lang="cs-CZ" sz="2000" spc="-1" strike="noStrike">
                <a:solidFill>
                  <a:srgbClr val="ffffff"/>
                </a:solidFill>
                <a:latin typeface="Calibri"/>
              </a:rPr>
              <a:t>Slova, 5. kniha Mojžíšova, </a:t>
            </a:r>
            <a:r>
              <a:rPr b="1" i="1" lang="cs-CZ" sz="2000" spc="-1" strike="noStrike">
                <a:solidFill>
                  <a:srgbClr val="ffffff"/>
                </a:solidFill>
                <a:latin typeface="Calibri"/>
              </a:rPr>
              <a:t>DEUTORONOMIU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- zásady Desatera, další předpisy a na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Tó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4"/>
          <p:cNvSpPr/>
          <p:nvPr/>
        </p:nvSpPr>
        <p:spPr>
          <a:xfrm>
            <a:off x="826920" y="5445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Tor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5" descr="220px-ReadingOfTheTorah.jpg"/>
          <p:cNvPicPr/>
          <p:nvPr/>
        </p:nvPicPr>
        <p:blipFill>
          <a:blip r:embed="rId1"/>
          <a:stretch/>
        </p:blipFill>
        <p:spPr>
          <a:xfrm>
            <a:off x="3564000" y="1125360"/>
            <a:ext cx="5332320" cy="4143600"/>
          </a:xfrm>
          <a:prstGeom prst="rect">
            <a:avLst/>
          </a:prstGeom>
          <a:ln cap="rnd" w="101520">
            <a:solidFill>
              <a:srgbClr val="ffff00"/>
            </a:solidFill>
            <a:round/>
          </a:ln>
        </p:spPr>
      </p:pic>
      <p:sp>
        <p:nvSpPr>
          <p:cNvPr id="69" name="TextovéPole 6"/>
          <p:cNvSpPr/>
          <p:nvPr/>
        </p:nvSpPr>
        <p:spPr>
          <a:xfrm>
            <a:off x="5508720" y="544500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00"/>
                </a:solidFill>
                <a:latin typeface="Calibri"/>
              </a:rPr>
              <a:t>http://en.wikipedia.org/wiki/Tora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8" descr="220px-Köln-Tora-und-Innenansicht-Synagoge-Glockengasse-040.JPG"/>
          <p:cNvPicPr/>
          <p:nvPr/>
        </p:nvPicPr>
        <p:blipFill>
          <a:blip r:embed="rId2"/>
          <a:stretch/>
        </p:blipFill>
        <p:spPr>
          <a:xfrm>
            <a:off x="250920" y="1123920"/>
            <a:ext cx="3039840" cy="4145040"/>
          </a:xfrm>
          <a:prstGeom prst="rect">
            <a:avLst/>
          </a:prstGeom>
          <a:ln w="1015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07:05:26Z</dcterms:created>
  <dc:creator>Kacenka</dc:creator>
  <dc:description/>
  <dc:language>en-US</dc:language>
  <cp:lastModifiedBy>Kateřina Budínová</cp:lastModifiedBy>
  <dcterms:modified xsi:type="dcterms:W3CDTF">2013-01-29T07:51:13Z</dcterms:modified>
  <cp:revision>25</cp:revision>
  <dc:subject/>
  <dc:title>Judaismus</dc:title>
</cp:coreProperties>
</file>