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717-0B60-469F-AFA2-84BD4BB2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AA2-CC22-4FE8-A9A8-792312F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909-F0DF-428A-9CC0-D041D848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083-5A94-4DCD-AE9D-D9B0A5DF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EEC-5432-4959-A1F5-263CD475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76F-84E6-43F4-9A33-0BF76B6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DFF-B823-480D-8734-1A124AB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FA0-0F95-42A4-99B1-311E2E6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BC8-3591-461E-AEA3-1DE68823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3F7-D339-4189-BEF7-9B7DFAA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5D1-0940-4D6A-BABF-4BBE8691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328-EC09-413C-B3EE-55978345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C26D-F733-4074-9B68-0147F442E6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5"/>
          <p:cNvSpPr/>
          <p:nvPr/>
        </p:nvSpPr>
        <p:spPr>
          <a:xfrm>
            <a:off x="1187280" y="620640"/>
            <a:ext cx="6913800" cy="9144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ejstarší formy nábože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6"/>
          <p:cNvSpPr/>
          <p:nvPr/>
        </p:nvSpPr>
        <p:spPr>
          <a:xfrm>
            <a:off x="7380360" y="0"/>
            <a:ext cx="1763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f6228"/>
                </a:solidFill>
                <a:latin typeface="Calibri"/>
              </a:rPr>
              <a:t>VY_32_INOVACE_2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7" descr="450px-Ketchican_totem_pole_1.jpg"/>
          <p:cNvPicPr/>
          <p:nvPr/>
        </p:nvPicPr>
        <p:blipFill>
          <a:blip r:embed="rId1"/>
          <a:srcRect l="8189" t="0" r="0" b="0"/>
          <a:stretch/>
        </p:blipFill>
        <p:spPr>
          <a:xfrm>
            <a:off x="1380960" y="1844640"/>
            <a:ext cx="297504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8"/>
          <p:cNvSpPr/>
          <p:nvPr/>
        </p:nvSpPr>
        <p:spPr>
          <a:xfrm>
            <a:off x="1908000" y="616572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To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9" descr="250px-SB_-_Altay_shaman_with_drum.jpg"/>
          <p:cNvPicPr/>
          <p:nvPr/>
        </p:nvPicPr>
        <p:blipFill>
          <a:blip r:embed="rId2"/>
          <a:stretch/>
        </p:blipFill>
        <p:spPr>
          <a:xfrm>
            <a:off x="5148360" y="1844640"/>
            <a:ext cx="281304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TextovéPole 10"/>
          <p:cNvSpPr/>
          <p:nvPr/>
        </p:nvSpPr>
        <p:spPr>
          <a:xfrm>
            <a:off x="5724360" y="616572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Šaman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"/>
          <p:cNvSpPr/>
          <p:nvPr/>
        </p:nvSpPr>
        <p:spPr>
          <a:xfrm>
            <a:off x="7289640" y="6373800"/>
            <a:ext cx="19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ůvod šamanismu na </a:t>
            </a:r>
            <a:r>
              <a:rPr b="1" i="1" lang="cs-CZ" sz="2600" spc="-1" strike="noStrike">
                <a:solidFill>
                  <a:srgbClr val="ff0000"/>
                </a:solidFill>
                <a:latin typeface="Calibri"/>
              </a:rPr>
              <a:t>SIBIŘ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šaman = „ten, kdo zná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 podstatě </a:t>
            </a:r>
            <a:r>
              <a:rPr b="1" i="1" lang="cs-CZ" sz="2600" spc="-1" strike="noStrike">
                <a:solidFill>
                  <a:srgbClr val="ff0000"/>
                </a:solidFill>
                <a:latin typeface="Calibri"/>
              </a:rPr>
              <a:t>DOMORODÝ LÉKAŘ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– schopnost uvést se do </a:t>
            </a:r>
            <a:r>
              <a:rPr b="1" i="1" lang="cs-CZ" sz="2600" spc="-1" strike="noStrike">
                <a:solidFill>
                  <a:srgbClr val="ff0000"/>
                </a:solidFill>
                <a:latin typeface="Calibri"/>
              </a:rPr>
              <a:t>TRANS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Calibri"/>
              </a:rPr>
              <a:t>PROSTŘEDNÍK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mezi duch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svým národ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os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ask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osti, zvon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erla, koru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41000" y="161640"/>
            <a:ext cx="5453640" cy="84528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Ša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Obrázek 4" descr="389px-Chuonnasuan,_the_last_shaman_of_the_Oroqen,_in_July_1994_(Photo_by_Richard_Noll).jpg"/>
          <p:cNvPicPr/>
          <p:nvPr/>
        </p:nvPicPr>
        <p:blipFill>
          <a:blip r:embed="rId9"/>
          <a:stretch/>
        </p:blipFill>
        <p:spPr>
          <a:xfrm>
            <a:off x="5796000" y="2752560"/>
            <a:ext cx="2448000" cy="376884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5"/>
          <p:cNvSpPr/>
          <p:nvPr/>
        </p:nvSpPr>
        <p:spPr>
          <a:xfrm>
            <a:off x="6135840" y="653112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Ša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8000" y="1484280"/>
            <a:ext cx="903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jev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ZEMĚDĚLSTV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změna pojetí lidské existence: křehká a pomíjivá jak život rost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podobnění osudu člověka k osudu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ROSTLINSTV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cyklický osud rostlinstva: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MYSTÉRIUM NAROZENÍ, ŽIVOTA, SMRTI A ZNOVUZRO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odnost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ZEMĚ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ouvisí s plodností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ŽEN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hrouda=žena, zemědělská práce=sexuální a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enská sexualita: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ZÁZRAČNÁ ZÁHADA STVO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boženské zhodnocení prostoru, především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VES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aoblený obdélník 3"/>
          <p:cNvSpPr/>
          <p:nvPr/>
        </p:nvSpPr>
        <p:spPr>
          <a:xfrm>
            <a:off x="2050920" y="115920"/>
            <a:ext cx="4824720" cy="9144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olitic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79280" y="1628640"/>
            <a:ext cx="8964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jich vznik je spjat s objevem zemědělství – mýty o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PŮVODU OBILN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ále objasňuj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AKT STVOŘENÍ A ŽIV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OTÁZKU SMYSLU LIDSKÉ EXIS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OTÁZKU SMR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OTÁZKU POSMRTNÉHO ŽIV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SOCIÁLNÍ USPOŘÁDÁNÍ SPOLEČ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vznik královstv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3880" y="164880"/>
            <a:ext cx="5447160" cy="91152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ý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8000" y="1267920"/>
            <a:ext cx="9036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 druhy staveb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1, MENHIR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velký kámen, svisle zapuštěný do zem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aoblený obdélník 5"/>
          <p:cNvSpPr/>
          <p:nvPr/>
        </p:nvSpPr>
        <p:spPr>
          <a:xfrm>
            <a:off x="684360" y="189000"/>
            <a:ext cx="7775280" cy="9144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zdní doba kamenná - meg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6"/>
          <p:cNvSpPr/>
          <p:nvPr/>
        </p:nvSpPr>
        <p:spPr>
          <a:xfrm>
            <a:off x="1476360" y="65278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Menh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7" descr="450px-Menhir_Baba_Slavetin.JPG"/>
          <p:cNvPicPr/>
          <p:nvPr/>
        </p:nvPicPr>
        <p:blipFill>
          <a:blip r:embed="rId2"/>
          <a:stretch/>
        </p:blipFill>
        <p:spPr>
          <a:xfrm>
            <a:off x="4788000" y="2300400"/>
            <a:ext cx="3168720" cy="422424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9" descr="450px-Menhir_Zaklety_mnich_Drahomysl_1.JPG"/>
          <p:cNvPicPr/>
          <p:nvPr/>
        </p:nvPicPr>
        <p:blipFill>
          <a:blip r:embed="rId3"/>
          <a:stretch/>
        </p:blipFill>
        <p:spPr>
          <a:xfrm>
            <a:off x="826920" y="2300400"/>
            <a:ext cx="3168720" cy="4224240"/>
          </a:xfrm>
          <a:prstGeom prst="rect">
            <a:avLst/>
          </a:prstGeom>
          <a:ln w="0">
            <a:noFill/>
          </a:ln>
        </p:spPr>
      </p:pic>
      <p:sp>
        <p:nvSpPr>
          <p:cNvPr id="88" name="TextovéPole 10"/>
          <p:cNvSpPr/>
          <p:nvPr/>
        </p:nvSpPr>
        <p:spPr>
          <a:xfrm>
            <a:off x="5435640" y="652608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Menh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8000" y="1341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2, KROMLE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=soubor menhirů rozestavěných do kruhu či půlkruhu (Stonehenge) nebo menhiry v souběžných řadách (Carna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07880" y="237960"/>
            <a:ext cx="6815520" cy="91008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zdní doba kamenná - meg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8"/>
          <p:cNvSpPr/>
          <p:nvPr/>
        </p:nvSpPr>
        <p:spPr>
          <a:xfrm>
            <a:off x="1044720" y="6021360"/>
            <a:ext cx="20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tonehe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9"/>
          <p:cNvSpPr/>
          <p:nvPr/>
        </p:nvSpPr>
        <p:spPr>
          <a:xfrm>
            <a:off x="5869080" y="6021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Carn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10" descr="800px-Stonehenge2007_07_30.jpg"/>
          <p:cNvPicPr/>
          <p:nvPr/>
        </p:nvPicPr>
        <p:blipFill>
          <a:blip r:embed="rId1"/>
          <a:stretch/>
        </p:blipFill>
        <p:spPr>
          <a:xfrm>
            <a:off x="444600" y="306864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11" descr="800px-Kermario_Carnac.JPG"/>
          <p:cNvPicPr/>
          <p:nvPr/>
        </p:nvPicPr>
        <p:blipFill>
          <a:blip r:embed="rId2"/>
          <a:stretch/>
        </p:blipFill>
        <p:spPr>
          <a:xfrm>
            <a:off x="4756320" y="3068640"/>
            <a:ext cx="3840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5998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3, DOL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= kamenná deska podpíraná několika vztyčenými kameny, pohřebiš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75520" y="453240"/>
            <a:ext cx="6887160" cy="91044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zdní doba kamenná - meg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ovéPole 5"/>
          <p:cNvSpPr/>
          <p:nvPr/>
        </p:nvSpPr>
        <p:spPr>
          <a:xfrm>
            <a:off x="1547640" y="623736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Dol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6" descr="Hunebed-d27.jpg"/>
          <p:cNvPicPr/>
          <p:nvPr/>
        </p:nvPicPr>
        <p:blipFill>
          <a:blip r:embed="rId1"/>
          <a:stretch/>
        </p:blipFill>
        <p:spPr>
          <a:xfrm>
            <a:off x="4643280" y="3297240"/>
            <a:ext cx="4149720" cy="294012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7"/>
          <p:cNvSpPr/>
          <p:nvPr/>
        </p:nvSpPr>
        <p:spPr>
          <a:xfrm>
            <a:off x="5508720" y="630864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File:Hunebed-d2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8" descr="800px-Dolmen_Roch-Feutet.JPG"/>
          <p:cNvPicPr/>
          <p:nvPr/>
        </p:nvPicPr>
        <p:blipFill>
          <a:blip r:embed="rId2"/>
          <a:stretch/>
        </p:blipFill>
        <p:spPr>
          <a:xfrm>
            <a:off x="395280" y="326700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ymbolika kamene: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NEOMEZENÉ TRVÁNÍ, STÁLOST, NEPORUŠITELNOST, BYTÍ NEZÁVISLÉ NA ČASOVÉM 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SÍLA A TRVALOS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itelné skrze kámen – jistota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PŘEŽITÍ DU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íra v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MOC PŘEDK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naděje v jejich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OCHRAN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živý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jení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NEBE S PODSVĚTÍ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95120" y="241560"/>
            <a:ext cx="6879960" cy="97416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áboženský význam megali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me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EMJANČUKOVÁ, Dagmar: Teorie a dějiny náboženství, Dobrá Voda 2003, vydavatelství a nakladatelství Aleš Čeněk, str. 55-7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LIADE, Mircea: Dějiny náboženského myšlení I. Od doby kamenné po eleusinská mystéria, Praha 1995, OIKOYMENH, str. 17-64, 116-12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cLoughlin, Seán: Světová náboženství v kostce, Dobřejovice 2005, Rebo Productions CZ, str. 12-1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8000" y="1412640"/>
            <a:ext cx="90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 existence náboženských představ u paleolitických lovců (30 000 let př. Kr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ožnost určit jeho náplň – neprůhlednost především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ARCHEOLOGICKÝC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rame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dná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PÍSEMN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rad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ávání náboženských představ pouze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ORÁLNĚ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a pomocí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RITUÁ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rčité „ svědecké doklady“: lidské či zvířecí kosti (lebky), kamenné nástroje, předměty v hrobech,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ději jeskynní rytiny a malby, kostěné a kamenné soš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jich interpretace– na základě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ETNOLOGICKÉHO SROVNÁ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DNEŠNÍM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řírodními národy (může být zavádějíc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aoblený obdélník 6"/>
          <p:cNvSpPr/>
          <p:nvPr/>
        </p:nvSpPr>
        <p:spPr>
          <a:xfrm>
            <a:off x="755640" y="333360"/>
            <a:ext cx="7632720" cy="7700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průhlednost paleolitických prame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8000" y="1600200"/>
            <a:ext cx="9036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etišismu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dna z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NEJSTARŠÍCH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orem náboženstv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íra v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NADPŘIROZENÉ VLASTNOSTI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 schopnosti reálně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EXISTUJÍCÍ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předmě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otemismu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stava o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PŘÍBUZENSTV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ezi jedincem nebo i určitou skupinou lidí a zvířetem, rostlinou, ale i nebeskými tělesy a přírodními jevy (těsná vazba lovce a příro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aoblený obdélník 4"/>
          <p:cNvSpPr/>
          <p:nvPr/>
        </p:nvSpPr>
        <p:spPr>
          <a:xfrm>
            <a:off x="826920" y="260280"/>
            <a:ext cx="7490160" cy="10080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ruhy paleolitických nábožensk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1599840"/>
            <a:ext cx="8362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a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ituální chování a způsob jednání, kterým se člověk snaží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OVLIVNIT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PRŮBĚH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rčitých dějů nebo konkrétních obje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animismu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íra v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NESMRTEL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DUŠ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DU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2640" y="260280"/>
            <a:ext cx="8141040" cy="820800"/>
          </a:xfrm>
          <a:prstGeom prst="rect">
            <a:avLst/>
          </a:prstGeom>
          <a:solidFill>
            <a:srgbClr val="c3d69b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ruhy paleolitických náboženských systé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00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 pravěkého lovce a jeho oběti =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MYSTICKÁ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SOUNÁLEŽIT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s lovenou zvěř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vecké nástroje obdařeny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MAGICKO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oc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smrcení zvířete=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RITUÁL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lovec zabíjí pouze to, co potřebuje k obživ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LEBK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usmrceného zvířete: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VÝZNAČNÁ RITUÁLNÍ HODNOTA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umístění na větvích či vyvýšenin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ětování části zvířete </a:t>
            </a:r>
            <a:r>
              <a:rPr b="1" i="1" lang="cs-CZ" sz="2800" spc="-1" strike="noStrike">
                <a:solidFill>
                  <a:srgbClr val="ff0000"/>
                </a:solidFill>
                <a:latin typeface="Calibri"/>
              </a:rPr>
              <a:t>NEJVYŠŠÍ BYTOSTI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Pánu zvíř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aoblený obdélník 3"/>
          <p:cNvSpPr/>
          <p:nvPr/>
        </p:nvSpPr>
        <p:spPr>
          <a:xfrm>
            <a:off x="611280" y="115920"/>
            <a:ext cx="8208720" cy="12254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áboženské představy paleolitických lovců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lověk- l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413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oklad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UŽÍVÁNÍ ČERVENÉ HLINK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posypání mrtvého těla, rituální náhrada za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KR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ymbol živo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POHŘB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máhavá činnost, nevyvíjel by úsilí zbytečně), orientované k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VÝCHOD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naděje ve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ZNOVUZ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aoblený obdélník 3"/>
          <p:cNvSpPr/>
          <p:nvPr/>
        </p:nvSpPr>
        <p:spPr>
          <a:xfrm>
            <a:off x="1763640" y="189000"/>
            <a:ext cx="5688000" cy="863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íra v posmrtný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ÚLOŽIŠTĚ ZVÍŘECÍCH KOST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velmi těžká náboženská interpreta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JESKYNĚ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určitý typ svatyní – malby daleko 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chodu (náročný příst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řady před loveckou výpravou (Lascaux, Altami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aoblený obdélník 3"/>
          <p:cNvSpPr/>
          <p:nvPr/>
        </p:nvSpPr>
        <p:spPr>
          <a:xfrm>
            <a:off x="395280" y="189000"/>
            <a:ext cx="8209080" cy="10792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možné doklady náboženského myšlení v paleo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6" descr="220px-Lascaux,_replica_05.JPG"/>
          <p:cNvPicPr/>
          <p:nvPr/>
        </p:nvPicPr>
        <p:blipFill>
          <a:blip r:embed="rId3"/>
          <a:stretch/>
        </p:blipFill>
        <p:spPr>
          <a:xfrm>
            <a:off x="468360" y="3429000"/>
            <a:ext cx="3983040" cy="298764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7"/>
          <p:cNvSpPr/>
          <p:nvPr/>
        </p:nvSpPr>
        <p:spPr>
          <a:xfrm>
            <a:off x="154764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Lascau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8" descr="800px-Altamira,_bison,_museum_02.JPG"/>
          <p:cNvPicPr/>
          <p:nvPr/>
        </p:nvPicPr>
        <p:blipFill>
          <a:blip r:embed="rId4"/>
          <a:stretch/>
        </p:blipFill>
        <p:spPr>
          <a:xfrm>
            <a:off x="4643280" y="342900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9"/>
          <p:cNvSpPr/>
          <p:nvPr/>
        </p:nvSpPr>
        <p:spPr>
          <a:xfrm>
            <a:off x="5148360" y="6470640"/>
            <a:ext cx="33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oubor:Altamira,_bison,_museum_0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PLASTIKY ŽENSKÝCH POSTAV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symbolika ženské posvátn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aoblený obdélník 3"/>
          <p:cNvSpPr/>
          <p:nvPr/>
        </p:nvSpPr>
        <p:spPr>
          <a:xfrm>
            <a:off x="395280" y="189000"/>
            <a:ext cx="8209080" cy="10792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možné doklady náboženského myšlení v paleo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ázek 4" descr="220px-Vestonicka_venuse_edit.jpg"/>
          <p:cNvPicPr/>
          <p:nvPr/>
        </p:nvPicPr>
        <p:blipFill>
          <a:blip r:embed="rId2"/>
          <a:stretch/>
        </p:blipFill>
        <p:spPr>
          <a:xfrm>
            <a:off x="1332000" y="2138400"/>
            <a:ext cx="2170080" cy="424332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5"/>
          <p:cNvSpPr/>
          <p:nvPr/>
        </p:nvSpPr>
        <p:spPr>
          <a:xfrm>
            <a:off x="1332000" y="638172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Věstonická_venuš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rázek 6" descr="64px-Venus_von_Willendorf_01.jpg"/>
          <p:cNvPicPr/>
          <p:nvPr/>
        </p:nvPicPr>
        <p:blipFill>
          <a:blip r:embed="rId3"/>
          <a:stretch/>
        </p:blipFill>
        <p:spPr>
          <a:xfrm>
            <a:off x="4572000" y="2122560"/>
            <a:ext cx="2270160" cy="425916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7"/>
          <p:cNvSpPr/>
          <p:nvPr/>
        </p:nvSpPr>
        <p:spPr>
          <a:xfrm>
            <a:off x="4643280" y="638640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Venuše_(figurk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INICIAČNÍ RITUÁ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zasvěcení dospívajícího lovce do tajemství lo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LOVECKÝ RITUÁL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kruhový tanec před lov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VÍRA V P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jistého typu </a:t>
            </a:r>
            <a:r>
              <a:rPr b="1" i="1" lang="cs-CZ" sz="3200" spc="-1" strike="noStrike">
                <a:solidFill>
                  <a:srgbClr val="ff0000"/>
                </a:solidFill>
                <a:latin typeface="Calibri"/>
              </a:rPr>
              <a:t>ŠAMANISM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jeskynní vyobra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možné doklady náboženského myšlení v paleoli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08:20:22Z</dcterms:created>
  <dc:creator>Kacenka</dc:creator>
  <dc:description/>
  <dc:language>en-US</dc:language>
  <cp:lastModifiedBy>Kateřina Budínová</cp:lastModifiedBy>
  <dcterms:modified xsi:type="dcterms:W3CDTF">2012-12-05T09:32:46Z</dcterms:modified>
  <cp:revision>24</cp:revision>
  <dc:subject/>
  <dc:title>Nejstarší formy náboženství – náboženství přírodních národů</dc:title>
</cp:coreProperties>
</file>