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6D3-A217-4D50-856A-A9A74E98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469-8846-43BC-86B1-377B273A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A3B-4F71-41A5-879B-CDAF3E8C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8C5-45BC-4BEF-9166-7C7D30F6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F7B8-ACCB-4621-BC45-1E75E0D8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D48-FD55-4FE9-A3DF-28B15B84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D0D-0A61-4BB5-AAAE-4FD3AAB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961A-2924-4991-9631-4A3DF31E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531-903E-456F-A4F4-94F98974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3EF-564F-4860-925E-BC4BA49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1AE-5344-4153-9552-F74D7A6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9C7-5C14-4AD3-ABD8-94755B4E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66D-26F3-4E4A-A1A3-86F411E766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ÚVOD DO NÁBOŽENSTVÍ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5" descr="600px-ReligijneSymbole.svg.png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032360"/>
          </a:xfrm>
          <a:prstGeom prst="rect">
            <a:avLst/>
          </a:prstGeom>
          <a:ln w="0">
            <a:noFill/>
          </a:ln>
        </p:spPr>
      </p:pic>
      <p:sp>
        <p:nvSpPr>
          <p:cNvPr id="43" name="TextovéPole 6"/>
          <p:cNvSpPr/>
          <p:nvPr/>
        </p:nvSpPr>
        <p:spPr>
          <a:xfrm>
            <a:off x="3564000" y="595008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http://cs.wikipedia.org/wiki/Náboženstv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6"/>
          <p:cNvSpPr/>
          <p:nvPr/>
        </p:nvSpPr>
        <p:spPr>
          <a:xfrm>
            <a:off x="795672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VY_32_INOVACE_2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6"/>
          <p:cNvSpPr/>
          <p:nvPr/>
        </p:nvSpPr>
        <p:spPr>
          <a:xfrm>
            <a:off x="6659640" y="6300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gr. Kateřina Budín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5, STROM, 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iditelný projev laskavosti, krásy a moci matky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rom – spojený s legendou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př. vždy zelený platan – Kréta, gumovník – Buddha došel osvícení, dub – druidov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6, D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řirozená ochrana před vnějším svě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oevropané: centrem posvátnosti domu: ohniš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áh: sídlo dobrých duchů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přenášení nevěsty přes prá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ákosová chýše: nejstarší forma svaty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álovské paláce: postupně vzorem pro chrá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76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, SVATÉ PŘEDMĚ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  <a:ea typeface="Times New Roman"/>
              </a:rPr>
              <a:t>tabu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nesmějí se používat na nic jiného než k náboženstv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  <a:ea typeface="Times New Roman"/>
              </a:rPr>
              <a:t>sochy, reliéfy: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obrazení symbolu, který boha zastupov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  <a:ea typeface="Times New Roman"/>
              </a:rPr>
              <a:t>oltář:</a:t>
            </a:r>
            <a:r>
              <a:rPr b="1" i="1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robíhá komunikace mezi člověkem a božstv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  <a:ea typeface="Times New Roman"/>
              </a:rPr>
              <a:t>nástroje sloužící kultu: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nože, svícny, hrnce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17375e"/>
                </a:solidFill>
                <a:latin typeface="Calibri"/>
                <a:ea typeface="Times New Roman"/>
              </a:rPr>
              <a:t>nástroje pro věštění, amule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ázek 3" descr="220px-Tel_Be'er_Sheva_Altar_2007041.JPG"/>
          <p:cNvPicPr/>
          <p:nvPr/>
        </p:nvPicPr>
        <p:blipFill>
          <a:blip r:embed="rId1"/>
          <a:stretch/>
        </p:blipFill>
        <p:spPr>
          <a:xfrm>
            <a:off x="539640" y="3933720"/>
            <a:ext cx="2880000" cy="2159280"/>
          </a:xfrm>
          <a:prstGeom prst="rect">
            <a:avLst/>
          </a:prstGeom>
          <a:ln w="0">
            <a:noFill/>
          </a:ln>
        </p:spPr>
      </p:pic>
      <p:sp>
        <p:nvSpPr>
          <p:cNvPr id="73" name="TextovéPole 4"/>
          <p:cNvSpPr/>
          <p:nvPr/>
        </p:nvSpPr>
        <p:spPr>
          <a:xfrm>
            <a:off x="1116000" y="609444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en.wikipedia.org/wiki/Alt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ázek 6" descr="140px-Christian_Cross_Saint_Christopher.JPG"/>
          <p:cNvPicPr/>
          <p:nvPr/>
        </p:nvPicPr>
        <p:blipFill>
          <a:blip r:embed="rId2"/>
          <a:stretch/>
        </p:blipFill>
        <p:spPr>
          <a:xfrm>
            <a:off x="6678720" y="3284640"/>
            <a:ext cx="1854000" cy="280836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7"/>
          <p:cNvSpPr/>
          <p:nvPr/>
        </p:nvSpPr>
        <p:spPr>
          <a:xfrm>
            <a:off x="6732720" y="60930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cs.wikipedia.org/wiki/Amul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rázek 10" descr="260px-Altar_Mars_Venus_Massimo.jpg"/>
          <p:cNvPicPr/>
          <p:nvPr/>
        </p:nvPicPr>
        <p:blipFill>
          <a:blip r:embed="rId3"/>
          <a:stretch/>
        </p:blipFill>
        <p:spPr>
          <a:xfrm>
            <a:off x="3649680" y="3933720"/>
            <a:ext cx="2793960" cy="2159280"/>
          </a:xfrm>
          <a:prstGeom prst="rect">
            <a:avLst/>
          </a:prstGeom>
          <a:ln w="0">
            <a:noFill/>
          </a:ln>
        </p:spPr>
      </p:pic>
      <p:sp>
        <p:nvSpPr>
          <p:cNvPr id="77" name="TextovéPole 11"/>
          <p:cNvSpPr/>
          <p:nvPr/>
        </p:nvSpPr>
        <p:spPr>
          <a:xfrm>
            <a:off x="3995640" y="609300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cs.wikipedia.org/wiki/Polyte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, SVATÉ OSO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ůvodně náboženské obřady konal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každý člověk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postupné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zjednoduš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ror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kr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oustevníci, ask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blá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rázek 3" descr="250px-Babasteve-sadhu.jpg"/>
          <p:cNvPicPr/>
          <p:nvPr/>
        </p:nvPicPr>
        <p:blipFill>
          <a:blip r:embed="rId1"/>
          <a:stretch/>
        </p:blipFill>
        <p:spPr>
          <a:xfrm>
            <a:off x="4140360" y="3213000"/>
            <a:ext cx="4635360" cy="3095640"/>
          </a:xfrm>
          <a:prstGeom prst="rect">
            <a:avLst/>
          </a:prstGeom>
          <a:ln w="0">
            <a:noFill/>
          </a:ln>
        </p:spPr>
      </p:pic>
      <p:sp>
        <p:nvSpPr>
          <p:cNvPr id="81" name="TextovéPole 4"/>
          <p:cNvSpPr/>
          <p:nvPr/>
        </p:nvSpPr>
        <p:spPr>
          <a:xfrm>
            <a:off x="5580000" y="63086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cs.wikipedia.org/wiki/Sád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69192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, SVATÉ ČAS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em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  <a:ea typeface="Times New Roman"/>
              </a:rPr>
              <a:t>R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každý rok vše počíná znov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bava z konce světa na konci ro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stava, že jak svět stárne, zaneřáďuje se démony – vyhnat hlasitými zvuky, světelnými efek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zimní slunovra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Keltové: Imbolc, Římané: Lumpernálie, židé: Chanuka, křesťané: Váno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ymbol návratu slunce – zapalování sv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jarní rovnodennos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k moci opět zlé s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Keltové: deltain, židé: Pesach, křesťané : Velikono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letní slunovra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židé: Šavuot, křesťané: Letn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podzimní rovnodennost</a:t>
            </a:r>
            <a:r>
              <a:rPr b="0" i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 moci opět zlé síly – zapalování ohň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idé: roš hašana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Nový rok)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om kippur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den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smíření)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řesťanské duši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ESCHATOLOGIE</a:t>
            </a:r>
            <a:r>
              <a:rPr b="0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nauka o budouc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ejprve špatné časy, poté se vše obrátí k bo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ůzné představy času: cyklický, lineární, šroubo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Obdobi.jpg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409104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611280" y="537372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názornění posunu Slunce na obloze v souvis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 posvátnými mezníky 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ovéPole 6"/>
          <p:cNvSpPr/>
          <p:nvPr/>
        </p:nvSpPr>
        <p:spPr>
          <a:xfrm>
            <a:off x="3276720" y="5157720"/>
            <a:ext cx="237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://cs.wikipedia.org/wiki/Soubor:Obdobi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, SVATÁ VYPRÁV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přítomňování dě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jování společ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difikace zákon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bírky svatých slov = zafix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elze zasahovat do textu – interpretuje se a aktualizuje 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ř. bible, kor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5" descr="Bible.JPG"/>
          <p:cNvPicPr/>
          <p:nvPr/>
        </p:nvPicPr>
        <p:blipFill>
          <a:blip r:embed="rId1"/>
          <a:stretch/>
        </p:blipFill>
        <p:spPr>
          <a:xfrm>
            <a:off x="3780000" y="4054320"/>
            <a:ext cx="1947600" cy="2543400"/>
          </a:xfrm>
          <a:prstGeom prst="rect">
            <a:avLst/>
          </a:prstGeom>
          <a:ln w="0">
            <a:noFill/>
          </a:ln>
        </p:spPr>
      </p:pic>
      <p:pic>
        <p:nvPicPr>
          <p:cNvPr id="93" name="Obrázek 6" descr="Korán.JPG"/>
          <p:cNvPicPr/>
          <p:nvPr/>
        </p:nvPicPr>
        <p:blipFill>
          <a:blip r:embed="rId2"/>
          <a:stretch/>
        </p:blipFill>
        <p:spPr>
          <a:xfrm>
            <a:off x="6084720" y="4040280"/>
            <a:ext cx="16941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užitá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mjančuková, Dagmar: Teorie a dějiny náboženství, Aleš Čeněk, Dobrá Voda 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liade, Mircea: Dějiny náboženského myšlení I. Od doby kamenné po eleusinská mystéria.OIKOYMENH, Praha 199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eene, Michael: Světová náboženství, Lion, Londýn 200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rakteristika náboženstv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tví = vztah člověka k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METAFYZICKÉMU BOŽST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ztah člověka k tomu, čemu přizn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   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NEJVYŠŠÍ C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lověk si uvědomuje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SVOU KONEČ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lověk si klade otázku po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SMYSLU ŽIVOT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   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SVÉ EXIS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voří si sám ty, kteří mu odpo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ěda o náboženství =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RELIGION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ké systém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, TEISTICKÉ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cept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BOŽSKÉHO PRINCIP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, NE-TEISTICKÉ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agmaticko-etické systé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PRAGMATICKÁ METOD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jak dosáhnout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HARMONICK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ké systé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EISTICKÉ SYSTÉMY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1, MONOTEISTICKÉ</a:t>
            </a:r>
            <a:r>
              <a:rPr b="0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JEDE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Bů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íra v něho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PŘÍKAZ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udaismus, křesťanství, islám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2, POLYTEISTICKÉ</a:t>
            </a:r>
            <a:r>
              <a:rPr b="0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MNOHOBOŽSTV</a:t>
            </a:r>
            <a:r>
              <a:rPr b="0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MOŽ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věřit ve více bohů, nikoli přík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induismus, Egypt, Řec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E-TEISTICKÉ SYSTÉMY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uddhismus, džin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314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ké systé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le pojetí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ČAS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, CYKLICKÉ SYSTÉM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stava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KOLOBĚ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VĚČNÝ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uchovní princ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vuje se v jednotlivých cyklech, které na sebe plynule navazují (model vegetačního cyk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oloběh i u člověka – karmanový zákon – cílem je vysvobození z koloběhu živo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émy indické a čínské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, LINEÁRNÍ SYSTÉM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vět stvořený z Boží vůle, je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JEDINEČNÝ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stejně jako člově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život a svět má svůj </a:t>
            </a:r>
            <a:r>
              <a:rPr b="1" i="1" lang="cs-CZ" sz="2400" spc="-1" strike="noStrike">
                <a:solidFill>
                  <a:srgbClr val="17375e"/>
                </a:solidFill>
                <a:latin typeface="Calibri"/>
                <a:ea typeface="Times New Roman"/>
              </a:rPr>
              <a:t>POČÁTEK A KONEC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judaismus, křesťanství, islá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ké systé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odle pojetí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ETI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, SYSTÉMY PRAGMATICKÉ E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uddhismus, džinismus, tao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ysvobození z pout strasti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OZNÁ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, SYSTÉMY METAFYZICKÉ E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udaismus, křesťanství, islá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plnění Božího zákona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OSLUŠ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, SYSTÉMY ZVYKOVÉ E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induismus, konfucian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chování společenství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ODŘÍZENÍM SE</a:t>
            </a:r>
            <a:r>
              <a:rPr b="0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ho </a:t>
            </a:r>
            <a:r>
              <a:rPr b="1" i="1" lang="cs-CZ" sz="2800" spc="-1" strike="noStrike">
                <a:solidFill>
                  <a:srgbClr val="17375e"/>
                </a:solidFill>
                <a:latin typeface="Calibri"/>
                <a:ea typeface="Times New Roman"/>
              </a:rPr>
              <a:t>PRAVIDL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Náboženské systé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dle pojetí vztahu k </a:t>
            </a:r>
            <a:r>
              <a:rPr b="1" i="1" lang="cs-CZ" sz="3200" spc="-1" strike="noStrike">
                <a:solidFill>
                  <a:srgbClr val="17375e"/>
                </a:solidFill>
                <a:latin typeface="Calibri"/>
                <a:ea typeface="Times New Roman"/>
              </a:rPr>
              <a:t>POLITICE A MOC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, náboženství STÁTOTVÁRN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fucianismus, islám, judaismus, šinto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, náboženství NESTÁTVORN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uddhismus, džinismus, křesťan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, náboženství PŘECHODOV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oismus, hindu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62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, SVATÁ MÍS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tyčné body mezi naším světem a světem boh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1, HO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lymp v Řecku, Fudži v Japons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stup na horu: zjevení Bohů </a:t>
            </a: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př. Sinaj – zjevení Tó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sopky: brána do pekel </a:t>
            </a: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Hefaisto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c00000"/>
                </a:solidFill>
                <a:latin typeface="Calibri"/>
                <a:ea typeface="Times New Roman"/>
              </a:rPr>
              <a:t>2, VO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božstvo –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INÁŠENÍ OBĚT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: obětování býků, prs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osvátné řeky -  ztělesnění Boha </a:t>
            </a:r>
            <a:r>
              <a:rPr b="0" i="1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(Ni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ramen – ztotožnění s bohem;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ZASVĚCOVÁN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Panně Mar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250px-FujiSunriseKawaguchiko2025WP.jpg"/>
          <p:cNvPicPr/>
          <p:nvPr/>
        </p:nvPicPr>
        <p:blipFill>
          <a:blip r:embed="rId1"/>
          <a:stretch/>
        </p:blipFill>
        <p:spPr>
          <a:xfrm>
            <a:off x="1403280" y="4807080"/>
            <a:ext cx="2381400" cy="179064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4"/>
          <p:cNvSpPr/>
          <p:nvPr/>
        </p:nvSpPr>
        <p:spPr>
          <a:xfrm>
            <a:off x="1762200" y="659772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Fudž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5" descr="220px-Vallee_fertile_du_Nil_a_Louxor.jpg"/>
          <p:cNvPicPr/>
          <p:nvPr/>
        </p:nvPicPr>
        <p:blipFill>
          <a:blip r:embed="rId2"/>
          <a:stretch/>
        </p:blipFill>
        <p:spPr>
          <a:xfrm>
            <a:off x="4643280" y="4797360"/>
            <a:ext cx="3041640" cy="180036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6"/>
          <p:cNvSpPr/>
          <p:nvPr/>
        </p:nvSpPr>
        <p:spPr>
          <a:xfrm>
            <a:off x="5364000" y="6597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N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tegorie posvát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3, SKÁLA, KÁ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vba oltářů ze zajímavých kamenů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barva, tv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yers Rock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Austrál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 Evropa: menhir, dolmen, kromlech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svatyně zemědělských kultu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Calibri"/>
                <a:ea typeface="Times New Roman"/>
              </a:rPr>
              <a:t>4, JESKYNĚ, LABY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avěk – matka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život poustev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étský labyr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250px-Uluru_Australia(1).jpg"/>
          <p:cNvPicPr/>
          <p:nvPr/>
        </p:nvPicPr>
        <p:blipFill>
          <a:blip r:embed="rId1"/>
          <a:stretch/>
        </p:blipFill>
        <p:spPr>
          <a:xfrm>
            <a:off x="4716360" y="3500280"/>
            <a:ext cx="3600720" cy="271008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4"/>
          <p:cNvSpPr/>
          <p:nvPr/>
        </p:nvSpPr>
        <p:spPr>
          <a:xfrm>
            <a:off x="5580000" y="623736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cs.wikipedia.org/wiki/Ayers_R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08:02:53Z</dcterms:created>
  <dc:creator>Kacenka</dc:creator>
  <dc:description/>
  <dc:language>en-US</dc:language>
  <cp:lastModifiedBy>Kateřina Budínová</cp:lastModifiedBy>
  <dcterms:modified xsi:type="dcterms:W3CDTF">2012-12-18T06:33:18Z</dcterms:modified>
  <cp:revision>17</cp:revision>
  <dc:subject/>
  <dc:title>Náboženství v historii a v současnosti</dc:title>
</cp:coreProperties>
</file>