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786-FCAC-4E41-B348-E5C7195F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64A-42C9-4439-AA94-B621694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943-E50A-401B-B685-F28A2948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651-7B8A-45C4-959F-7C079C5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863-FD04-4040-8577-14B00699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EB5A-3AC3-4651-8275-0785587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5281-EB2E-4472-90D0-061358F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0CB-DE32-4D79-A976-9475174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D6C-F34E-4233-9FAE-3B026C81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ABE9-9B9A-4610-B44D-C640E9EE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291-B6B0-403D-A03D-5FFE7FB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DC2-8C3F-4871-B135-CFD0B14C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00B-B933-4EB3-940D-D2CE39E5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F6E-DF91-4153-BDA2-78C30CC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24BB-A844-4F09-8621-0E1FC5E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09E7-EAA6-46D6-A7AC-4E97E345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B7A-A864-4633-95DA-A5028BE3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9BAC-C34A-4F80-A590-5103D015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36AF-2AFC-4CEC-ADB2-3E71F91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3CE1-7AFB-4624-9156-3371B1C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8F2A-23ED-4B1E-9672-55B8A22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DB7A-1BB2-4A08-86DC-1120B980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3C0-023C-4421-A523-C509CFF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57A0-9A07-4B17-892C-3937585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DEA4-0FA4-4DD0-B599-E596ED7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1D94-8557-44B0-993F-C7BF92D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8AE6-BFF6-486B-B666-A8BC279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EBAA-6C5F-4153-91AA-7267AB0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713E-813B-4541-A125-10086AD6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8731-99CE-48CC-B6A2-952985B9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6FF8-186A-4A27-8F7B-FC2E7D7C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9CCC-047B-482C-B556-9830BD0A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A62E-A251-4D65-A45D-4FF86CB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07-33B7-47ED-92AF-04945D2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4C1E-A4EA-4F73-BB5F-8F058C21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6A1D-AC03-426B-B136-669ACA54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ED85-CE10-4EFC-990E-892BCE32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FB55-4CBE-4BE1-BD55-629531F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17FF-A329-49F5-B7CC-8FC335FC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FB9E-7270-47EB-969B-59B29A1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F4B0-320C-413D-A3D8-6F0CEA4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D9DF-D90E-4E11-9A86-6B57C2F9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7045-D510-453A-8799-2E11FA38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BE20-318D-4EAC-8F41-E3A74252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219-669A-4945-91D4-06D872F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01EA-4185-49E6-8DA7-8BA25D6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1C846-9C33-4C20-A23D-C4359F6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9B035-2241-4633-8030-2CBDC3D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9588-C99A-4B9C-BACA-9621C48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AF33-6234-4848-8D6D-B77236E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672C-DD8B-48BF-8C92-4BF43D1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8A69-09B0-4F68-B822-B7C1466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4282-65FF-40E6-8457-9568FE1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132B2-A5DB-4A27-B4F8-6C5FCC86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653F-BB15-4F54-A773-CB90F010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F7F-FA65-4814-9F94-F5FE2B88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E913-9979-44D2-8319-521B00DD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674-9A37-4DBC-B7E4-355582D2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CF5-B598-48D8-B5BF-7B8B006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D46-D2E0-47C2-96F7-601F74F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3FC3-7A9E-42CB-BBDB-BFAFBA0A9B1F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B92E-E8D2-4B9D-95AF-76CC7A65111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EA9F-D4D0-4650-89B9-28A90BC36163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2CA-A02D-4682-B348-D2F76565A2E4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8785-A8ED-4375-BD0F-781D0EDB9AB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?De qué habla el turist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Franklin Gothic Book"/>
              </a:rPr>
              <a:t>HABLAMOS DE MÉX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Obrázek 3" descr="MEJICO.jpg"/>
          <p:cNvPicPr/>
          <p:nvPr/>
        </p:nvPicPr>
        <p:blipFill>
          <a:blip r:embed="rId1"/>
          <a:stretch/>
        </p:blipFill>
        <p:spPr>
          <a:xfrm>
            <a:off x="4714920" y="4143240"/>
            <a:ext cx="2487600" cy="162720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4"/>
          <p:cNvSpPr/>
          <p:nvPr/>
        </p:nvSpPr>
        <p:spPr>
          <a:xfrm>
            <a:off x="5960880" y="50004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VY_32_INOVACE_2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logo"/>
          <p:cNvPicPr/>
          <p:nvPr/>
        </p:nvPicPr>
        <p:blipFill>
          <a:blip r:embed="rId2"/>
          <a:stretch/>
        </p:blipFill>
        <p:spPr>
          <a:xfrm>
            <a:off x="428760" y="285840"/>
            <a:ext cx="293364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VOLCÁN ACTIV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4" name="Zástupný symbol pro obsah 3" descr="Popocatepetl-map.png"/>
          <p:cNvPicPr/>
          <p:nvPr/>
        </p:nvPicPr>
        <p:blipFill>
          <a:blip r:embed="rId1"/>
          <a:stretch/>
        </p:blipFill>
        <p:spPr>
          <a:xfrm>
            <a:off x="1550880" y="192888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POPOCATEPET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Zástupný symbol pro obsah 3" descr="POPOCATEPETL.jpg"/>
          <p:cNvPicPr/>
          <p:nvPr/>
        </p:nvPicPr>
        <p:blipFill>
          <a:blip r:embed="rId1"/>
          <a:stretch/>
        </p:blipFill>
        <p:spPr>
          <a:xfrm>
            <a:off x="1371600" y="14479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TLALNEPANT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8" name="Zástupný symbol pro obsah 3" descr="46993385.jpg"/>
          <p:cNvPicPr/>
          <p:nvPr/>
        </p:nvPicPr>
        <p:blipFill>
          <a:blip r:embed="rId1"/>
          <a:stretch/>
        </p:blipFill>
        <p:spPr>
          <a:xfrm>
            <a:off x="2419200" y="19479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GRAN PRESA DE NECAX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Zástupný symbol pro obsah 3" descr="imagesCA7D5GJ3.jpg"/>
          <p:cNvPicPr/>
          <p:nvPr/>
        </p:nvPicPr>
        <p:blipFill>
          <a:blip r:embed="rId1"/>
          <a:stretch/>
        </p:blipFill>
        <p:spPr>
          <a:xfrm>
            <a:off x="785880" y="1571760"/>
            <a:ext cx="2171520" cy="1771560"/>
          </a:xfrm>
          <a:prstGeom prst="rect">
            <a:avLst/>
          </a:prstGeom>
          <a:ln w="0">
            <a:noFill/>
          </a:ln>
        </p:spPr>
      </p:pic>
      <p:pic>
        <p:nvPicPr>
          <p:cNvPr id="241" name="Obrázek 4" descr="8073893405_0483468b34.jpg"/>
          <p:cNvPicPr/>
          <p:nvPr/>
        </p:nvPicPr>
        <p:blipFill>
          <a:blip r:embed="rId2"/>
          <a:stretch/>
        </p:blipFill>
        <p:spPr>
          <a:xfrm>
            <a:off x="3143160" y="2357280"/>
            <a:ext cx="55324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XOCHIMIL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Zástupný symbol pro obsah 3" descr="Xochimilco.jpg"/>
          <p:cNvPicPr/>
          <p:nvPr/>
        </p:nvPicPr>
        <p:blipFill>
          <a:blip r:embed="rId1"/>
          <a:stretch/>
        </p:blipFill>
        <p:spPr>
          <a:xfrm>
            <a:off x="1071720" y="1500120"/>
            <a:ext cx="65023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NEZAHUALCÓYOT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5" name="Zástupný symbol pro obsah 5" descr="imagesCAYSOB40.jpg"/>
          <p:cNvPicPr/>
          <p:nvPr/>
        </p:nvPicPr>
        <p:blipFill>
          <a:blip r:embed="rId1"/>
          <a:stretch/>
        </p:blipFill>
        <p:spPr>
          <a:xfrm>
            <a:off x="1357200" y="2500200"/>
            <a:ext cx="1933560" cy="237168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6"/>
          <p:cNvSpPr/>
          <p:nvPr/>
        </p:nvSpPr>
        <p:spPr>
          <a:xfrm>
            <a:off x="4143240" y="1571760"/>
            <a:ext cx="3786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erpetua"/>
              </a:rPr>
              <a:t>Acolmiztli Nezahualcóyotl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 (1402 – 1472) fue el monarca de la ciudad-estado de Tetzcuco en el México antiguo.  Era hijo del sexto señor de los chichimecas</a:t>
            </a: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y de la princesa mexica</a:t>
            </a: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 Matlalcihuatzin, hija del tlatoani azteca Huitzilíhuitl, segundo señor de Tenochtit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Použité zdroj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tlalnepantla&amp;hl=cs&amp;sa=X&amp;tbo=d&amp;biw=1366&amp;bih=638&amp;tbm=isch&amp;tbnid=FIf3jLWM9ryhOM:&amp;imgrefurl=http://www.panoramio.com/photo/46993385&amp;docid=9Q-Wmvck0E5F_M&amp;imgurl=http://mw2.google.com/mw-panoramio/photos/medium/46993385.jpg&amp;w=500&amp;h=375&amp;ei=4Sa6UNPVFJDItAbsgoCYAQ&amp;zoom=1&amp;iact=hc&amp;vpx=224&amp;vpy=27&amp;dur=1715&amp;hovh=194&amp;hovw=259&amp;tx=148&amp;ty=111&amp;sig=116640466577946257547&amp;page=4&amp;tbnh=150&amp;tbnw=223&amp;start=77&amp;ndsp=29&amp;ved=1t:429,r:78,s:0,i:323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POPOCATEPETL&amp;start=122&amp;hl=cs&amp;tbo=d&amp;biw=1366&amp;bih=638&amp;tbm=isch&amp;tbnid=VB4XlCmIBtFt0M:&amp;imgrefurl=http://worldzone7.blogspot.com/2012/11/popocatepetl-volcano-puebla-state-of.html&amp;docid=4KFrIJJF0kXKgM&amp;imgurl=http://2.bp.blogspot.com/-qv2oxfHVSzE/UKC0-L08kwI/AAAAAAAAIfQ/HBU-i4w5Iro/s1600/Popocatepetl%252BVolcano%252BPuebla%252BState%252Bof%252BMexico.jpg&amp;w=900&amp;h=600&amp;ei=7yi6UIXLEcjPsga2hoGICA&amp;zoom=1&amp;iact=hc&amp;vpx=605&amp;vpy=342&amp;dur=4272&amp;hovh=183&amp;hovw=275&amp;tx=112&amp;ty=141&amp;sig=116640466577946257547&amp;page=6&amp;tbnh=141&amp;tbnw=232&amp;ndsp=24&amp;ved=1t:429,r:37,s:100,i:115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POPOCATEPETL&amp;start=196&amp;hl=cs&amp;tbo=d&amp;biw=1366&amp;bih=638&amp;tbm=isch&amp;tbnid=dohfhyDe15DfQM:&amp;imgrefurl=http://volcanofiles.com/2012/08/21/photos-from-popocatepetl-2001-2002/&amp;docid=wKyoS2h7ejF7rM&amp;imgurl=http://www.lunarplanner.com/EGM/2012-03-22/Popocatepetl-map.png&amp;w=360&amp;h=200&amp;ei=Hym6UMriGorftAaI9oCwAg&amp;zoom=1&amp;iact=hc&amp;vpx=2&amp;vpy=23&amp;dur=2906&amp;hovh=160&amp;hovw=288&amp;tx=88&amp;ty=102&amp;sig=116640466577946257547&amp;page=9&amp;tbnh=141&amp;tbnw=254&amp;ndsp=24&amp;ved=1t:429,r:96,s:100,i:292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cs.wikipedia.org/wiki/Popocat%C3%A9petl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search?q=POPOCATEPETL+WIKIPEDIA&amp;hl=cs&amp;tbo=d&amp;source=lnms&amp;sa=X&amp;ei=kCm6UM6uLYSjtAaKtYC4Bg&amp;ved=0CAMQ_AUoAA&amp;biw=1366&amp;bih=638#hl=cs&amp;tbo=d&amp;sclient=psy-ab&amp;q=nezahualcoyotl%20biografia&amp;oq=&amp;gs_l=&amp;pbx=1&amp;bav=on.2,or.r_gc.r_pw.r_qf.&amp;fp=87b581a846c1cef&amp;bpcl=39314241&amp;biw=1366&amp;bih=638&amp;pf=p&amp;pdl=300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es.wikipedia.org/wiki/Nezahualc%C3%B3yotl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PRESA+DE+AGUA+NECAXA&amp;hl=cs&amp;tbo=d&amp;biw=1366&amp;bih=638&amp;tbm=isch&amp;tbnid=tHwi-uKdNWpAcM:&amp;imgrefurl=http://www.laprimeradepuebla.com/DetalleNoticia.php%3Fnota%3D15233&amp;docid=NyhuQ0RRDsIS-M&amp;imgurl=http://www.laprimeradepuebla.com/%2527images_noticias/necaxa1.jpg&amp;w=286&amp;h=233&amp;ei=KCy6UICuE8jKsgad_YGADw&amp;zoom=1&amp;iact=hc&amp;vpx=382&amp;vpy=315&amp;dur=423&amp;hovh=186&amp;hovw=228&amp;tx=84&amp;ty=101&amp;sig=116640466577946257547&amp;page=2&amp;tbnh=141&amp;tbnw=164&amp;start=19&amp;ndsp=26&amp;ved=1t:429,r:28,s:0,i:169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PRESA+DE+AGUA+NECAXA&amp;hl=cs&amp;tbo=d&amp;biw=1366&amp;bih=638&amp;tbm=isch&amp;tbnid=ovhn_-boh4GlbM:&amp;imgrefurl=http://www.flickriver.com/places/Mexico/Puebla/Necaxa/&amp;docid=BzlVMNQ4RZXCpM&amp;imgurl=http://farm9.static.flickr.com/8449/8073893405_0483468b34.jpg&amp;w=500&amp;h=332&amp;ei=KCy6UICuE8jKsgad_YGADw&amp;zoom=1&amp;iact=hc&amp;vpx=2&amp;vpy=2&amp;dur=2852&amp;hovh=183&amp;hovw=276&amp;tx=156&amp;ty=53&amp;sig=116640466577946257547&amp;page=1&amp;tbnh=150&amp;tbnw=251&amp;start=0&amp;ndsp=19&amp;ved=1t:429,r:13,s:0,i:120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Perpetua"/>
              </a:rPr>
              <a:t>http://www.google.cz/imgres?q=XOCHIMILCO&amp;hl=cs&amp;tbo=d&amp;biw=1366&amp;bih=638&amp;tbm=isch&amp;tbnid=LMlZ6fIG5b1jmM:&amp;imgrefurl=http://gardeningandthespanishway-rohrerbot.blogspot.com/2011/03/xochimilco-mexico-city.html&amp;docid=MDIN77ke0ABVwM&amp;imgurl=http://3.bp.blogspot.com/-VxJJDSNqpc8/TWa0C7pydOI/AAAAAAAADiw/olRNbEM3knw/s1600/Xochimilco.jpg&amp;w=1568&amp;h=1049&amp;ei=Ky26UKnRCMXGswbpq4HoDg&amp;zoom=1&amp;iact=hc&amp;vpx=1048&amp;vpy=2&amp;dur=416&amp;hovh=184&amp;hovw=275&amp;tx=166&amp;ty=55&amp;sig=116640466577946257547&amp;page=1&amp;tbnh=138&amp;tbnw=190&amp;start=0&amp;ndsp=20&amp;ved=1t:429,r:6,s:0,i:99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5:50:42Z</dcterms:created>
  <dc:creator>Tereza</dc:creator>
  <dc:description/>
  <dc:language>en-US</dc:language>
  <cp:lastModifiedBy>Martina Kykalová</cp:lastModifiedBy>
  <dcterms:modified xsi:type="dcterms:W3CDTF">2013-02-01T20:33:57Z</dcterms:modified>
  <cp:revision>4</cp:revision>
  <dc:subject/>
  <dc:title>HABLAMOS DE MÉXICO</dc:title>
</cp:coreProperties>
</file>