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6E8-E24F-4C37-A58F-33169B9F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CFD-00A6-4CBE-A5D5-9241DF1A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7A3-7040-4C6C-B855-19038832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207-13F1-4038-BBCD-16645942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5D44-8791-447B-875A-659D4A21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D152-93F3-48D1-BFF5-834B5EA6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E3FF-8A5B-46B0-865A-0508FC30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EFE3-99F6-4052-BC1C-D3AD6310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8DBB-D7CE-4010-9669-D1199A06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10D6-12CE-4268-8E25-C24816DD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1EE0-CDCC-489D-872E-EF53836B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23B-0479-4077-A56C-8B350762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4A04-39EC-4ABA-BA23-69FEFB6A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680D-C0BF-4AFA-B072-F3D8C81A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01FB-4E09-41C9-B86C-5A626B5C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81A6-E76A-4475-875B-DA8D1C90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5838-A8D2-46CB-B310-4813B733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E286-97B3-424E-86A0-722AED2E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E48D-0EF1-4272-B297-C453F629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A1BE-EC3A-41A9-9631-D7C9B5EF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8A8F9-95EB-4FC5-B166-552056AD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10B10-6BA9-4F19-A863-8070E1A7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92D-EC0C-445D-800D-1A991074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CE066-33CA-4E28-AC70-5D3EF54C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4263F-F88F-44F9-A39B-AE3374AA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ACC1-0FC8-40C2-AA08-0FDC8534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B6A6-E776-42A8-84BD-0E911C91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7311-9157-44CA-8578-11E09808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5416-2DA9-4212-95C8-0D980A8F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9D277-CDA1-49F5-B897-2E37F7F7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CE58D-E58E-4FBC-B9E2-ECECA785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BE1B2-B5B2-49ED-8E9F-1C04ED5B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5EB7-71B2-497C-834B-B564A685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27B-08E4-48F6-98CB-7588F7FE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B2F43-0844-4E2A-9E3F-7AB90784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56C47-A447-453A-B008-904FA30E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CDEAE-EFAD-4F30-B331-ED81F02B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8FC20-3054-4B33-99F0-9F042B56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8B983-7A42-4F7E-9E48-B8DA6DF9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8A24-F104-47E8-995E-B1846067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3C946-45B5-418D-89CA-F1DCE052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E2D62-852B-4847-9395-EF49B321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FFF0-18BE-4B17-BFBB-D510EA0E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42AFF-A309-497F-9C45-32E85402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4FF-3BBC-4ACC-9460-0543D3DF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62D01-9AD4-4650-A4A1-8BA2CE87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275B2-856A-4FCD-A2B8-6BB93CE8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A70E1-EA36-4F0D-8E62-EEF6E856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742B9-9469-4D17-AD3E-09773C4A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B6AE9-2C69-47DF-9C48-FB70E11E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C423B-29E0-47FB-AAA3-ECD92178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7930F-BCCE-4362-AA9F-1796AF75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E81E1-2B06-4A7D-A2F9-703AFA4F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972C9-CE44-43D6-8B13-C1FA0FEA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1EB8C-1C14-42EF-97F9-7D71858A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A36-9F07-47F2-95C9-865B4526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0C10D-87E8-46EE-8FA6-F86E5158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F14-771F-4D2E-871E-A96E3BC4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C2C-AB76-4655-9BA9-887ABEF3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CCD-5461-40A4-9943-858C3453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8483-4B02-47A7-8DAF-771A458D514B}" type="slidenum">
              <a:rPr b="0" lang="cs-CZ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CFEE-6D67-4860-8719-E6FF6A64C823}" type="slidenum">
              <a:rPr b="0" lang="cs-CZ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8649-02C9-4E18-9703-BC041B0B79B1}" type="slidenum">
              <a:rPr b="0" lang="cs-CZ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C1E0-0D5D-48B3-97E2-BB704ACF8737}" type="slidenum">
              <a:rPr b="0" lang="cs-CZ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FD14-223C-417C-B068-678B43F2D440}" type="slidenum">
              <a:rPr b="0" lang="cs-CZ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GAZPACHO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LA SOPA FR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?QUÉ NECESITAMOS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Zástupný symbol pro obsah 3" descr="rajcata_kerik.jpg"/>
          <p:cNvPicPr/>
          <p:nvPr/>
        </p:nvPicPr>
        <p:blipFill>
          <a:blip r:embed="rId1"/>
          <a:stretch/>
        </p:blipFill>
        <p:spPr>
          <a:xfrm>
            <a:off x="857160" y="785880"/>
            <a:ext cx="3551400" cy="200016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papriky.bmp"/>
          <p:cNvPicPr/>
          <p:nvPr/>
        </p:nvPicPr>
        <p:blipFill>
          <a:blip r:embed="rId2"/>
          <a:stretch/>
        </p:blipFill>
        <p:spPr>
          <a:xfrm>
            <a:off x="5572080" y="714240"/>
            <a:ext cx="2521080" cy="208152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okurky.bmp"/>
          <p:cNvPicPr/>
          <p:nvPr/>
        </p:nvPicPr>
        <p:blipFill>
          <a:blip r:embed="rId3"/>
          <a:stretch/>
        </p:blipFill>
        <p:spPr>
          <a:xfrm>
            <a:off x="3429000" y="3143160"/>
            <a:ext cx="30002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AŇADIMO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Zástupný symbol pro obsah 3" descr="cibule.bmp"/>
          <p:cNvPicPr/>
          <p:nvPr/>
        </p:nvPicPr>
        <p:blipFill>
          <a:blip r:embed="rId1"/>
          <a:stretch/>
        </p:blipFill>
        <p:spPr>
          <a:xfrm>
            <a:off x="963720" y="2571840"/>
            <a:ext cx="3108240" cy="2071440"/>
          </a:xfrm>
          <a:prstGeom prst="rect">
            <a:avLst/>
          </a:prstGeom>
          <a:ln w="0">
            <a:noFill/>
          </a:ln>
        </p:spPr>
      </p:pic>
      <p:pic>
        <p:nvPicPr>
          <p:cNvPr id="228" name="Obrázek 4" descr="česnek.bmp"/>
          <p:cNvPicPr/>
          <p:nvPr/>
        </p:nvPicPr>
        <p:blipFill>
          <a:blip r:embed="rId2"/>
          <a:stretch/>
        </p:blipFill>
        <p:spPr>
          <a:xfrm>
            <a:off x="5143680" y="2428920"/>
            <a:ext cx="25714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HAY QUE AŇADIR ….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Zástupný symbol pro obsah 3" descr="ocet jablecny.bmp"/>
          <p:cNvPicPr/>
          <p:nvPr/>
        </p:nvPicPr>
        <p:blipFill>
          <a:blip r:embed="rId1"/>
          <a:stretch/>
        </p:blipFill>
        <p:spPr>
          <a:xfrm>
            <a:off x="3714840" y="12142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231" name="Obrázek 4" descr="olivový olej.jpg"/>
          <p:cNvPicPr/>
          <p:nvPr/>
        </p:nvPicPr>
        <p:blipFill>
          <a:blip r:embed="rId2"/>
          <a:stretch/>
        </p:blipFill>
        <p:spPr>
          <a:xfrm>
            <a:off x="1071720" y="1000080"/>
            <a:ext cx="1981080" cy="2314800"/>
          </a:xfrm>
          <a:prstGeom prst="rect">
            <a:avLst/>
          </a:prstGeom>
          <a:ln w="0">
            <a:noFill/>
          </a:ln>
        </p:spPr>
      </p:pic>
      <p:pic>
        <p:nvPicPr>
          <p:cNvPr id="232" name="Obrázek 5" descr="sůl.bmp"/>
          <p:cNvPicPr/>
          <p:nvPr/>
        </p:nvPicPr>
        <p:blipFill>
          <a:blip r:embed="rId3"/>
          <a:stretch/>
        </p:blipFill>
        <p:spPr>
          <a:xfrm>
            <a:off x="5715000" y="3500280"/>
            <a:ext cx="2357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TODO BATIMO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Zástupný symbol pro obsah 3" descr="mixér.bmp"/>
          <p:cNvPicPr/>
          <p:nvPr/>
        </p:nvPicPr>
        <p:blipFill>
          <a:blip r:embed="rId1"/>
          <a:stretch/>
        </p:blipFill>
        <p:spPr>
          <a:xfrm>
            <a:off x="3857760" y="785880"/>
            <a:ext cx="3786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ERVIMOS FRÍ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Zástupný symbol pro obsah 3" descr="GAZPACHO.bmp"/>
          <p:cNvPicPr/>
          <p:nvPr/>
        </p:nvPicPr>
        <p:blipFill>
          <a:blip r:embed="rId1"/>
          <a:stretch/>
        </p:blipFill>
        <p:spPr>
          <a:xfrm>
            <a:off x="1571760" y="1000080"/>
            <a:ext cx="57150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15:08:36Z</dcterms:created>
  <dc:creator>Uživatel</dc:creator>
  <dc:description/>
  <dc:language>en-US</dc:language>
  <cp:lastModifiedBy>Uživatel</cp:lastModifiedBy>
  <dcterms:modified xsi:type="dcterms:W3CDTF">2013-06-11T16:06:36Z</dcterms:modified>
  <cp:revision>6</cp:revision>
  <dc:subject/>
  <dc:title>Snímek 1</dc:title>
</cp:coreProperties>
</file>