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86A4C-AEF9-4D74-9DBC-C7F8F00BC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90E70-AFE0-4DCF-9920-A1B195DA4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81DCB1C-7C34-48B8-A245-CD992FDBA20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7BB95F3-6474-4025-98D7-574797233AF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8DCCC48-BF8A-4A78-9AF0-4FA0C4BD67D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01AEAE8-0977-4747-9287-FBB7D88B343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B780096-AF99-4454-AD9C-5488CF8CBEC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4EF13FA-9694-489A-B73F-8808E96D8C2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5E2B776-1B05-4CB2-A850-0CCE84E413A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7B7C153-E963-46C3-8574-C088ECD7992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CC5C889-80BB-4C3C-976C-A3BF24C8547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F3A8859-C05D-4A98-85B9-5AFDB6A8AB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63AF6-718A-4F17-A9DC-51F2E02C2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4B33251-64D9-4DC0-904F-EA648129B3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69F18A8-AB50-44E5-AE7D-5A327A7F4A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A29F3B4-204A-439D-ACAE-CD69C9E211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9AEDF4F-3691-4514-8C9C-F7EEE35138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3C60097-E04E-4AE2-A363-E0A0A9CCC8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21F9C1F-1B62-4579-9BD4-72ED353203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5D33DA5-1246-45E4-862E-2096619935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6979D9E-C27F-435E-AC5D-FC11668F13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E1634CC-84F1-4E88-9D6A-2497471D46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791E01A-5003-4944-B358-1B50950E62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F262A-8A20-4383-8203-AF8FBBBC9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4E8E6FA-8087-453E-AAA0-0792FF969A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B4F487-9F25-40D6-A64D-8528C72E71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CD13C5-1C8A-4CB9-991E-EC5C33C157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CBDFC0-E126-45A9-9043-6C8714BCDB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F0244A-9C3D-4FFD-86FA-65AA448485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D00276-4270-485B-8F6E-431A2363DD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F3A130-02AF-40B0-AEEC-C16CE765D2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5916C7-F3E5-4296-89D0-3AFD367B48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4A6425-5840-43DC-A66B-187767EFE6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B3375E-2295-4D5A-B8B0-0A4FA20E6A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8F7BA-4A15-40F2-8EB3-0AC5D63A5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21E5CA-59D2-4221-A024-FCF003E3A1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DF5C544-02DB-47B8-B02C-3DC9B4DB1F1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F2B81F-5314-47A9-90D1-EBEE04EA2C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07B5D26-8B69-460C-A774-6D51F611B5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84AECAC-0023-4C98-8886-A5E7CD14A9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C1152E3-84BD-4547-AE6B-9A42421AC8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9936BA7-201C-45F8-984C-CCC090219A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20267B3-EB36-48C9-9A8B-06123C0CB6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C52CD74-C2CE-48BB-98CF-BD3F3A5E60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8C5BCC2-1D21-44A6-8770-026638907F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2A77B-95CC-4E63-B846-9E58C98C2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EDC2D11-001B-451D-8A7C-6362736272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23FA34C-AAC0-4251-9132-E9CC8F1357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D00BD8C-EE79-4E85-9CA9-DAC5FD3E31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6E6E835-43D4-4FE2-968D-0C992F774C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1329B00-A927-4767-84AA-CAAB7B4FFE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D13BF-D38A-43C2-888E-F9E8E99A4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EB2BC-4985-4CF4-83D9-D48629342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F6CEB-02FA-462F-9EC9-AC09548D2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332EC-5721-4B5D-AD51-B26906C73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6BDD5-EEB6-43F9-95D3-7784404CD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6CE50-E995-4637-8648-16D603F48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B71BC-1E24-437D-8A6D-6F0EAE127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4F2CC-CA81-4358-98A7-7C7D1BF1A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2960A-98EA-4EC5-A62C-B7B3C812C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9F54A-825C-4EB5-B163-EF193CC88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D799E-1C0E-45BF-8F9C-FB6E619CF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07D057-2AA1-4BD8-A618-155CF266E6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87D8A1-A967-4BEC-9631-55240CE8F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61CF9D-F1A2-4AFD-95EF-78A366A8EE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83D3B0-0CA6-4963-A550-93DED3D3FD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3E3585-2363-4BBE-8D0C-2B992A8F69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11CD3-97FF-4195-8C05-34FCCAF4D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C3BCF0-0014-46A8-ABCA-14AE67C308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8BFBD-B1A4-44BC-836C-4868889F0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390A1-6177-44C2-A852-02C0E9095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97C79-0C50-42F7-82A0-CE454576C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F2B722-AACA-4FB0-9C69-1FC6F2ED86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F32C19-583A-4750-A0E2-9E3D88A106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E34ED1-8828-45B3-85ED-0DD887D323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40E4B1E-1938-4043-B5F7-4E833A8FEDD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D8C2436-2F65-4B5C-8904-92A455D2B2E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3D8661D-FA36-4D06-BAD8-6A893BAF8E6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EB5BD-9B92-45DF-80E8-497ABEBD1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3BCD311-B33D-4D06-8EFE-BCFCF176445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41FF0CF-C3A9-4DAC-A9AE-DB91FAA1EEC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F60002E-57F3-481A-9A00-DBB184A60D8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FAF3CA0-BCDC-4C18-8A80-4019A08B31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1287142-7125-46F1-87D9-75047EAFBF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DD397CE-DD77-4A84-9C4D-4C7D53C8806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70AAF04-A0AA-4879-A154-29C9C281283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92663A9-051C-44C8-9EE8-37FEA654DB4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4BD18B7-0A42-4B30-9AF5-731A69D58E0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933D66-6CA4-471F-9E36-718B138953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B51D0-1173-4220-A484-965F00E74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7B7946-FBF5-4E15-B4DD-06B1751D15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1EA7C0-6A41-422D-A9AE-1517853D42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591AAF-0EFF-4964-8EB7-1445FCB352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E2D438-5EC2-49C9-B042-6EA5DF9BE7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B78746-409B-4C6C-850D-2C108E3504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A43158-E211-4E26-8F7A-5B84F0CEC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729C3F-5125-4180-B8A8-B7261625D0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63C067-F1DD-47E2-9B9F-BADA0FBDDB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42129A-82F0-4F7E-B083-42D98EF30A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D81ECF-9AA7-402C-8482-94564B335D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599E5-1610-493D-B5C9-A0D84B5ED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C82631-2479-4CFC-A586-FD32880414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F9E83C-B42C-4486-88E7-B4C39CF17F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99B0F5-B652-46C7-97E8-41992216A1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F0729F-1675-4563-810B-76BDD2D0A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D31ADF-BE63-49FE-A54B-232E83E0F3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8AA806-5883-4568-93C4-9A24D170E5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7BBEC4-CF36-4C13-A0AA-18F6D8F846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46CFE1-E168-4B0A-AE51-CF92E972DB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F3A5C3-A18A-4CB7-B4F5-9F77AA06DC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688B4-1700-45CF-AD67-AD111A1574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5968E-A87D-4F22-947F-82BC03D11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04A7B9-4FEE-46C7-A734-D7D306E96B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CE53FE-8451-4986-AB70-86132633C4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B19906-FA3D-4CC6-AD41-200C84D04E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D02804-91B7-4C04-AC51-B01C5F7A93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F2E0E4-10BA-4B1B-90A0-890DCE0C63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7087E-B818-4F17-A58F-5166FF94B0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CB8EB2-1F61-4481-ABA2-52729FA33C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955963-D4A5-4267-B6C4-C1259D56AF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D82182-8C4D-4D06-BD52-BCAB361B09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C8F70F-9200-4800-8111-ABBC35B588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FD208-0466-416A-93B1-B99EEF8D8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515C32-0FA3-45C0-B93E-75573A359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DF8F51-FF9B-46EE-8782-42212FA8F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4F8BFA-90D9-45E3-A47C-D2B4015CF8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7BFC8B-7BB9-48FB-8FBC-A6E2DF7A5E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B93A25-3D80-45FB-B540-5FCD6A50CB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C59FD4-4EB0-4B09-8EC3-02D9D5D764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E5F0AD-F9D0-4C29-A42F-60D75CC4CD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344DEC-300F-4CE7-BF6B-382688E385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47E8EE-9DB4-4E13-868F-0F3FBFB81A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9BD0F5-BD77-418F-AE0C-88A31ECCD4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B56D7-E118-4645-8C0A-BFF098262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38BCA8-A585-4868-8289-63F4AE07FD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F15F1-BBF1-4E1A-B631-13E0BDC8B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A05820-1596-40D2-9BDE-E41273F1FF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C5237-B5B5-4B26-8D62-1558D4D79A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BCCC82-2B7E-4C5F-B4C0-CE62CF65C0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2C08A6-F155-4EFB-876B-3E83FCF3B7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DC112F-939B-4657-A873-51CE1F2833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65BBE88-69F1-4873-BC91-D41E650C71C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764C36B-9C11-4F53-ABA6-CFDDC011A4D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762D2E4-01B2-4917-9C3A-8FCF4C6E41C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561E-C8CC-4D40-AC5B-B12F00BDE8FE}" type="datetime">
              <a:rPr b="0" lang="cs-CZ" sz="1400" spc="-1" strike="noStrike">
                <a:solidFill>
                  <a:srgbClr val="ffffff"/>
                </a:solidFill>
                <a:latin typeface="Georgia"/>
              </a:rPr>
              <a:t>30.07.20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Times New Roman"/>
            </a:endParaRPr>
          </a:p>
        </p:txBody>
      </p:sp>
      <p:sp>
        <p:nvSpPr>
          <p:cNvPr id="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1878-DF09-4F3D-AA8B-C6AD1B6F4614}"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římá spojovací čára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bdélník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bdélní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bdélník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bdélník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bdélník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bdélník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8CBD-9F6C-46C7-8A18-0E54EC152966}"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C70D-F5E0-4539-BDBD-01927F8BA23A}" type="datetime">
              <a:rPr b="0" lang="cs-CZ" sz="1400" spc="-1" strike="noStrike">
                <a:solidFill>
                  <a:srgbClr val="ffffff"/>
                </a:solidFill>
                <a:latin typeface="Georgia"/>
              </a:rPr>
              <a:t>30.07.20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4678-4E9E-46B1-95BF-285BB22AF246}" type="datetime">
              <a:rPr b="0" lang="cs-CZ" sz="1400" spc="-1" strike="noStrike">
                <a:solidFill>
                  <a:srgbClr val="ffffff"/>
                </a:solidFill>
                <a:latin typeface="Georgia"/>
              </a:rPr>
              <a:t>30.07.20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C011-FB46-40B7-8BF8-6655A2240E3E}"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bdélní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bdélník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bdélní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bdélník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bdélník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římá spojovací čára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Elipsa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Elipsa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DB2A-E049-4074-B689-867D10823475}"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23F9-EC32-4042-82E1-111270653CEC}" type="datetime">
              <a:rPr b="0" lang="cs-CZ" sz="1400" spc="-1" strike="noStrike">
                <a:solidFill>
                  <a:srgbClr val="ffffff"/>
                </a:solidFill>
                <a:latin typeface="Georgia"/>
              </a:rPr>
              <a:t>30.07.20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bdélní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bdélník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bdélník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bdélník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římá spojovací čára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Obdélník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Elipsa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Elipsa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F79B-5258-4FF7-9760-CC019E1AF611}" type="datetime">
              <a:rPr b="0" lang="cs-CZ" sz="1400" spc="-1" strike="noStrike">
                <a:solidFill>
                  <a:srgbClr val="ffffff"/>
                </a:solidFill>
                <a:latin typeface="Georgia"/>
              </a:rPr>
              <a:t>30.07.20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BA0D-3E05-4C01-B4EA-E5C7746F6D5C}"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3DA9-BF13-46D8-A020-0D71877BA897}" type="datetime">
              <a:rPr b="0" lang="cs-CZ" sz="1400" spc="-1" strike="noStrike">
                <a:solidFill>
                  <a:srgbClr val="ffffff"/>
                </a:solidFill>
                <a:latin typeface="Georgia"/>
              </a:rPr>
              <a:t>30.07.20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6E98-6684-4788-B947-5B83EE912CCD}"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bdélní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bdélník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bdélník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římá spojovací čára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Elipsa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Elipsa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E121-2087-44E2-A44F-E6D9B5326C5D}" type="datetime">
              <a:rPr b="0" lang="cs-CZ" sz="1400" spc="-1" strike="noStrike">
                <a:solidFill>
                  <a:srgbClr val="ffffff"/>
                </a:solidFill>
                <a:latin typeface="Georgia"/>
              </a:rPr>
              <a:t>30.07.20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1281-4028-469E-8E89-4CADFE657271}"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římá spojovací čára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DAD9-331B-4F08-A2B0-45333B11A8C7}" type="datetime">
              <a:rPr b="0" lang="cs-CZ" sz="1400" spc="-1" strike="noStrike">
                <a:solidFill>
                  <a:srgbClr val="ffffff"/>
                </a:solidFill>
                <a:latin typeface="Georgia"/>
              </a:rPr>
              <a:t>30.07.20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F042-77B8-407A-99AD-0DC4AE71D8A1}"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Přímá spojovací čára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Obdélní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bdélník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bdélní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římá spojovací čára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Obdélník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lipsa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lipsa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13D2-91EA-40E8-AA7B-8969C9F1C7C2}" type="datetime">
              <a:rPr b="0" lang="cs-CZ" sz="1400" spc="-1" strike="noStrike">
                <a:solidFill>
                  <a:srgbClr val="ffffff"/>
                </a:solidFill>
                <a:latin typeface="Georgia"/>
              </a:rPr>
              <a:t>30.07.20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C2FB-A668-4CBF-AB37-E68FC9D516A4}"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8855-99BE-4F3A-99F0-81BCCB19F48D}" type="datetime">
              <a:rPr b="0" lang="cs-CZ" sz="1400" spc="-1" strike="noStrike">
                <a:solidFill>
                  <a:srgbClr val="ffffff"/>
                </a:solidFill>
                <a:latin typeface="Georgia"/>
              </a:rPr>
              <a:t>30.07.20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6233-6C4B-4CE4-BB40-B6982DBA7570}"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bdélní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bdélník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bdélní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bdélník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bdélník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4BB1-7B27-4EBE-8192-7C75A2C7BC24}" type="datetime">
              <a:rPr b="0" lang="cs-CZ" sz="1400" spc="-1" strike="noStrike">
                <a:solidFill>
                  <a:srgbClr val="ffffff"/>
                </a:solidFill>
                <a:latin typeface="Georgia"/>
              </a:rPr>
              <a:t>30.07.20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A8D2-D452-4B41-A9CB-867CF664ECDC}" type="slidenum">
              <a:rPr b="0" lang="cs-CZ"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Obdélník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bdélník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bdélník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bdélník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bdélník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římá spojovací čára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bdélník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B134-CE99-4BD4-B382-877FCFA4605A}"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A05D-0504-415D-9B69-AA75A29B5FEA}" type="datetime">
              <a:rPr b="0" lang="cs-CZ" sz="1400" spc="-1" strike="noStrike">
                <a:solidFill>
                  <a:srgbClr val="ffffff"/>
                </a:solidFill>
                <a:latin typeface="Georgia"/>
              </a:rPr>
              <a:t>30.07.20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Soubor:Quiroga1900a.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46b86"/>
                </a:solidFill>
                <a:latin typeface="Georgia"/>
              </a:rPr>
              <a:t>LA LITERATURA LATINOAMERICANA</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d16349"/>
                </a:solidFill>
                <a:latin typeface="Georgia"/>
              </a:rPr>
              <a:t>La literatura de Uruguay</a:t>
            </a:r>
            <a:endParaRPr b="0" lang="en-US" sz="4200" spc="-1" strike="noStrike">
              <a:solidFill>
                <a:srgbClr val="7b9899"/>
              </a:solidFill>
              <a:latin typeface="Georgia"/>
            </a:endParaRPr>
          </a:p>
        </p:txBody>
      </p:sp>
      <p:pic>
        <p:nvPicPr>
          <p:cNvPr id="608" name="Picture 2" descr="http://upload.wikimedia.org/wikipedia/commons/thumb/2/2f/Quiroga1900a.jpg/180px-Quiroga1900a.jpg">
            <a:hlinkClick r:id="rId1"/>
          </p:cNvPr>
          <p:cNvPicPr/>
          <p:nvPr/>
        </p:nvPicPr>
        <p:blipFill>
          <a:blip r:embed="rId2"/>
          <a:stretch/>
        </p:blipFill>
        <p:spPr>
          <a:xfrm>
            <a:off x="5143680" y="3571920"/>
            <a:ext cx="1714320" cy="2486160"/>
          </a:xfrm>
          <a:prstGeom prst="rect">
            <a:avLst/>
          </a:prstGeom>
          <a:ln w="0">
            <a:noFill/>
          </a:ln>
        </p:spPr>
      </p:pic>
      <p:sp>
        <p:nvSpPr>
          <p:cNvPr id="609" name="Zástupný symbol pro zápatí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Arial"/>
            </a:endParaRPr>
          </a:p>
        </p:txBody>
      </p:sp>
      <p:pic>
        <p:nvPicPr>
          <p:cNvPr id="610" name="Picture 5" descr="logo"/>
          <p:cNvPicPr/>
          <p:nvPr/>
        </p:nvPicPr>
        <p:blipFill>
          <a:blip r:embed="rId3"/>
          <a:stretch/>
        </p:blipFill>
        <p:spPr>
          <a:xfrm>
            <a:off x="5580000" y="457200"/>
            <a:ext cx="2933640" cy="65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7b9899"/>
                </a:solidFill>
                <a:latin typeface="Georgia"/>
              </a:rPr>
              <a:t>Felisberto Hernández</a:t>
            </a:r>
            <a:r>
              <a:rPr b="0" lang="es-ES" sz="3300" spc="-1" strike="noStrike">
                <a:solidFill>
                  <a:srgbClr val="7b9899"/>
                </a:solidFill>
                <a:latin typeface="Georgia"/>
              </a:rPr>
              <a:t> </a:t>
            </a:r>
            <a:endParaRPr b="0" lang="en-US" sz="3300" spc="-1" strike="noStrike">
              <a:solidFill>
                <a:srgbClr val="7b9899"/>
              </a:solidFill>
              <a:latin typeface="Georgia"/>
            </a:endParaRPr>
          </a:p>
        </p:txBody>
      </p:sp>
      <p:sp>
        <p:nvSpPr>
          <p:cNvPr id="61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eorgia"/>
              </a:rPr>
              <a:t>(1902–1964), genial cuentista que da expresión a los impulsos del inconsciente por medio de una estructura alógica en </a:t>
            </a:r>
            <a:r>
              <a:rPr b="0" i="1" lang="es-ES" sz="2700" spc="-1" strike="noStrike">
                <a:solidFill>
                  <a:srgbClr val="000000"/>
                </a:solidFill>
                <a:latin typeface="Georgia"/>
              </a:rPr>
              <a:t>Fulano de tal</a:t>
            </a:r>
            <a:r>
              <a:rPr b="0" lang="es-ES" sz="2700" spc="-1" strike="noStrike">
                <a:solidFill>
                  <a:srgbClr val="000000"/>
                </a:solidFill>
                <a:latin typeface="Georgia"/>
              </a:rPr>
              <a:t> (1925), </a:t>
            </a:r>
            <a:r>
              <a:rPr b="0" i="1" lang="es-ES" sz="2700" spc="-1" strike="noStrike">
                <a:solidFill>
                  <a:srgbClr val="000000"/>
                </a:solidFill>
                <a:latin typeface="Georgia"/>
              </a:rPr>
              <a:t>Libro sin tapa</a:t>
            </a:r>
            <a:r>
              <a:rPr b="0" lang="es-ES" sz="2700" spc="-1" strike="noStrike">
                <a:solidFill>
                  <a:srgbClr val="000000"/>
                </a:solidFill>
                <a:latin typeface="Georgia"/>
              </a:rPr>
              <a:t> (1929), </a:t>
            </a:r>
            <a:r>
              <a:rPr b="0" i="1" lang="es-ES" sz="2700" spc="-1" strike="noStrike">
                <a:solidFill>
                  <a:srgbClr val="000000"/>
                </a:solidFill>
                <a:latin typeface="Georgia"/>
              </a:rPr>
              <a:t>La cara de Ana</a:t>
            </a:r>
            <a:r>
              <a:rPr b="0" lang="es-ES" sz="2700" spc="-1" strike="noStrike">
                <a:solidFill>
                  <a:srgbClr val="000000"/>
                </a:solidFill>
                <a:latin typeface="Georgia"/>
              </a:rPr>
              <a:t> (1930) y </a:t>
            </a:r>
            <a:r>
              <a:rPr b="0" i="1" lang="es-ES" sz="2700" spc="-1" strike="noStrike">
                <a:solidFill>
                  <a:srgbClr val="000000"/>
                </a:solidFill>
                <a:latin typeface="Georgia"/>
              </a:rPr>
              <a:t>La envenenada</a:t>
            </a:r>
            <a:r>
              <a:rPr b="0" lang="es-ES" sz="2700" spc="-1" strike="noStrike">
                <a:solidFill>
                  <a:srgbClr val="000000"/>
                </a:solidFill>
                <a:latin typeface="Georgia"/>
              </a:rPr>
              <a:t> (1931) y posteriormente en </a:t>
            </a:r>
            <a:r>
              <a:rPr b="0" i="1" lang="es-ES" sz="2700" spc="-1" strike="noStrike">
                <a:solidFill>
                  <a:srgbClr val="000000"/>
                </a:solidFill>
                <a:latin typeface="Georgia"/>
              </a:rPr>
              <a:t>Nadie encendía las lámparas</a:t>
            </a:r>
            <a:r>
              <a:rPr b="0" lang="es-ES" sz="2700" spc="-1" strike="noStrike">
                <a:solidFill>
                  <a:srgbClr val="000000"/>
                </a:solidFill>
                <a:latin typeface="Georgia"/>
              </a:rPr>
              <a:t> (1947) y </a:t>
            </a:r>
            <a:r>
              <a:rPr b="0" i="1" lang="es-ES" sz="2700" spc="-1" strike="noStrike">
                <a:solidFill>
                  <a:srgbClr val="000000"/>
                </a:solidFill>
                <a:latin typeface="Georgia"/>
              </a:rPr>
              <a:t>La casa inundada</a:t>
            </a:r>
            <a:r>
              <a:rPr b="0" lang="es-ES" sz="2700" spc="-1" strike="noStrike">
                <a:solidFill>
                  <a:srgbClr val="000000"/>
                </a:solidFill>
                <a:latin typeface="Georgia"/>
              </a:rPr>
              <a:t> (196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3" name="Zástupný symbol pro zápatí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1" lang="es-ES" sz="3000" spc="-1" strike="noStrike">
                <a:solidFill>
                  <a:srgbClr val="7b9899"/>
                </a:solidFill>
                <a:latin typeface="Georgia"/>
              </a:rPr>
              <a:t>Juan Carlos Onetti</a:t>
            </a:r>
            <a:r>
              <a:rPr b="0" lang="es-ES" sz="3000" spc="-1" strike="noStrike">
                <a:solidFill>
                  <a:srgbClr val="7b9899"/>
                </a:solidFill>
                <a:latin typeface="Georgia"/>
              </a:rPr>
              <a:t> </a:t>
            </a:r>
            <a:endParaRPr b="0" lang="en-US" sz="30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fontScale="99000"/>
          </a:bodyPr>
          <a:p>
            <a:pPr marL="270000" indent="-270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rPr>
              <a:t>Montevideo, 1 de juliode 1909 - Madrid, 30 de mayo de 1994 </a:t>
            </a:r>
            <a:endParaRPr b="0" lang="en-US" sz="2500" spc="-1" strike="noStrike">
              <a:solidFill>
                <a:srgbClr val="000000"/>
              </a:solidFill>
              <a:latin typeface="Georgia"/>
            </a:endParaRPr>
          </a:p>
          <a:p>
            <a:pPr marL="270000" indent="-270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rPr>
              <a:t>El universo narrativo de Juan Carlos Onetti (1909), profundamente singular, se mueve entre el escepticismo y la falta de esperanza, como reflejo de una existencia cuyo sentido parece vacío de todo significado. </a:t>
            </a:r>
            <a:endParaRPr b="0" lang="en-US" sz="2500" spc="-1" strike="noStrike">
              <a:solidFill>
                <a:srgbClr val="000000"/>
              </a:solidFill>
              <a:latin typeface="Georgia"/>
            </a:endParaRPr>
          </a:p>
          <a:p>
            <a:pPr marL="270000" indent="-270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rPr>
              <a:t>Tras las tentativas de </a:t>
            </a:r>
            <a:r>
              <a:rPr b="0" i="1" lang="es-ES" sz="2500" spc="-1" strike="noStrike">
                <a:solidFill>
                  <a:srgbClr val="000000"/>
                </a:solidFill>
                <a:latin typeface="Georgia"/>
              </a:rPr>
              <a:t>El pozo</a:t>
            </a:r>
            <a:r>
              <a:rPr b="0" lang="es-ES" sz="2500" spc="-1" strike="noStrike">
                <a:solidFill>
                  <a:srgbClr val="000000"/>
                </a:solidFill>
                <a:latin typeface="Georgia"/>
              </a:rPr>
              <a:t> (1939), </a:t>
            </a:r>
            <a:r>
              <a:rPr b="0" i="1" lang="es-ES" sz="2500" spc="-1" strike="noStrike">
                <a:solidFill>
                  <a:srgbClr val="000000"/>
                </a:solidFill>
                <a:latin typeface="Georgia"/>
              </a:rPr>
              <a:t>Tierra de nadie</a:t>
            </a:r>
            <a:r>
              <a:rPr b="0" lang="es-ES" sz="2500" spc="-1" strike="noStrike">
                <a:solidFill>
                  <a:srgbClr val="000000"/>
                </a:solidFill>
                <a:latin typeface="Georgia"/>
              </a:rPr>
              <a:t> (1941) y </a:t>
            </a:r>
            <a:r>
              <a:rPr b="0" i="1" lang="es-ES" sz="2500" spc="-1" strike="noStrike">
                <a:solidFill>
                  <a:srgbClr val="000000"/>
                </a:solidFill>
                <a:latin typeface="Georgia"/>
              </a:rPr>
              <a:t>Para esta noche</a:t>
            </a:r>
            <a:r>
              <a:rPr b="0" lang="es-ES" sz="2500" spc="-1" strike="noStrike">
                <a:solidFill>
                  <a:srgbClr val="000000"/>
                </a:solidFill>
                <a:latin typeface="Georgia"/>
              </a:rPr>
              <a:t> (1942), Onetti crea un mundo original en </a:t>
            </a:r>
            <a:r>
              <a:rPr b="0" i="1" lang="es-ES" sz="2500" spc="-1" strike="noStrike">
                <a:solidFill>
                  <a:srgbClr val="000000"/>
                </a:solidFill>
                <a:latin typeface="Georgia"/>
              </a:rPr>
              <a:t>La vida breve</a:t>
            </a:r>
            <a:r>
              <a:rPr b="0" lang="es-ES" sz="2500" spc="-1" strike="noStrike">
                <a:solidFill>
                  <a:srgbClr val="000000"/>
                </a:solidFill>
                <a:latin typeface="Georgia"/>
              </a:rPr>
              <a:t> (1950), a la que seguirán </a:t>
            </a:r>
            <a:r>
              <a:rPr b="0" i="1" lang="es-ES" sz="2500" spc="-1" strike="noStrike">
                <a:solidFill>
                  <a:srgbClr val="000000"/>
                </a:solidFill>
                <a:latin typeface="Georgia"/>
              </a:rPr>
              <a:t>Los adioses</a:t>
            </a:r>
            <a:r>
              <a:rPr b="0" lang="es-ES" sz="2500" spc="-1" strike="noStrike">
                <a:solidFill>
                  <a:srgbClr val="000000"/>
                </a:solidFill>
                <a:latin typeface="Georgia"/>
              </a:rPr>
              <a:t> (1954), </a:t>
            </a:r>
            <a:r>
              <a:rPr b="0" i="1" lang="es-ES" sz="2500" spc="-1" strike="noStrike">
                <a:solidFill>
                  <a:srgbClr val="000000"/>
                </a:solidFill>
                <a:latin typeface="Georgia"/>
              </a:rPr>
              <a:t>Para una tumba sin nombre</a:t>
            </a:r>
            <a:r>
              <a:rPr b="0" lang="es-ES" sz="2500" spc="-1" strike="noStrike">
                <a:solidFill>
                  <a:srgbClr val="000000"/>
                </a:solidFill>
                <a:latin typeface="Georgia"/>
              </a:rPr>
              <a:t> (1959), </a:t>
            </a:r>
            <a:r>
              <a:rPr b="0" i="1" lang="es-ES" sz="2500" spc="-1" strike="noStrike">
                <a:solidFill>
                  <a:srgbClr val="000000"/>
                </a:solidFill>
                <a:latin typeface="Georgia"/>
              </a:rPr>
              <a:t>La cara de la desgracia</a:t>
            </a:r>
            <a:r>
              <a:rPr b="0" lang="es-ES" sz="2500" spc="-1" strike="noStrike">
                <a:solidFill>
                  <a:srgbClr val="000000"/>
                </a:solidFill>
                <a:latin typeface="Georgia"/>
              </a:rPr>
              <a:t> (1960), </a:t>
            </a:r>
            <a:r>
              <a:rPr b="0" i="1" lang="es-ES" sz="2500" spc="-1" strike="noStrike">
                <a:solidFill>
                  <a:srgbClr val="000000"/>
                </a:solidFill>
                <a:latin typeface="Georgia"/>
              </a:rPr>
              <a:t>El astillero</a:t>
            </a:r>
            <a:r>
              <a:rPr b="0" lang="es-ES" sz="2500" spc="-1" strike="noStrike">
                <a:solidFill>
                  <a:srgbClr val="000000"/>
                </a:solidFill>
                <a:latin typeface="Georgia"/>
              </a:rPr>
              <a:t> (1961), </a:t>
            </a:r>
            <a:r>
              <a:rPr b="0" i="1" lang="es-ES" sz="2500" spc="-1" strike="noStrike">
                <a:solidFill>
                  <a:srgbClr val="000000"/>
                </a:solidFill>
                <a:latin typeface="Georgia"/>
              </a:rPr>
              <a:t>Tan triste como ella</a:t>
            </a:r>
            <a:r>
              <a:rPr b="0" lang="es-ES" sz="2500" spc="-1" strike="noStrike">
                <a:solidFill>
                  <a:srgbClr val="000000"/>
                </a:solidFill>
                <a:latin typeface="Georgia"/>
              </a:rPr>
              <a:t> (1963), </a:t>
            </a:r>
            <a:r>
              <a:rPr b="0" i="1" lang="es-ES" sz="2500" spc="-1" strike="noStrike">
                <a:solidFill>
                  <a:srgbClr val="000000"/>
                </a:solidFill>
                <a:latin typeface="Georgia"/>
              </a:rPr>
              <a:t>Juntacadáveres</a:t>
            </a:r>
            <a:r>
              <a:rPr b="0" lang="es-ES" sz="2500" spc="-1" strike="noStrike">
                <a:solidFill>
                  <a:srgbClr val="000000"/>
                </a:solidFill>
                <a:latin typeface="Georgia"/>
              </a:rPr>
              <a:t> (1964) y </a:t>
            </a:r>
            <a:r>
              <a:rPr b="0" i="1" lang="es-ES" sz="2500" spc="-1" strike="noStrike">
                <a:solidFill>
                  <a:srgbClr val="000000"/>
                </a:solidFill>
                <a:latin typeface="Georgia"/>
              </a:rPr>
              <a:t>Dejemos hablar al viento</a:t>
            </a:r>
            <a:r>
              <a:rPr b="0" lang="es-ES" sz="2500" spc="-1" strike="noStrike">
                <a:solidFill>
                  <a:srgbClr val="000000"/>
                </a:solidFill>
                <a:latin typeface="Georgia"/>
              </a:rPr>
              <a:t> (1975).</a:t>
            </a:r>
            <a:endParaRPr b="0" lang="en-US" sz="2500" spc="-1" strike="noStrike">
              <a:solidFill>
                <a:srgbClr val="000000"/>
              </a:solidFill>
              <a:latin typeface="Georgia"/>
            </a:endParaRPr>
          </a:p>
          <a:p>
            <a:pPr marL="270000" indent="-270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0000" indent="-270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616" name="Zástupný symbol pro zápatí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7b9899"/>
                </a:solidFill>
                <a:latin typeface="Georgia"/>
              </a:rPr>
              <a:t>Mario Benedetti</a:t>
            </a:r>
            <a:r>
              <a:rPr b="0" lang="es-ES" sz="3300" spc="-1" strike="noStrike">
                <a:solidFill>
                  <a:srgbClr val="7b9899"/>
                </a:solidFill>
                <a:latin typeface="Georgia"/>
              </a:rPr>
              <a:t> </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eorgia"/>
              </a:rPr>
              <a:t>Con posterioridad a Onetti, sobresale tanto en poesía como en la novela</a:t>
            </a:r>
            <a:r>
              <a:rPr b="0" lang="cs-CZ" sz="2700" spc="-1" strike="noStrike">
                <a:solidFill>
                  <a:srgbClr val="000000"/>
                </a:solidFill>
                <a:latin typeface="Georgia"/>
              </a:rPr>
              <a:t> </a:t>
            </a:r>
            <a:r>
              <a:rPr b="0" lang="es-ES" sz="2700" spc="-1" strike="noStrike">
                <a:solidFill>
                  <a:srgbClr val="000000"/>
                </a:solidFill>
                <a:latin typeface="Georgia"/>
              </a:rPr>
              <a:t> </a:t>
            </a:r>
            <a:r>
              <a:rPr b="0" i="1" lang="es-ES" sz="2700" spc="-1" strike="noStrike">
                <a:solidFill>
                  <a:srgbClr val="000000"/>
                </a:solidFill>
                <a:latin typeface="Georgia"/>
              </a:rPr>
              <a:t>Montevideanos</a:t>
            </a:r>
            <a:r>
              <a:rPr b="0" lang="es-ES" sz="2700" spc="-1" strike="noStrike">
                <a:solidFill>
                  <a:srgbClr val="000000"/>
                </a:solidFill>
                <a:latin typeface="Georgia"/>
              </a:rPr>
              <a:t> (1959), </a:t>
            </a:r>
            <a:r>
              <a:rPr b="0" i="1" lang="es-ES" sz="2700" spc="-1" strike="noStrike">
                <a:solidFill>
                  <a:srgbClr val="000000"/>
                </a:solidFill>
                <a:latin typeface="Georgia"/>
              </a:rPr>
              <a:t>La tregua</a:t>
            </a:r>
            <a:r>
              <a:rPr b="0" lang="es-ES" sz="2700" spc="-1" strike="noStrike">
                <a:solidFill>
                  <a:srgbClr val="000000"/>
                </a:solidFill>
                <a:latin typeface="Georgia"/>
              </a:rPr>
              <a:t> (1960), </a:t>
            </a:r>
            <a:r>
              <a:rPr b="0" i="1" lang="es-ES" sz="2700" spc="-1" strike="noStrike">
                <a:solidFill>
                  <a:srgbClr val="000000"/>
                </a:solidFill>
                <a:latin typeface="Georgia"/>
              </a:rPr>
              <a:t>Gracias por el fuego</a:t>
            </a:r>
            <a:r>
              <a:rPr b="0" lang="es-ES" sz="2700" spc="-1" strike="noStrike">
                <a:solidFill>
                  <a:srgbClr val="000000"/>
                </a:solidFill>
                <a:latin typeface="Georgia"/>
              </a:rPr>
              <a:t> (1965) y </a:t>
            </a:r>
            <a:r>
              <a:rPr b="0" i="1" lang="es-ES" sz="2700" spc="-1" strike="noStrike">
                <a:solidFill>
                  <a:srgbClr val="000000"/>
                </a:solidFill>
                <a:latin typeface="Georgia"/>
              </a:rPr>
              <a:t>El cumpleaños de Juan Ángel</a:t>
            </a:r>
            <a:r>
              <a:rPr b="0" lang="es-ES" sz="2700" spc="-1" strike="noStrike">
                <a:solidFill>
                  <a:srgbClr val="000000"/>
                </a:solidFill>
                <a:latin typeface="Georgia"/>
              </a:rPr>
              <a:t> (1971</a:t>
            </a:r>
            <a:r>
              <a:rPr b="0" lang="cs-CZ" sz="2700" spc="-1" strike="noStrike">
                <a:solidFill>
                  <a:srgbClr val="000000"/>
                </a:solidFill>
                <a:latin typeface="Georgia"/>
              </a:rPr>
              <a:t>)</a:t>
            </a:r>
            <a:r>
              <a:rPr b="0" lang="es-ES" sz="2700" spc="-1" strike="noStrike">
                <a:solidFill>
                  <a:srgbClr val="000000"/>
                </a:solidFill>
                <a:latin typeface="Georgia"/>
              </a:rPr>
              <a:t>, novela versificada. En la línea de protesta de Benedetti, Eduardo Galeano es considerado un escritor polifacético en tanto cultiva, en una misma obra, ensayo, narración, periodismo, historia. Es el caso de Las venas abiertas de América latina o Memoria del fuego. También ha destacado como novelista.</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9" name="Zástupný symbol pro zápatí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7b9899"/>
                </a:solidFill>
                <a:latin typeface="Georgia"/>
              </a:rPr>
              <a:t>Eduardo Galeano </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eorgia"/>
              </a:rPr>
              <a:t>En la línea de protesta de Benedetti, es considerado un escritor polifacético en tanto cultiva, en una misma obra, ensayo, narración, periodismo, historia. Es el caso de Las venas abiertas de América latina o Memoria del fuego. También ha destacado como novelista.</a:t>
            </a:r>
            <a:endParaRPr b="0" lang="en-US" sz="2700" spc="-1" strike="noStrike">
              <a:solidFill>
                <a:srgbClr val="000000"/>
              </a:solidFill>
              <a:latin typeface="Georgia"/>
            </a:endParaRPr>
          </a:p>
        </p:txBody>
      </p:sp>
      <p:sp>
        <p:nvSpPr>
          <p:cNvPr id="622" name="Zástupný symbol pro zápatí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7b9899"/>
                </a:solidFill>
                <a:latin typeface="Georgia"/>
              </a:rPr>
              <a:t>Horacio Silvestre Quiroga Forteza </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fontScale="94000"/>
          </a:bodyPr>
          <a:p>
            <a:pPr marL="256320" indent="-2563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Georgia"/>
              </a:rPr>
              <a:t>       </a:t>
            </a:r>
            <a:r>
              <a:rPr b="0" lang="es-ES" sz="2500" spc="-1" strike="noStrike">
                <a:solidFill>
                  <a:srgbClr val="000000"/>
                </a:solidFill>
                <a:latin typeface="Georgia"/>
              </a:rPr>
              <a:t>31 de diciembre de 1878 – 19 de febrero de 1937</a:t>
            </a:r>
            <a:endParaRPr b="0" lang="en-US" sz="2500" spc="-1" strike="noStrike">
              <a:solidFill>
                <a:srgbClr val="000000"/>
              </a:solidFill>
              <a:latin typeface="Georgia"/>
            </a:endParaRPr>
          </a:p>
          <a:p>
            <a:pPr marL="256320" indent="-2563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rPr>
              <a:t> </a:t>
            </a:r>
            <a:endParaRPr b="0" lang="en-US" sz="2500" spc="-1" strike="noStrike">
              <a:solidFill>
                <a:srgbClr val="000000"/>
              </a:solidFill>
              <a:latin typeface="Georgia"/>
            </a:endParaRPr>
          </a:p>
          <a:p>
            <a:pPr marL="256320" indent="-2563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Georgia"/>
              </a:rPr>
              <a:t>    </a:t>
            </a:r>
            <a:r>
              <a:rPr b="0" lang="es-ES" sz="2500" spc="-1" strike="noStrike">
                <a:solidFill>
                  <a:srgbClr val="000000"/>
                </a:solidFill>
                <a:latin typeface="Georgia"/>
              </a:rPr>
              <a:t>Fue el maestro del cuento latinoamericano, de prosa vívida, naturalista y modernista. Sus relatos breves, que a menudo retratan a la naturaleza como enemiga del ser humano bajo rasgos temibles y horrorosos, le valieron ser comparado con el estadounidense Edgar Allan Poe.</a:t>
            </a:r>
            <a:endParaRPr b="0" lang="en-US" sz="2500" spc="-1" strike="noStrike">
              <a:solidFill>
                <a:srgbClr val="000000"/>
              </a:solidFill>
              <a:latin typeface="Georgia"/>
            </a:endParaRPr>
          </a:p>
          <a:p>
            <a:pPr marL="256320" indent="-2563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Georgia"/>
              </a:rPr>
              <a:t>    </a:t>
            </a:r>
            <a:r>
              <a:rPr b="0" lang="es-ES" sz="2500" spc="-1" strike="noStrike">
                <a:solidFill>
                  <a:srgbClr val="000000"/>
                </a:solidFill>
                <a:latin typeface="Georgia"/>
              </a:rPr>
              <a:t>La vida de Quiroga, marcada por la tragedia, los accidentes de caza y los suicidios, culminó por decisión propia, cuando bebió un vaso de cianuro en el Hospital de Clínicas de la ciudad de Buenos Aires a los 58 años de edad, tras enterarse que padecía de cáncer gástrico.</a:t>
            </a:r>
            <a:endParaRPr b="0" lang="en-US" sz="2500" spc="-1" strike="noStrike">
              <a:solidFill>
                <a:srgbClr val="000000"/>
              </a:solidFill>
              <a:latin typeface="Georgia"/>
            </a:endParaRPr>
          </a:p>
          <a:p>
            <a:pPr marL="256320" indent="-2563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625" name="Zástupný symbol pro zápatí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3:27:04Z</dcterms:created>
  <dc:creator>Uživatel</dc:creator>
  <dc:description/>
  <dc:language>en-US</dc:language>
  <cp:lastModifiedBy>Martina Kykalová</cp:lastModifiedBy>
  <dcterms:modified xsi:type="dcterms:W3CDTF">2013-02-01T20:41:42Z</dcterms:modified>
  <cp:revision>3</cp:revision>
  <dc:subject/>
  <dc:title>La literatura de Uruguay</dc:title>
</cp:coreProperties>
</file>