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EC62-FAD9-4C68-8FCC-7DF3CAEB34B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1D9F-1E15-401B-8D2E-B2D08CDFDC5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CBAD-4F12-41F7-99E4-A748C1F2E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49A8-1D93-4CDC-9C9D-C8BB0A2E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4DEAFB-8E0C-448A-91C6-510CFB00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D87D32-F6F1-4690-9301-9613DB42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16AF63-B0D8-4044-9792-244A0927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8FED8E-87A9-48D8-B28D-7AF63CEE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3AC70C-A361-4D90-A3EA-0E6D0917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148BBF-99AE-455B-BEAD-0B0EBF14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577747-3CE0-4FF4-BEDC-70BC42E3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1F3468-E188-4039-A598-0A0A7276E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35B5BC-3534-4AB1-A960-72E006B3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058D1C-B8B9-4823-AC49-C34FBD8B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814F-85E1-4FC0-95F7-77DB3AE6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62E32B-93DC-4142-85F0-DDF34A78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96F512-64A9-4B1C-822D-C13C32FC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CEFED0-F4D1-4D38-8A02-0B48E21B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F0DF72-6FF4-440F-827C-2CB6405B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BE5C62-BEBA-4EFB-B89C-E3137274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214AF0-B4DE-4711-B74F-228E28F4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370B94-BEB8-4358-BB3E-A740CD83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3DE2E8-E638-4CFA-91C0-8655B56E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EF2CCD-3483-4852-92F1-23743B19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30A6E2-5D62-42C9-97AA-8B7FA0DF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3915-AE99-44DE-91D3-80135897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980C17-7C92-4184-8BBD-45C305342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750C1-E138-4708-96C6-8604F0A4D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E0536-1E58-4E9C-827D-88D88A71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FB48A-D649-4FDC-9CC6-D98B20F3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37C50-4E11-4DD4-82B7-C37CE86B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54DE2-D085-44DE-899C-A38D49AA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77061-784E-43E2-AE51-F37F4E09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3A7B1-FAE9-4B84-A42E-389C367E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54FF0-7A9B-4508-AA5E-75196D69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B7BFF-45EE-4F9B-92F6-A9C1F402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20BD-7F15-4B13-8E43-EEEB04F3A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3C036-B246-491A-873B-247D3DDD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4C22B-C8CC-4770-8F11-EE3463779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67717-696D-4842-AAAE-45FDA1604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22DDB1-0DA3-41DC-9A08-ADC8A26C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3E6C0D-E3FC-4AAB-B31A-025AEE93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E20C1D-F5AD-4519-90AA-D2DB560F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6B59C0-33C9-4342-BF2C-EBE6D1D7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F11752-8155-466B-9BC5-2364F6F7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401184-39DC-4012-B390-89E80956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EFBCA1-F0FB-4442-A7E2-E3518D95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9F11-F298-46DE-A521-35924D4C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ED62F7-D405-47E1-9C65-F5FABB65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DCF07B-A0C4-4580-9C12-3278543D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614411-6B21-434B-9B05-3C1781A5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0248C7-4BDD-4F54-8C2B-F536C4DF1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E88435-88C1-4522-AE55-891EEA7E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E1A8-01EC-4F86-A778-595A32F3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2BCD-4181-4891-BA7C-C1102F5A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D779-BF8E-4F6D-824F-9EC00D14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653D-A59C-425E-839C-0E95B4F6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6E36-A518-4288-A5D9-041BB7B6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8040-5EAB-4574-BFEF-C837E04D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D342-1B0B-474F-B8AC-9D428A68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889B-DDDF-4152-A5FE-6A64E9CD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48D4-E2A5-4435-8792-B3F71FFA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B072-4B8E-46B5-A1D6-95630F76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9235-3CFF-43CA-86AC-D305CE63F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77A16-B761-421F-AAE4-2AEDAFC1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FFB09-2002-49F9-9782-65280D83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79048-4D15-4B30-ACC8-C5D4DB24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DE003-A3F7-43D3-B5FB-A494D617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214BC-AB16-4797-B4A9-87A64751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1E8E-052A-4D40-A8B6-EC87D6E9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BC9B1-3B46-41F3-9842-2723AE45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16C37-CCBD-4AB3-A00D-9687E1B4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F7E04-A2F6-452C-AC8A-A05A1C6A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BA6DA-4F32-4C8E-9A15-8C4C7E98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72A55-8330-4A8B-9FC9-CC3C910E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C3AC6-81BC-4FDF-933B-342851E5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CCBF5-9C5B-4867-B494-43AB34AB0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70575-888B-45CC-9D8F-6AC9484B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BBC8D-1C34-4CE4-B5BF-75E80A68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1AA3B-44AF-497E-997B-1C108854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CF45-009C-4810-8AFB-E9E7046E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C277B-C892-4E95-87DA-E9E904FA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56E8A-421E-4E5A-B0C2-0AFCB7EB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F45BE-3069-42C0-A5F5-9EE13706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408F3-123A-41EE-91C7-4D03961E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0BDD1-28B2-4949-A3A8-B2AA1CB1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68284-4A1A-41F6-BC63-FCA7E914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B6DBC-CA28-446E-9925-2DAF75D5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E0FEC-335C-4742-BA55-D3D78DE8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A5FD6-1878-4A5D-8C89-CAF7D9373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048F0-E82E-44D1-9A21-626592E5F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C510-07F0-479E-8AE4-1426F713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7CD74-5CD5-457D-BF6D-13272E16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E004C-2C97-424B-A1F2-3374CA9F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F4038-AA83-42F4-8246-4E1A04F4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D3443-1CD9-46B7-86BF-1D750C05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C3D89-9663-402D-8906-92895149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FF2D9-3AA7-4324-8454-789BAD0B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E0777-22F3-4082-9634-2E9DFC11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85BAF-ED28-487F-BC24-9F4E3BF0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C01B8-BF00-4953-A3D7-18E6219C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15A74-E35C-4934-A35B-CAE44153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B08E-4D0E-44EF-93E8-0028FC22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6B065-F3EC-4A01-AFDB-F93A601C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B1495-B99B-4AF4-9EBC-58D0EDAED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074EE-7E57-4936-A744-DC5306E3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EBBAC-F7EE-441B-A46D-FF48A170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AB5FC-389F-48F9-8537-A3708A40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D9C7B-7A08-4CAA-B5DC-F60BEF43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4685D-505C-4019-8DB5-CBBE701A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E7FFF-4C9E-4F3C-8366-691D3157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0564F-B6EF-48C7-80AB-EF745244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95ADB-795C-4991-9BFE-DB7DAC59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0690-161B-41B7-821E-74000B07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E57A9-AFDB-4FC7-972A-6E8EEBB2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721D3-1929-497A-939A-D16EB0266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86BBF-4956-44C2-BF4E-F6D18BA6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F7C93-65A4-4350-8C4F-FB5E9F033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3DEF3-7F3F-452E-86E2-49E9CEF5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D81AA-53A7-44F3-A20A-2DF84C68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EFB28-033A-4A2B-99A5-CAA5F1C3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BA32F-9309-4DED-B60B-2F49D28A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81DD5-FA50-44A7-943E-8287E1D3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23A84-5F80-44FF-AE7D-92DE274F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F01C-6B05-46CF-BE5B-ED00FD54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78C1D-D5E0-485F-8FCF-C399444F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7744C-09EA-4DC7-AC3E-173931B8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90223-9E2C-4B2F-8460-9297224E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9FD7F-BF67-4411-B654-E13625427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F9A24-EEA4-4EC9-AD20-1AC15E422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81C66-C19F-474A-B560-4A220E7C1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15070-1D36-43E1-ACF8-D20F4BC8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BF2A4-6B67-4AF8-A815-4D5E90BF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69B86-B964-47AC-B4A6-B348DCD6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56775-3614-4824-ACBE-290DE0BC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AA7B-10BF-426B-A6AE-C6991B9E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38B7D-BD12-4563-87C7-8D9E1A45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E1889-6D23-4657-BDCC-DDD1AA1F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93E0A-81DF-4CB9-91C3-3766740B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B77C9-83D7-41DC-BEB2-0AA600BD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465A6-ED5F-43EB-B775-106D3105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D4C0D-5295-486F-80C2-9BEC0F97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297B6-A486-4A8A-8C05-2664B7E7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A65C54-7C53-4D45-9A51-EC25DAA54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AEC35E-F658-4B81-8C73-23B71DDD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015650-BC9C-4CC4-9CEB-C5FE087A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6DA8-CD5E-484B-8678-9CBB7E1A327D}" type="datetime">
              <a:rPr b="0" lang="cs-CZ" sz="1400" spc="-1" strike="noStrike">
                <a:solidFill>
                  <a:srgbClr val="ffffff"/>
                </a:solidFill>
                <a:latin typeface="Georgia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eorgia"/>
              </a:rPr>
              <a:t>VY_32_INOVACE_2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D913-0990-47A6-BB2E-1094FED7F48D}" type="slidenum">
              <a:rPr b="0" lang="cs-CZ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římá spojovací čára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bdélní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bdélní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bdélní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bdélní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bdélník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bdélník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bdélník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Elipsa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Elipsa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bdélník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93F5-E2FF-45F2-B448-A6C70A55FF88}" type="slidenum">
              <a:rPr b="0" lang="cs-CZ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49EC-2C44-42B0-A248-E0A6A1863381}" type="datetime">
              <a:rPr b="0" lang="cs-CZ" sz="1400" spc="-1" strike="noStrike">
                <a:solidFill>
                  <a:srgbClr val="ffffff"/>
                </a:solidFill>
                <a:latin typeface="Georgia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eorgia"/>
              </a:rPr>
              <a:t>VY_32_INOVACE_2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2AEF-BCCF-4D3A-9148-44152BAB4728}" type="datetime">
              <a:rPr b="0" lang="cs-CZ" sz="1400" spc="-1" strike="noStrike">
                <a:solidFill>
                  <a:srgbClr val="ffffff"/>
                </a:solidFill>
                <a:latin typeface="Georgia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eorgia"/>
              </a:rPr>
              <a:t>VY_32_INOVACE_2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A1F9-7241-4D8A-92B6-32CC46A9C10D}" type="slidenum">
              <a:rPr b="0" lang="cs-CZ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Obdélní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bdélní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bdélník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bdélní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bdélník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bdélník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římá spojovací čára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Elipsa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Elipsa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312A-7D1E-45C0-9E7B-6AEDB01D1248}" type="slidenum">
              <a:rPr b="0" lang="cs-CZ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8410-2787-45F4-AC65-C381EA7CABE4}" type="datetime">
              <a:rPr b="0" lang="cs-CZ" sz="1400" spc="-1" strike="noStrike">
                <a:solidFill>
                  <a:srgbClr val="ffffff"/>
                </a:solidFill>
                <a:latin typeface="Georgia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eorgia"/>
              </a:rPr>
              <a:t>VY_32_INOVACE_2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bdélní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bdélní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bdélník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bdélník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bdélník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římá spojovací čára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bdélník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Elipsa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a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7BD5-C85E-44D8-BD0E-161A17269121}" type="datetime">
              <a:rPr b="0" lang="cs-CZ" sz="1400" spc="-1" strike="noStrike">
                <a:solidFill>
                  <a:srgbClr val="ffffff"/>
                </a:solidFill>
                <a:latin typeface="Georgia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eorgia"/>
              </a:rPr>
              <a:t>VY_32_INOVACE_2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929F-B700-4509-852C-50CBA92CDAD1}" type="slidenum">
              <a:rPr b="0" lang="cs-CZ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E48B-D604-4E74-8524-36E3A41387EC}" type="datetime">
              <a:rPr b="0" lang="cs-CZ" sz="1400" spc="-1" strike="noStrike">
                <a:solidFill>
                  <a:srgbClr val="ffffff"/>
                </a:solidFill>
                <a:latin typeface="Georgia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eorgia"/>
              </a:rPr>
              <a:t>VY_32_INOVACE_2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60F3-3496-4AEE-A8C0-76731D4B0848}" type="slidenum">
              <a:rPr b="0" lang="cs-CZ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bdélní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bdélník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délník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bdélník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římá spojovací čára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lipsa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Elipsa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eorgia"/>
              </a:rPr>
              <a:t>VY_32_INOVACE_2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2A2F-C4AD-4F9D-8A5A-1746AD2F57DB}" type="datetime">
              <a:rPr b="0" lang="cs-CZ" sz="1400" spc="-1" strike="noStrike">
                <a:solidFill>
                  <a:srgbClr val="ffffff"/>
                </a:solidFill>
                <a:latin typeface="Georgia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4436-4AD1-4698-81D9-EE34D8A46022}" type="slidenum">
              <a:rPr b="0" lang="cs-CZ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římá spojovací čára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9D85-EE4F-42EF-BB5F-3895D14DB414}" type="datetime">
              <a:rPr b="0" lang="cs-CZ" sz="1400" spc="-1" strike="noStrike">
                <a:solidFill>
                  <a:srgbClr val="ffffff"/>
                </a:solidFill>
                <a:latin typeface="Georgia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eorgia"/>
              </a:rPr>
              <a:t>VY_32_INOVACE_2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1082-B24F-4841-A46E-800BFCA55909}" type="slidenum">
              <a:rPr b="0" lang="cs-CZ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římá spojovací čára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bdélní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bdélník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bdélní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římá spojovací čára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Elipsa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lipsa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7B1D-06EA-40BA-9898-9C24D4149CE2}" type="datetime">
              <a:rPr b="0" lang="cs-CZ" sz="1400" spc="-1" strike="noStrike">
                <a:solidFill>
                  <a:srgbClr val="ffffff"/>
                </a:solidFill>
                <a:latin typeface="Georgia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eorgia"/>
              </a:rPr>
              <a:t>VY_32_INOVACE_2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6651-A7E6-478E-81E0-AA464C26033E}" type="slidenum">
              <a:rPr b="0" lang="cs-CZ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FB17-D9BF-445E-9B9F-99F4D039CC95}" type="datetime">
              <a:rPr b="0" lang="cs-CZ" sz="1400" spc="-1" strike="noStrike">
                <a:solidFill>
                  <a:srgbClr val="ffffff"/>
                </a:solidFill>
                <a:latin typeface="Georgia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eorgia"/>
              </a:rPr>
              <a:t>VY_32_INOVACE_2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6ED7-1C59-4F7D-AFB3-1F180767B2CB}" type="slidenum">
              <a:rPr b="0" lang="cs-CZ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bdélní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bdélní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bdélní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bdélník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bdélník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F68B-42D1-4AD2-A2E5-7CE88709EB4E}" type="datetime">
              <a:rPr b="0" lang="cs-CZ" sz="1400" spc="-1" strike="noStrike">
                <a:solidFill>
                  <a:srgbClr val="ffffff"/>
                </a:solidFill>
                <a:latin typeface="Georgia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eorgia"/>
              </a:rPr>
              <a:t>VY_32_INOVACE_2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C3EB-9B0C-47E3-9DD9-CC0B3B4D4F11}" type="slidenum">
              <a:rPr b="0" lang="cs-CZ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Obdélník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bdélní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bdélní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bdélník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bdélní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bdélník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bdélník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římá spojovací čára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lipsa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Elipsa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bdélník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6D3A-92D5-4A0E-8CAA-2F398BEF1DED}" type="slidenum">
              <a:rPr b="0" lang="cs-CZ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B139-489A-42B0-BCEE-22DECAEF7DD2}" type="datetime">
              <a:rPr b="0" lang="cs-CZ" sz="1400" spc="-1" strike="noStrike">
                <a:solidFill>
                  <a:srgbClr val="ffffff"/>
                </a:solidFill>
                <a:latin typeface="Georgia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eorgia"/>
              </a:rPr>
              <a:t>VY_32_INOVACE_2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646b86"/>
                </a:solidFill>
                <a:latin typeface="Georgia"/>
              </a:rPr>
              <a:t>LA CIUDAD HISTÓRIC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d16349"/>
                </a:solidFill>
                <a:latin typeface="Georgia"/>
              </a:rPr>
              <a:t>BEROUN 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Obrázek 3" descr="BEROUNSKA BRANA.jpg"/>
          <p:cNvPicPr/>
          <p:nvPr/>
        </p:nvPicPr>
        <p:blipFill>
          <a:blip r:embed="rId1"/>
          <a:stretch/>
        </p:blipFill>
        <p:spPr>
          <a:xfrm>
            <a:off x="6643800" y="3143160"/>
            <a:ext cx="1714320" cy="2903760"/>
          </a:xfrm>
          <a:prstGeom prst="rect">
            <a:avLst/>
          </a:prstGeom>
          <a:ln w="0">
            <a:noFill/>
          </a:ln>
        </p:spPr>
      </p:pic>
      <p:sp>
        <p:nvSpPr>
          <p:cNvPr id="616" name="Zástupný symbol pro zápatí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eorgia"/>
              </a:rPr>
              <a:t>VY_32_INOVACE_21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obrázek 1" descr="logo"/>
          <p:cNvPicPr/>
          <p:nvPr/>
        </p:nvPicPr>
        <p:blipFill>
          <a:blip r:embed="rId2"/>
          <a:stretch/>
        </p:blipFill>
        <p:spPr>
          <a:xfrm>
            <a:off x="428760" y="428760"/>
            <a:ext cx="2933640" cy="657000"/>
          </a:xfrm>
          <a:prstGeom prst="rect">
            <a:avLst/>
          </a:prstGeom>
          <a:ln w="0">
            <a:noFill/>
          </a:ln>
        </p:spPr>
      </p:pic>
      <p:sp>
        <p:nvSpPr>
          <p:cNvPr id="618" name="TextovéPole 7"/>
          <p:cNvSpPr/>
          <p:nvPr/>
        </p:nvSpPr>
        <p:spPr>
          <a:xfrm>
            <a:off x="6071400" y="285840"/>
            <a:ext cx="26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_32_INOVACE_2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PLAZA „HUSOVO NÁMĚSTÍ“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0" name="Zástupný symbol pro obsah 6" descr="KOSTEL.jpg"/>
          <p:cNvPicPr/>
          <p:nvPr/>
        </p:nvPicPr>
        <p:blipFill>
          <a:blip r:embed="rId1"/>
          <a:stretch/>
        </p:blipFill>
        <p:spPr>
          <a:xfrm>
            <a:off x="785880" y="1500120"/>
            <a:ext cx="2357280" cy="3537000"/>
          </a:xfrm>
          <a:prstGeom prst="rect">
            <a:avLst/>
          </a:prstGeom>
          <a:ln w="0">
            <a:noFill/>
          </a:ln>
        </p:spPr>
      </p:pic>
      <p:pic>
        <p:nvPicPr>
          <p:cNvPr id="621" name="Obrázek 4" descr="HUSOVO NAMESTI.jpg"/>
          <p:cNvPicPr/>
          <p:nvPr/>
        </p:nvPicPr>
        <p:blipFill>
          <a:blip r:embed="rId2"/>
          <a:stretch/>
        </p:blipFill>
        <p:spPr>
          <a:xfrm>
            <a:off x="4286160" y="1500120"/>
            <a:ext cx="3286080" cy="1643040"/>
          </a:xfrm>
          <a:prstGeom prst="rect">
            <a:avLst/>
          </a:prstGeom>
          <a:ln w="0">
            <a:noFill/>
          </a:ln>
        </p:spPr>
      </p:pic>
      <p:sp>
        <p:nvSpPr>
          <p:cNvPr id="622" name="TextovéPole 7"/>
          <p:cNvSpPr/>
          <p:nvPr/>
        </p:nvSpPr>
        <p:spPr>
          <a:xfrm>
            <a:off x="3429000" y="3357720"/>
            <a:ext cx="5286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Ayuntamiento en el estilo seudobarroco en 19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La fuente histórica original de 1729 dotada de una réplica de la estatua de San Jan Nepomucen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Casas burguesas con detalles renacentistas y fachadas barrocas están situadas en el lugar de las casas góticas origina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La iglesia de Santiago del siglo X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Zástupný symbol pro zápatí 5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eorgia"/>
              </a:rPr>
              <a:t>VY_32_INOVACE_21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VILLA DE DUSL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5" name="Zástupný symbol pro obsah 3" descr="DUSLOVA VILA.jpg"/>
          <p:cNvPicPr/>
          <p:nvPr/>
        </p:nvPicPr>
        <p:blipFill>
          <a:blip r:embed="rId1"/>
          <a:stretch/>
        </p:blipFill>
        <p:spPr>
          <a:xfrm>
            <a:off x="4786200" y="2357280"/>
            <a:ext cx="4038840" cy="2625840"/>
          </a:xfrm>
          <a:prstGeom prst="rect">
            <a:avLst/>
          </a:prstGeom>
          <a:ln w="0">
            <a:noFill/>
          </a:ln>
        </p:spPr>
      </p:pic>
      <p:sp>
        <p:nvSpPr>
          <p:cNvPr id="626" name="TextovéPole 4"/>
          <p:cNvSpPr/>
          <p:nvPr/>
        </p:nvSpPr>
        <p:spPr>
          <a:xfrm>
            <a:off x="500040" y="1643040"/>
            <a:ext cx="4214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En el estilo seudorenacent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Construida por el arquitecto AntonínWiehl en 18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Para empresario local  Martin Du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Hoy está la galería muni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Zástupný symbol pro zápatí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eorgia"/>
              </a:rPr>
              <a:t>VY_32_INOVACE_21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GEOPARQUE BARRANDI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9" name="Zástupný symbol pro obsah 5" descr=""/>
          <p:cNvPicPr/>
          <p:nvPr/>
        </p:nvPicPr>
        <p:blipFill>
          <a:blip r:embed="rId1"/>
          <a:stretch/>
        </p:blipFill>
        <p:spPr>
          <a:xfrm>
            <a:off x="237960" y="1474920"/>
            <a:ext cx="8571240" cy="4657680"/>
          </a:xfrm>
          <a:prstGeom prst="rect">
            <a:avLst/>
          </a:prstGeom>
          <a:ln w="0">
            <a:noFill/>
          </a:ln>
        </p:spPr>
      </p:pic>
      <p:pic>
        <p:nvPicPr>
          <p:cNvPr id="630" name="Obrázek 4" descr="BEROUNSKE DOMY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25680" cy="2714760"/>
          </a:xfrm>
          <a:prstGeom prst="rect">
            <a:avLst/>
          </a:prstGeom>
          <a:ln w="0">
            <a:noFill/>
          </a:ln>
        </p:spPr>
      </p:pic>
      <p:sp>
        <p:nvSpPr>
          <p:cNvPr id="631" name="Zástupný symbol pro zápatí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eorgia"/>
              </a:rPr>
              <a:t>VY_32_INOVACE_21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FERIAS DE ALFARERÍ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3" name="Zástupný symbol pro obsah 3" descr="TRHY.jpg"/>
          <p:cNvPicPr/>
          <p:nvPr/>
        </p:nvPicPr>
        <p:blipFill>
          <a:blip r:embed="rId1"/>
          <a:stretch/>
        </p:blipFill>
        <p:spPr>
          <a:xfrm>
            <a:off x="428760" y="1857240"/>
            <a:ext cx="5018040" cy="3762360"/>
          </a:xfrm>
          <a:prstGeom prst="rect">
            <a:avLst/>
          </a:prstGeom>
          <a:ln w="0">
            <a:noFill/>
          </a:ln>
        </p:spPr>
      </p:pic>
      <p:sp>
        <p:nvSpPr>
          <p:cNvPr id="634" name="TextovéPole 4"/>
          <p:cNvSpPr/>
          <p:nvPr/>
        </p:nvSpPr>
        <p:spPr>
          <a:xfrm>
            <a:off x="5786280" y="1857240"/>
            <a:ext cx="3000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e celebran cada aňo desde 19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Además de los alfareros se presentan también decenas de artesanos checos representantes de varios oficios de inter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Zástupný symbol pro zápatí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eorgia"/>
              </a:rPr>
              <a:t>VY_32_INOVACE_21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MIRADERO DE DĚ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7" name="Zástupný symbol pro obsah 3" descr="DED.jpg"/>
          <p:cNvPicPr/>
          <p:nvPr/>
        </p:nvPicPr>
        <p:blipFill>
          <a:blip r:embed="rId1"/>
          <a:stretch/>
        </p:blipFill>
        <p:spPr>
          <a:xfrm>
            <a:off x="714240" y="1857240"/>
            <a:ext cx="3835440" cy="3835440"/>
          </a:xfrm>
          <a:prstGeom prst="rect">
            <a:avLst/>
          </a:prstGeom>
          <a:ln w="0">
            <a:noFill/>
          </a:ln>
        </p:spPr>
      </p:pic>
      <p:sp>
        <p:nvSpPr>
          <p:cNvPr id="638" name="TextovéPole 4"/>
          <p:cNvSpPr/>
          <p:nvPr/>
        </p:nvSpPr>
        <p:spPr>
          <a:xfrm>
            <a:off x="4857840" y="2357280"/>
            <a:ext cx="4000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En la colina Dě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492 metros de a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Construcción de doce metros de a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Desde 18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Zástupný symbol pro zápatí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eorgia"/>
              </a:rPr>
              <a:t>VY_32_INOVACE_21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DEPORT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1" name="Zástupný symbol pro obsah 3" descr="LAGUNA.jpg"/>
          <p:cNvPicPr/>
          <p:nvPr/>
        </p:nvPicPr>
        <p:blipFill>
          <a:blip r:embed="rId1"/>
          <a:stretch/>
        </p:blipFill>
        <p:spPr>
          <a:xfrm>
            <a:off x="357120" y="1857240"/>
            <a:ext cx="4665600" cy="3492720"/>
          </a:xfrm>
          <a:prstGeom prst="rect">
            <a:avLst/>
          </a:prstGeom>
          <a:ln w="0">
            <a:noFill/>
          </a:ln>
        </p:spPr>
      </p:pic>
      <p:sp>
        <p:nvSpPr>
          <p:cNvPr id="642" name="TextovéPole 4"/>
          <p:cNvSpPr/>
          <p:nvPr/>
        </p:nvSpPr>
        <p:spPr>
          <a:xfrm>
            <a:off x="5429160" y="1857240"/>
            <a:ext cx="3357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Campos de ju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Campos de fút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Campos de te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Campo de minigo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Centros polidepor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Pisc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Estadio cubierto para el hoc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Georgia"/>
              </a:rPr>
              <a:t>Podéis hac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Atletismo, fútbol, balonmano, balonvolea,tenis, ping-pong, baloncesto, florball, petan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Zástupný symbol pro zápatí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eorgia"/>
              </a:rPr>
              <a:t>VY_32_INOVACE_21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DEPORT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5" name="Zástupný symbol pro obsah 3" descr="ZIMNÍ STADION.jpg"/>
          <p:cNvPicPr/>
          <p:nvPr/>
        </p:nvPicPr>
        <p:blipFill>
          <a:blip r:embed="rId1"/>
          <a:stretch/>
        </p:blipFill>
        <p:spPr>
          <a:xfrm>
            <a:off x="2000160" y="1785960"/>
            <a:ext cx="4902120" cy="3400560"/>
          </a:xfrm>
          <a:prstGeom prst="rect">
            <a:avLst/>
          </a:prstGeom>
          <a:ln w="0">
            <a:noFill/>
          </a:ln>
        </p:spPr>
      </p:pic>
      <p:sp>
        <p:nvSpPr>
          <p:cNvPr id="646" name="TextovéPole 4"/>
          <p:cNvSpPr/>
          <p:nvPr/>
        </p:nvSpPr>
        <p:spPr>
          <a:xfrm>
            <a:off x="2143080" y="5715000"/>
            <a:ext cx="483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Estadio cubierto para el hoc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Zástupný symbol pro zápatí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eorgia"/>
              </a:rPr>
              <a:t>VY_32_INOVACE_21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MURALLAS URBANA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9" name="Zástupný symbol pro obsah 3" descr="HRADBY.jpg"/>
          <p:cNvPicPr/>
          <p:nvPr/>
        </p:nvPicPr>
        <p:blipFill>
          <a:blip r:embed="rId1"/>
          <a:stretch/>
        </p:blipFill>
        <p:spPr>
          <a:xfrm>
            <a:off x="571680" y="1857240"/>
            <a:ext cx="3860640" cy="2568600"/>
          </a:xfrm>
          <a:prstGeom prst="rect">
            <a:avLst/>
          </a:prstGeom>
          <a:ln w="0">
            <a:noFill/>
          </a:ln>
        </p:spPr>
      </p:pic>
      <p:sp>
        <p:nvSpPr>
          <p:cNvPr id="650" name="TextovéPole 4"/>
          <p:cNvSpPr/>
          <p:nvPr/>
        </p:nvSpPr>
        <p:spPr>
          <a:xfrm>
            <a:off x="1357200" y="4714920"/>
            <a:ext cx="650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El reducto fue construido en la confluencia de los siglos 13 y 14 cuando las murallas tenían unos 6 a 9 metros de altura con 37 bastiones integr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ovéPole 6"/>
          <p:cNvSpPr/>
          <p:nvPr/>
        </p:nvSpPr>
        <p:spPr>
          <a:xfrm>
            <a:off x="4857840" y="2243160"/>
            <a:ext cx="36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Uno de los sistemas amurallados más conservados de Chequ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Zástupný symbol pro zápatí 5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eorgia"/>
              </a:rPr>
              <a:t>VY_32_INOVACE_21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14:24:07Z</dcterms:created>
  <dc:creator>Tereza</dc:creator>
  <dc:description/>
  <dc:language>en-US</dc:language>
  <cp:lastModifiedBy>Martina Kykalová</cp:lastModifiedBy>
  <dcterms:modified xsi:type="dcterms:W3CDTF">2013-07-23T12:05:32Z</dcterms:modified>
  <cp:revision>16</cp:revision>
  <dc:subject/>
  <dc:title>BEROUN</dc:title>
</cp:coreProperties>
</file>