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6.png" ContentType="image/png"/>
  <Override PartName="/ppt/media/image55.jpeg" ContentType="image/jpeg"/>
  <Override PartName="/ppt/media/image43.png" ContentType="image/png"/>
  <Override PartName="/ppt/media/image53.png" ContentType="image/png"/>
  <Override PartName="/ppt/media/image51.jpeg" ContentType="image/jpeg"/>
  <Override PartName="/ppt/media/image50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jpeg" ContentType="image/jpeg"/>
  <Override PartName="/ppt/media/image48.png" ContentType="image/png"/>
  <Override PartName="/ppt/media/image4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67.jpeg" ContentType="image/jpeg"/>
  <Override PartName="/ppt/media/image15.jpeg" ContentType="image/jpeg"/>
  <Override PartName="/ppt/media/image17.jpeg" ContentType="image/jpeg"/>
  <Override PartName="/ppt/media/image26.png" ContentType="image/png"/>
  <Override PartName="/ppt/media/image49.jpeg" ContentType="image/jpeg"/>
  <Override PartName="/ppt/media/image20.jpeg" ContentType="image/jpeg"/>
  <Override PartName="/ppt/media/image61.png" ContentType="image/png"/>
  <Override PartName="/ppt/media/image22.png" ContentType="image/png"/>
  <Override PartName="/ppt/media/image74.png" ContentType="image/png"/>
  <Override PartName="/ppt/media/image71.jpeg" ContentType="image/jpeg"/>
  <Override PartName="/ppt/media/image70.png" ContentType="image/png"/>
  <Override PartName="/ppt/media/image28.png" ContentType="image/png"/>
  <Override PartName="/ppt/media/image69.jpeg" ContentType="image/jpeg"/>
  <Override PartName="/ppt/media/image65.jpeg" ContentType="image/jpeg"/>
  <Override PartName="/ppt/media/image63.jpeg" ContentType="image/jpeg"/>
  <Override PartName="/ppt/media/image62.jpeg" ContentType="image/jpeg"/>
  <Override PartName="/ppt/media/image52.png" ContentType="image/png"/>
  <Override PartName="/ppt/media/image64.png" ContentType="image/png"/>
  <Override PartName="/ppt/media/image60.jpeg" ContentType="image/jpeg"/>
  <Override PartName="/ppt/media/image3.jpeg" ContentType="image/jpeg"/>
  <Override PartName="/ppt/media/image30.png" ContentType="image/png"/>
  <Override PartName="/ppt/media/image24.png" ContentType="image/png"/>
  <Override PartName="/ppt/media/image73.jpeg" ContentType="image/jpeg"/>
  <Override PartName="/ppt/media/image34.png" ContentType="image/png"/>
  <Override PartName="/ppt/media/image16.png" ContentType="image/png"/>
  <Override PartName="/ppt/media/image7.jpeg" ContentType="image/jpeg"/>
  <Override PartName="/ppt/media/image4.png" ContentType="image/png"/>
  <Override PartName="/ppt/media/image38.jpeg" ContentType="image/jpeg"/>
  <Override PartName="/ppt/media/image72.png" ContentType="image/png"/>
  <Override PartName="/ppt/media/image12.jpeg" ContentType="image/jpeg"/>
  <Override PartName="/ppt/media/image29.jpeg" ContentType="image/jpeg"/>
  <Override PartName="/ppt/media/image19.jpeg" ContentType="image/jpeg"/>
  <Override PartName="/ppt/media/image14.jpeg" ContentType="image/jpeg"/>
  <Override PartName="/ppt/media/image54.png" ContentType="image/png"/>
  <Override PartName="/ppt/media/image41.jpeg" ContentType="image/jpeg"/>
  <Override PartName="/ppt/media/image66.png" ContentType="image/png"/>
  <Override PartName="/ppt/media/image8.png" ContentType="image/png"/>
  <Override PartName="/ppt/media/image23.jpeg" ContentType="image/jpeg"/>
  <Override PartName="/ppt/media/image13.png" ContentType="image/pn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1.jpeg" ContentType="image/jpeg"/>
  <Override PartName="/ppt/media/image33.jpeg" ContentType="image/jpeg"/>
  <Override PartName="/ppt/media/image36.jpeg" ContentType="image/jpeg"/>
  <Override PartName="/ppt/media/image37.png" ContentType="image/png"/>
  <Override PartName="/ppt/media/image40.png" ContentType="image/png"/>
  <Override PartName="/ppt/media/image42.png" ContentType="image/pn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E68-3392-48BA-8C57-427DB587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C3F-AE79-45B7-8D05-B2BFAD7E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213-6F8C-4821-86C2-A524CBC3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A4E-6591-4952-A3AC-5C87BD4C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4617-7B04-471C-B3E3-E0D976CB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D77C-EE1C-4457-B8A9-4B783C25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767F-9DA1-4312-8262-75ABCE70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C84A-AA25-4A57-A92C-240E87E7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82BD-9395-4466-9CA4-69B1302A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50A4-546A-458A-B337-2CD13FBA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C375-A961-438A-AFF3-CE245131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650-D8F3-448E-B815-2BFCD49D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93E2-7107-480D-BECE-218C50F3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0A68-A8F3-4B70-BBAF-77268D39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31E8-1D3D-4887-98FC-A2E9392D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BA62-FFD5-4307-B714-2C2ED70C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543B-43A8-4AE2-81C9-3DAA71EF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958E6-C5E4-488D-B897-CC1AA5FD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E678-4F49-4BEC-965E-59B0DADB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B93C-22D6-431A-B0E8-C178ADC6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894A-BF29-471A-AA2F-71BF1754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AA9D0-C58C-43DB-8367-F3D19C2C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58F-8252-450B-ADC2-013B289E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10DA-71FF-4E04-BDB2-6F158443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85F3-3E60-4494-800F-803A111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5FF1-3C6F-4E26-A60B-22083F94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009C0-DD60-45CA-AC8D-B794C05F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EE2C-1AF4-4462-A246-78FF5D29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EACF6-E9B3-47DD-8860-44176231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D3E7-9F33-4ABA-AB19-2B68C6A9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25576-0029-4BAC-81E1-60BFECF1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FF06-FA6D-49F4-93A8-5D425367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7CE55-92CA-4148-90CD-0F786813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B2E-95C6-48F0-909F-80C2D725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071B2-8F85-4C92-8341-6816E0E5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1E8D-6E12-4619-9D99-38832614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255E7-7257-4247-87F0-073089DC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5FD04-AECE-4E68-A182-CBAF3249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D479-1D23-40B7-B564-BAB8FE7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DF94-3626-41EF-93F5-0B6A472D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D1860-14FF-4A5F-B628-7815204E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A069-C83E-45F6-B8EF-D8D794C3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A8C9F-7BB0-4646-B116-F39E15D6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798C4-E3C8-44C8-96CD-7243054B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4B4-B9D6-44D0-BBB1-855F1ECB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5DC79-672E-4F74-B1CB-20C7EFB2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823F1-C4F3-40D6-8073-3166E3BE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E0450-03E3-4269-82AF-E0DDBFBE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4B36-0DF1-4196-B287-2A3E0830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A63DB-70CF-49F6-B2BA-8BD3C93C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06910-37B9-46EE-AB23-DC3FE87A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18A41-A476-44DA-BCAA-77A7226E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9A6F3-B2CB-42CB-96DD-B42440D4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9C6D5-68C7-4193-A788-5B2C708A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D461D-567C-4748-A65C-CEC43EB2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5AD-1E74-4E08-A91D-9BE4C671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7C9D0-D2AB-4A0E-8C09-549EF689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6C3F6-B168-418E-88E5-033735CE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31D48-5CE0-4A39-961B-C4C50D05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2A318-8B54-40A8-8963-C0748017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0B14-5206-44C9-BD7E-C306B279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A7D30-BB48-470E-98FB-0A8901F2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CB7CB-8ADB-4ED8-BF31-F350FD31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27086-39FC-4B1C-B50A-C9CDAC45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CE08A-1BED-48D4-B024-A2A1D8BC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2AEA8-2D63-432A-A4C1-C3A0A2A1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076-F0F8-4FB2-B773-DE5A89D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62289-D662-4681-8F7B-6470208A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9808C-4595-4233-9CAE-E25B0A26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C6576-6E68-4C98-B587-41D81400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F8637-69A3-4990-8431-80A48DBE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4BC3A-5C95-49D4-8E11-81636326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044C3-4069-4E40-9AF9-9495277C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483B8-7B98-4490-AC44-0967120E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5FC16-3A06-46B3-8A71-B3F3BB54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E8683-1673-4B8C-807F-FA45564B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16029-2051-4957-9C3E-59ABD5AB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CFD-8C38-4683-A817-BC44AEEB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5199C-04F7-42F8-8A3D-7D540C48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17F06-AE04-4B4C-8959-24182833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67B71-3D42-4523-8DD5-18DB7AAB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1CDC7-1E74-4BB2-9BF4-F65512D2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8FE0B-0D54-4A2B-9092-7DEE540A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42E-A783-4A52-B21B-03779133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3D54-418E-42F7-9275-FD60734BAD53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F447-5101-41FE-A04E-34F5ACC59816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A8C4-57B2-4722-9AE9-DE23FFEE665A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FF6B-98C9-4D37-9259-8C753F6AA794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2310-ED53-46F6-ABD4-ED6A4C29EBD1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A651-711D-47ED-A49A-C3ECCBFBC105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546B-EDFA-4372-9CC1-59ECABD4AFF2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DE15-5365-46D1-8863-992F72CCDBE6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DA5E-C109-4E60-89C0-879053D8184E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7303-58AA-4CB7-AFD4-550FFCFF2819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F1C3-B958-42EA-87C4-60635C053278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cbcbc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0F6C-26FB-4079-9472-3C6251CC399D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43B2-A693-48F9-8640-88A47A6913B1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BCD8-DDB6-43E1-B4E8-FF55424310C4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hyperlink" Target="file:///r_gc.r_pw.r_qf.&amp;fp=82436daf9b2b167c&amp;bpcl=38897761&amp;biw=1280&amp;bih=571" TargetMode="External"/><Relationship Id="rId3" Type="http://schemas.openxmlformats.org/officeDocument/2006/relationships/hyperlink" Target="file:///gc.r_pw.r_qf.&amp;fp=82436daf9b2b167c&amp;bpcl=38897761&amp;biw=1280&amp;bih=571" TargetMode="External"/><Relationship Id="rId4" Type="http://schemas.openxmlformats.org/officeDocument/2006/relationships/hyperlink" Target="file:///bih=571" TargetMode="External"/><Relationship Id="rId5" Type="http://schemas.openxmlformats.org/officeDocument/2006/relationships/hyperlink" Target="file:///_qf.&amp;fp=82436daf9b2b167c&amp;bpcl=38897761&amp;biw=1280&amp;bih=571" TargetMode="External"/><Relationship Id="rId6" Type="http://schemas.openxmlformats.org/officeDocument/2006/relationships/hyperlink" Target="file:///_pw.r_qf.&amp;fp=82436daf9b2b167c&amp;bpcl=38897761&amp;biw=1280&amp;bih=571" TargetMode="External"/><Relationship Id="rId7" Type="http://schemas.openxmlformats.org/officeDocument/2006/relationships/hyperlink" Target="file:///c&amp;bpcl=38897761&amp;biw=1280&amp;bih=571" TargetMode="External"/><Relationship Id="rId8" Type="http://schemas.openxmlformats.org/officeDocument/2006/relationships/hyperlink" Target="file:///b167c&amp;bpcl=38897761&amp;biw=1280&amp;bih=571" TargetMode="Externa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Nadpis 1" descr=""/>
          <p:cNvPicPr/>
          <p:nvPr/>
        </p:nvPicPr>
        <p:blipFill>
          <a:blip r:embed="rId1"/>
          <a:stretch/>
        </p:blipFill>
        <p:spPr>
          <a:xfrm>
            <a:off x="682560" y="3352680"/>
            <a:ext cx="8089920" cy="1683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                        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?QUÉ HACEN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Zástupný symbol pro zápatí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logo"/>
          <p:cNvPicPr/>
          <p:nvPr/>
        </p:nvPicPr>
        <p:blipFill>
          <a:blip r:embed="rId2"/>
          <a:stretch/>
        </p:blipFill>
        <p:spPr>
          <a:xfrm>
            <a:off x="895320" y="533520"/>
            <a:ext cx="2933640" cy="657000"/>
          </a:xfrm>
          <a:prstGeom prst="rect">
            <a:avLst/>
          </a:prstGeom>
          <a:ln w="0">
            <a:noFill/>
          </a:ln>
        </p:spPr>
      </p:pic>
      <p:sp>
        <p:nvSpPr>
          <p:cNvPr id="307" name="TextovéPole 5"/>
          <p:cNvSpPr/>
          <p:nvPr/>
        </p:nvSpPr>
        <p:spPr>
          <a:xfrm>
            <a:off x="5715000" y="5716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2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43" name="Zástupný symbol pro obsah 3" descr="dentista.bmp"/>
          <p:cNvPicPr/>
          <p:nvPr/>
        </p:nvPicPr>
        <p:blipFill>
          <a:blip r:embed="rId2"/>
          <a:stretch/>
        </p:blipFill>
        <p:spPr>
          <a:xfrm>
            <a:off x="4286160" y="3214800"/>
            <a:ext cx="3895920" cy="2895480"/>
          </a:xfrm>
          <a:prstGeom prst="rect">
            <a:avLst/>
          </a:prstGeom>
          <a:ln w="0">
            <a:noFill/>
          </a:ln>
        </p:spPr>
      </p:pic>
      <p:pic>
        <p:nvPicPr>
          <p:cNvPr id="344" name="Obrázek 4" descr="zubar.jpg"/>
          <p:cNvPicPr/>
          <p:nvPr/>
        </p:nvPicPr>
        <p:blipFill>
          <a:blip r:embed="rId3"/>
          <a:stretch/>
        </p:blipFill>
        <p:spPr>
          <a:xfrm>
            <a:off x="642960" y="1928880"/>
            <a:ext cx="3500280" cy="2433600"/>
          </a:xfrm>
          <a:prstGeom prst="rect">
            <a:avLst/>
          </a:prstGeom>
          <a:ln w="0">
            <a:noFill/>
          </a:ln>
        </p:spPr>
      </p:pic>
      <p:sp>
        <p:nvSpPr>
          <p:cNvPr id="345" name="TextovéPole 4"/>
          <p:cNvSpPr/>
          <p:nvPr/>
        </p:nvSpPr>
        <p:spPr>
          <a:xfrm>
            <a:off x="4929120" y="200016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irujano que cura las enferm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ntales y de la b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zápatí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48" name="Zástupný symbol pro obsah 3" descr="alcalde.jpg"/>
          <p:cNvPicPr/>
          <p:nvPr/>
        </p:nvPicPr>
        <p:blipFill>
          <a:blip r:embed="rId2"/>
          <a:stretch/>
        </p:blipFill>
        <p:spPr>
          <a:xfrm>
            <a:off x="2786040" y="2143080"/>
            <a:ext cx="3610080" cy="2705040"/>
          </a:xfrm>
          <a:prstGeom prst="rect">
            <a:avLst/>
          </a:prstGeom>
          <a:ln w="0">
            <a:noFill/>
          </a:ln>
        </p:spPr>
      </p:pic>
      <p:sp>
        <p:nvSpPr>
          <p:cNvPr id="349" name="TextovéPole 3"/>
          <p:cNvSpPr/>
          <p:nvPr/>
        </p:nvSpPr>
        <p:spPr>
          <a:xfrm>
            <a:off x="2658240" y="564372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fe de un municip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52" name="Zástupný symbol pro obsah 3" descr="arquitecto.jpg"/>
          <p:cNvPicPr/>
          <p:nvPr/>
        </p:nvPicPr>
        <p:blipFill>
          <a:blip r:embed="rId2"/>
          <a:stretch/>
        </p:blipFill>
        <p:spPr>
          <a:xfrm>
            <a:off x="1214280" y="2071800"/>
            <a:ext cx="4765680" cy="3571920"/>
          </a:xfrm>
          <a:prstGeom prst="rect">
            <a:avLst/>
          </a:prstGeom>
          <a:ln w="0">
            <a:noFill/>
          </a:ln>
        </p:spPr>
      </p:pic>
      <p:sp>
        <p:nvSpPr>
          <p:cNvPr id="353" name="Obdélník 4"/>
          <p:cNvSpPr/>
          <p:nvPr/>
        </p:nvSpPr>
        <p:spPr>
          <a:xfrm>
            <a:off x="6429240" y="31431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rsona que sabe proyectar  y construir edif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56" name="Zástupný symbol pro obsah 3" descr="deportista.jpg"/>
          <p:cNvPicPr/>
          <p:nvPr/>
        </p:nvPicPr>
        <p:blipFill>
          <a:blip r:embed="rId2"/>
          <a:stretch/>
        </p:blipFill>
        <p:spPr>
          <a:xfrm>
            <a:off x="2000160" y="1928880"/>
            <a:ext cx="5064120" cy="3357360"/>
          </a:xfrm>
          <a:prstGeom prst="rect">
            <a:avLst/>
          </a:prstGeom>
          <a:ln w="0">
            <a:noFill/>
          </a:ln>
        </p:spPr>
      </p:pic>
      <p:sp>
        <p:nvSpPr>
          <p:cNvPr id="357" name="TextovéPole 3"/>
          <p:cNvSpPr/>
          <p:nvPr/>
        </p:nvSpPr>
        <p:spPr>
          <a:xfrm>
            <a:off x="2878920" y="5572080"/>
            <a:ext cx="34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rsona que practica un de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TextovéPole 3"/>
          <p:cNvSpPr/>
          <p:nvPr/>
        </p:nvSpPr>
        <p:spPr>
          <a:xfrm>
            <a:off x="5592600" y="29289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ien trabaja con los c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Zástupný symbol pro obsah 5" descr="elektrikář.jpg"/>
          <p:cNvPicPr/>
          <p:nvPr/>
        </p:nvPicPr>
        <p:blipFill>
          <a:blip r:embed="rId2"/>
          <a:stretch/>
        </p:blipFill>
        <p:spPr>
          <a:xfrm>
            <a:off x="541440" y="2127240"/>
            <a:ext cx="4316400" cy="2873520"/>
          </a:xfrm>
          <a:prstGeom prst="rect">
            <a:avLst/>
          </a:prstGeom>
          <a:ln w="0">
            <a:noFill/>
          </a:ln>
        </p:spPr>
      </p:pic>
      <p:sp>
        <p:nvSpPr>
          <p:cNvPr id="362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64" name="Zástupný symbol pro obsah 3" descr="fontanero.jpg"/>
          <p:cNvPicPr/>
          <p:nvPr/>
        </p:nvPicPr>
        <p:blipFill>
          <a:blip r:embed="rId2"/>
          <a:stretch/>
        </p:blipFill>
        <p:spPr>
          <a:xfrm>
            <a:off x="1285920" y="1643040"/>
            <a:ext cx="2647800" cy="4849920"/>
          </a:xfrm>
          <a:prstGeom prst="rect">
            <a:avLst/>
          </a:prstGeom>
          <a:ln w="0">
            <a:noFill/>
          </a:ln>
        </p:spPr>
      </p:pic>
      <p:sp>
        <p:nvSpPr>
          <p:cNvPr id="365" name="TextovéPole 3"/>
          <p:cNvSpPr/>
          <p:nvPr/>
        </p:nvSpPr>
        <p:spPr>
          <a:xfrm>
            <a:off x="4786200" y="264312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e sabe reparar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sas en los baňos (lavabos, grifos,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68" name="Zástupný symbol pro obsah 3" descr="banquero.jpg"/>
          <p:cNvPicPr/>
          <p:nvPr/>
        </p:nvPicPr>
        <p:blipFill>
          <a:blip r:embed="rId2"/>
          <a:stretch/>
        </p:blipFill>
        <p:spPr>
          <a:xfrm>
            <a:off x="4000680" y="335772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369" name="Obrázek 4" descr="contable.jpg"/>
          <p:cNvPicPr/>
          <p:nvPr/>
        </p:nvPicPr>
        <p:blipFill>
          <a:blip r:embed="rId3"/>
          <a:stretch/>
        </p:blipFill>
        <p:spPr>
          <a:xfrm>
            <a:off x="357120" y="1643040"/>
            <a:ext cx="4071960" cy="2728800"/>
          </a:xfrm>
          <a:prstGeom prst="rect">
            <a:avLst/>
          </a:prstGeom>
          <a:ln w="0">
            <a:noFill/>
          </a:ln>
        </p:spPr>
      </p:pic>
      <p:sp>
        <p:nvSpPr>
          <p:cNvPr id="370" name="TextovéPole 4"/>
          <p:cNvSpPr/>
          <p:nvPr/>
        </p:nvSpPr>
        <p:spPr>
          <a:xfrm>
            <a:off x="4949280" y="200016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e trabaja con los núm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Zástupný symbol pro zápatí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73" name="Obrázek 4" descr="enfermera.jpg"/>
          <p:cNvPicPr/>
          <p:nvPr/>
        </p:nvPicPr>
        <p:blipFill>
          <a:blip r:embed="rId2"/>
          <a:stretch/>
        </p:blipFill>
        <p:spPr>
          <a:xfrm>
            <a:off x="571680" y="1643040"/>
            <a:ext cx="3000240" cy="2720880"/>
          </a:xfrm>
          <a:prstGeom prst="rect">
            <a:avLst/>
          </a:prstGeom>
          <a:ln w="0">
            <a:noFill/>
          </a:ln>
        </p:spPr>
      </p:pic>
      <p:sp>
        <p:nvSpPr>
          <p:cNvPr id="374" name="TextovéPole 4"/>
          <p:cNvSpPr/>
          <p:nvPr/>
        </p:nvSpPr>
        <p:spPr>
          <a:xfrm>
            <a:off x="4523760" y="1928880"/>
            <a:ext cx="40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Quien por oficio asiste a los enfer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Zástupný symbol pro obsah 6" descr="zdravotní sestra.jpg"/>
          <p:cNvPicPr/>
          <p:nvPr/>
        </p:nvPicPr>
        <p:blipFill>
          <a:blip r:embed="rId3"/>
          <a:stretch/>
        </p:blipFill>
        <p:spPr>
          <a:xfrm>
            <a:off x="3857760" y="2786040"/>
            <a:ext cx="4381200" cy="3171960"/>
          </a:xfrm>
          <a:prstGeom prst="rect">
            <a:avLst/>
          </a:prstGeom>
          <a:ln w="0">
            <a:noFill/>
          </a:ln>
        </p:spPr>
      </p:pic>
      <p:sp>
        <p:nvSpPr>
          <p:cNvPr id="376" name="Zástupný symbol pro zápatí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78" name="Zástupný symbol pro obsah 3" descr="pintor.jpg"/>
          <p:cNvPicPr/>
          <p:nvPr/>
        </p:nvPicPr>
        <p:blipFill>
          <a:blip r:embed="rId2"/>
          <a:stretch/>
        </p:blipFill>
        <p:spPr>
          <a:xfrm>
            <a:off x="3000240" y="3357720"/>
            <a:ext cx="4343400" cy="3057480"/>
          </a:xfrm>
          <a:prstGeom prst="rect">
            <a:avLst/>
          </a:prstGeom>
          <a:ln w="0">
            <a:noFill/>
          </a:ln>
        </p:spPr>
      </p:pic>
      <p:pic>
        <p:nvPicPr>
          <p:cNvPr id="379" name="Obrázek 4" descr="pintora.bmp"/>
          <p:cNvPicPr/>
          <p:nvPr/>
        </p:nvPicPr>
        <p:blipFill>
          <a:blip r:embed="rId3"/>
          <a:stretch/>
        </p:blipFill>
        <p:spPr>
          <a:xfrm>
            <a:off x="928800" y="1571760"/>
            <a:ext cx="2000160" cy="2797200"/>
          </a:xfrm>
          <a:prstGeom prst="rect">
            <a:avLst/>
          </a:prstGeom>
          <a:ln w="0">
            <a:noFill/>
          </a:ln>
        </p:spPr>
      </p:pic>
      <p:sp>
        <p:nvSpPr>
          <p:cNvPr id="380" name="TextovéPole 4"/>
          <p:cNvSpPr/>
          <p:nvPr/>
        </p:nvSpPr>
        <p:spPr>
          <a:xfrm>
            <a:off x="4000680" y="192888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rsona que se ded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 arte  de la pin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ástupný symbol pro zápatí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83" name="Zástupný symbol pro obsah 3" descr="peluquera.jpg"/>
          <p:cNvPicPr/>
          <p:nvPr/>
        </p:nvPicPr>
        <p:blipFill>
          <a:blip r:embed="rId2"/>
          <a:stretch/>
        </p:blipFill>
        <p:spPr>
          <a:xfrm>
            <a:off x="5500800" y="3929040"/>
            <a:ext cx="1800000" cy="2543040"/>
          </a:xfrm>
          <a:prstGeom prst="rect">
            <a:avLst/>
          </a:prstGeom>
          <a:ln w="0">
            <a:noFill/>
          </a:ln>
        </p:spPr>
      </p:pic>
      <p:pic>
        <p:nvPicPr>
          <p:cNvPr id="384" name="Obrázek 4" descr="peluquero.jpg"/>
          <p:cNvPicPr/>
          <p:nvPr/>
        </p:nvPicPr>
        <p:blipFill>
          <a:blip r:embed="rId3"/>
          <a:stretch/>
        </p:blipFill>
        <p:spPr>
          <a:xfrm>
            <a:off x="500040" y="1714680"/>
            <a:ext cx="4673520" cy="3500280"/>
          </a:xfrm>
          <a:prstGeom prst="rect">
            <a:avLst/>
          </a:prstGeom>
          <a:ln w="0">
            <a:noFill/>
          </a:ln>
        </p:spPr>
      </p:pic>
      <p:sp>
        <p:nvSpPr>
          <p:cNvPr id="385" name="TextovéPole 4"/>
          <p:cNvSpPr/>
          <p:nvPr/>
        </p:nvSpPr>
        <p:spPr>
          <a:xfrm>
            <a:off x="5572080" y="31431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e sabe cortar el p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ástupný symbol pro zápatí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Corbel"/>
              </a:rPr>
              <a:t>NO TENER OFICIO NI BENEFICI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AS PROFESIONES LIB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A CARRERA (HACER CARRER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A CARRERA DE MÉDIC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EL PERIODISTA DE CARRERA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ESTUDIAR UNA CARRERA EN LA UNIVERSIDA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ACTICAR UN OFICI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PRENDER UN OFICI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Zástupný symbol pro zápatí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6082920" y="3816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_32_INOVACE_2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235560" y="3816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_32_INOVACE_2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88" name="Zástupný symbol pro obsah 3" descr="marinero.jpg"/>
          <p:cNvPicPr/>
          <p:nvPr/>
        </p:nvPicPr>
        <p:blipFill>
          <a:blip r:embed="rId2"/>
          <a:stretch/>
        </p:blipFill>
        <p:spPr>
          <a:xfrm>
            <a:off x="1428840" y="1928880"/>
            <a:ext cx="2162160" cy="3825720"/>
          </a:xfrm>
          <a:prstGeom prst="rect">
            <a:avLst/>
          </a:prstGeom>
          <a:ln w="0">
            <a:noFill/>
          </a:ln>
        </p:spPr>
      </p:pic>
      <p:sp>
        <p:nvSpPr>
          <p:cNvPr id="389" name="TextovéPole 3"/>
          <p:cNvSpPr/>
          <p:nvPr/>
        </p:nvSpPr>
        <p:spPr>
          <a:xfrm>
            <a:off x="4071960" y="335772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mbre de mar, navegante.Trabaja en un bar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92" name="Zástupný symbol pro obsah 3" descr="locutor.jpg"/>
          <p:cNvPicPr/>
          <p:nvPr/>
        </p:nvPicPr>
        <p:blipFill>
          <a:blip r:embed="rId2"/>
          <a:stretch/>
        </p:blipFill>
        <p:spPr>
          <a:xfrm>
            <a:off x="357120" y="2357280"/>
            <a:ext cx="4738680" cy="3152880"/>
          </a:xfrm>
          <a:prstGeom prst="rect">
            <a:avLst/>
          </a:prstGeom>
          <a:ln w="0">
            <a:noFill/>
          </a:ln>
        </p:spPr>
      </p:pic>
      <p:sp>
        <p:nvSpPr>
          <p:cNvPr id="393" name="TextovéPole 3"/>
          <p:cNvSpPr/>
          <p:nvPr/>
        </p:nvSpPr>
        <p:spPr>
          <a:xfrm>
            <a:off x="5572080" y="285768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 persona que lee o presenta anuncios, reseňas de espectáculos etc. En las transmisiones radiotelefó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96" name="Zástupný symbol pro obsah 3" descr="minero.jpg"/>
          <p:cNvPicPr/>
          <p:nvPr/>
        </p:nvPicPr>
        <p:blipFill>
          <a:blip r:embed="rId2"/>
          <a:stretch/>
        </p:blipFill>
        <p:spPr>
          <a:xfrm>
            <a:off x="500040" y="2571840"/>
            <a:ext cx="3960720" cy="2754360"/>
          </a:xfrm>
          <a:prstGeom prst="rect">
            <a:avLst/>
          </a:prstGeom>
          <a:ln w="0">
            <a:noFill/>
          </a:ln>
        </p:spPr>
      </p:pic>
      <p:sp>
        <p:nvSpPr>
          <p:cNvPr id="397" name="TextovéPole 3"/>
          <p:cNvSpPr/>
          <p:nvPr/>
        </p:nvSpPr>
        <p:spPr>
          <a:xfrm>
            <a:off x="5090400" y="371484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e trabaja en las m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00" name="Zástupný symbol pro obsah 3" descr="sastre.bmp"/>
          <p:cNvPicPr/>
          <p:nvPr/>
        </p:nvPicPr>
        <p:blipFill>
          <a:blip r:embed="rId2"/>
          <a:stretch/>
        </p:blipFill>
        <p:spPr>
          <a:xfrm>
            <a:off x="1214280" y="1857240"/>
            <a:ext cx="5826240" cy="3876840"/>
          </a:xfrm>
          <a:prstGeom prst="rect">
            <a:avLst/>
          </a:prstGeom>
          <a:ln w="0">
            <a:noFill/>
          </a:ln>
        </p:spPr>
      </p:pic>
      <p:sp>
        <p:nvSpPr>
          <p:cNvPr id="401" name="TextovéPole 3"/>
          <p:cNvSpPr/>
          <p:nvPr/>
        </p:nvSpPr>
        <p:spPr>
          <a:xfrm>
            <a:off x="2337480" y="62150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Quien por  oficio hace vest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04" name="Zástupný symbol pro obsah 3" descr="profesor.jpg"/>
          <p:cNvPicPr/>
          <p:nvPr/>
        </p:nvPicPr>
        <p:blipFill>
          <a:blip r:embed="rId2"/>
          <a:stretch/>
        </p:blipFill>
        <p:spPr>
          <a:xfrm>
            <a:off x="2071800" y="2143080"/>
            <a:ext cx="4967280" cy="3306960"/>
          </a:xfrm>
          <a:prstGeom prst="rect">
            <a:avLst/>
          </a:prstGeom>
          <a:ln w="0">
            <a:noFill/>
          </a:ln>
        </p:spPr>
      </p:pic>
      <p:sp>
        <p:nvSpPr>
          <p:cNvPr id="405" name="TextovéPole 3"/>
          <p:cNvSpPr/>
          <p:nvPr/>
        </p:nvSpPr>
        <p:spPr>
          <a:xfrm>
            <a:off x="2878560" y="628668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e enseňa a los estudi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08" name="Zástupný symbol pro obsah 3" descr="piloto.jpg"/>
          <p:cNvPicPr/>
          <p:nvPr/>
        </p:nvPicPr>
        <p:blipFill>
          <a:blip r:embed="rId2"/>
          <a:stretch/>
        </p:blipFill>
        <p:spPr>
          <a:xfrm>
            <a:off x="3643200" y="2071800"/>
            <a:ext cx="4691160" cy="2754360"/>
          </a:xfrm>
          <a:prstGeom prst="rect">
            <a:avLst/>
          </a:prstGeom>
          <a:ln w="0">
            <a:noFill/>
          </a:ln>
        </p:spPr>
      </p:pic>
      <p:sp>
        <p:nvSpPr>
          <p:cNvPr id="409" name="TextovéPole 3"/>
          <p:cNvSpPr/>
          <p:nvPr/>
        </p:nvSpPr>
        <p:spPr>
          <a:xfrm>
            <a:off x="1081800" y="307188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e pilot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12" name="Zástupný symbol pro obsah 3" descr="metalúrgico.jpg"/>
          <p:cNvPicPr/>
          <p:nvPr/>
        </p:nvPicPr>
        <p:blipFill>
          <a:blip r:embed="rId2"/>
          <a:stretch/>
        </p:blipFill>
        <p:spPr>
          <a:xfrm>
            <a:off x="3000240" y="3214800"/>
            <a:ext cx="4448160" cy="2987640"/>
          </a:xfrm>
          <a:prstGeom prst="rect">
            <a:avLst/>
          </a:prstGeom>
          <a:ln w="0">
            <a:noFill/>
          </a:ln>
        </p:spPr>
      </p:pic>
      <p:pic>
        <p:nvPicPr>
          <p:cNvPr id="413" name="Obrázek 4" descr="metalurgico.jpg"/>
          <p:cNvPicPr/>
          <p:nvPr/>
        </p:nvPicPr>
        <p:blipFill>
          <a:blip r:embed="rId3"/>
          <a:stretch/>
        </p:blipFill>
        <p:spPr>
          <a:xfrm>
            <a:off x="571680" y="1785960"/>
            <a:ext cx="2857320" cy="2179440"/>
          </a:xfrm>
          <a:prstGeom prst="rect">
            <a:avLst/>
          </a:prstGeom>
          <a:ln w="0">
            <a:noFill/>
          </a:ln>
        </p:spPr>
      </p:pic>
      <p:sp>
        <p:nvSpPr>
          <p:cNvPr id="414" name="TextovéPole 4"/>
          <p:cNvSpPr/>
          <p:nvPr/>
        </p:nvSpPr>
        <p:spPr>
          <a:xfrm>
            <a:off x="4517640" y="20718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e trabaja los m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zápatí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17" name="Zástupný symbol pro obsah 5" descr="vendedor.jpg"/>
          <p:cNvPicPr/>
          <p:nvPr/>
        </p:nvPicPr>
        <p:blipFill>
          <a:blip r:embed="rId2"/>
          <a:stretch/>
        </p:blipFill>
        <p:spPr>
          <a:xfrm>
            <a:off x="3857760" y="2500200"/>
            <a:ext cx="4186080" cy="3395880"/>
          </a:xfrm>
          <a:prstGeom prst="rect">
            <a:avLst/>
          </a:prstGeom>
          <a:ln w="0">
            <a:noFill/>
          </a:ln>
        </p:spPr>
      </p:pic>
      <p:sp>
        <p:nvSpPr>
          <p:cNvPr id="418" name="TextovéPole 4"/>
          <p:cNvSpPr/>
          <p:nvPr/>
        </p:nvSpPr>
        <p:spPr>
          <a:xfrm>
            <a:off x="227160" y="264312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nde las frutas, la verdur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Obrázek 5" descr="prodavač.jpg"/>
          <p:cNvPicPr/>
          <p:nvPr/>
        </p:nvPicPr>
        <p:blipFill>
          <a:blip r:embed="rId3"/>
          <a:stretch/>
        </p:blipFill>
        <p:spPr>
          <a:xfrm>
            <a:off x="857160" y="3214800"/>
            <a:ext cx="2229120" cy="2830320"/>
          </a:xfrm>
          <a:prstGeom prst="rect">
            <a:avLst/>
          </a:prstGeom>
          <a:ln w="0">
            <a:noFill/>
          </a:ln>
        </p:spPr>
      </p:pic>
      <p:sp>
        <p:nvSpPr>
          <p:cNvPr id="420" name="Zástupný symbol pro zápatí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22" name="Zástupný symbol pro obsah 3" descr="soldado.jpg"/>
          <p:cNvPicPr/>
          <p:nvPr/>
        </p:nvPicPr>
        <p:blipFill>
          <a:blip r:embed="rId2"/>
          <a:stretch/>
        </p:blipFill>
        <p:spPr>
          <a:xfrm>
            <a:off x="1000080" y="1714680"/>
            <a:ext cx="4014720" cy="4101840"/>
          </a:xfrm>
          <a:prstGeom prst="rect">
            <a:avLst/>
          </a:prstGeom>
          <a:ln w="0">
            <a:noFill/>
          </a:ln>
        </p:spPr>
      </p:pic>
      <p:sp>
        <p:nvSpPr>
          <p:cNvPr id="423" name="TextovéPole 3"/>
          <p:cNvSpPr/>
          <p:nvPr/>
        </p:nvSpPr>
        <p:spPr>
          <a:xfrm>
            <a:off x="5445360" y="3071880"/>
            <a:ext cx="262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e sirve en la mi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26" name="Zástupný symbol pro obsah 3" descr="médico.jpg"/>
          <p:cNvPicPr/>
          <p:nvPr/>
        </p:nvPicPr>
        <p:blipFill>
          <a:blip r:embed="rId2"/>
          <a:stretch/>
        </p:blipFill>
        <p:spPr>
          <a:xfrm>
            <a:off x="4500720" y="1928880"/>
            <a:ext cx="3966840" cy="3178080"/>
          </a:xfrm>
          <a:prstGeom prst="rect">
            <a:avLst/>
          </a:prstGeom>
          <a:ln w="0">
            <a:noFill/>
          </a:ln>
        </p:spPr>
      </p:pic>
      <p:sp>
        <p:nvSpPr>
          <p:cNvPr id="427" name="TextovéPole 3"/>
          <p:cNvSpPr/>
          <p:nvPr/>
        </p:nvSpPr>
        <p:spPr>
          <a:xfrm>
            <a:off x="1357200" y="3000240"/>
            <a:ext cx="264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e legalmente ejerce la 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Nadpis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OYERO  --------- LA JOYA -------LA JOYERÍ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IDRIERO --------EL VIDRIO ----LA VIDRIERÍ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ELUQUERO -----EL PELO ------ LA PELUQUERÍ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ELETERO --------LA PIEL ------- LA PELETERÍ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APATERO ------- LOS ZAPATOS -LA ZAPATERÍ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OMBRERERO -- EL SOMBRERO ----LA SOMBRERERÍ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Zástupný symbol pro zápatí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30" name="Zástupný symbol pro obsah 5" descr="periodista.jpg"/>
          <p:cNvPicPr/>
          <p:nvPr/>
        </p:nvPicPr>
        <p:blipFill>
          <a:blip r:embed="rId2"/>
          <a:stretch/>
        </p:blipFill>
        <p:spPr>
          <a:xfrm>
            <a:off x="2714760" y="1643040"/>
            <a:ext cx="3628800" cy="3262320"/>
          </a:xfrm>
          <a:prstGeom prst="rect">
            <a:avLst/>
          </a:prstGeom>
          <a:ln w="0">
            <a:noFill/>
          </a:ln>
        </p:spPr>
      </p:pic>
      <p:sp>
        <p:nvSpPr>
          <p:cNvPr id="431" name="TextovéPole 3"/>
          <p:cNvSpPr/>
          <p:nvPr/>
        </p:nvSpPr>
        <p:spPr>
          <a:xfrm>
            <a:off x="1928880" y="52149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rsona  que por oficio escribe en un periódico.        Compositor, autor o editor de un perió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34" name="Zástupný symbol pro obsah 3" descr="mecánico.jpg"/>
          <p:cNvPicPr/>
          <p:nvPr/>
        </p:nvPicPr>
        <p:blipFill>
          <a:blip r:embed="rId2"/>
          <a:stretch/>
        </p:blipFill>
        <p:spPr>
          <a:xfrm>
            <a:off x="785880" y="1785960"/>
            <a:ext cx="3720960" cy="2786040"/>
          </a:xfrm>
          <a:prstGeom prst="rect">
            <a:avLst/>
          </a:prstGeom>
          <a:ln w="0">
            <a:noFill/>
          </a:ln>
        </p:spPr>
      </p:pic>
      <p:sp>
        <p:nvSpPr>
          <p:cNvPr id="435" name="TextovéPole 3"/>
          <p:cNvSpPr/>
          <p:nvPr/>
        </p:nvSpPr>
        <p:spPr>
          <a:xfrm>
            <a:off x="4572000" y="51436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e trabaja en un taller, repara los co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TRABAJ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OSOTR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ESTAM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ESTUDIANDO………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9" name="Obrázek 4" descr="ESTUDIAR.jpg"/>
          <p:cNvPicPr/>
          <p:nvPr/>
        </p:nvPicPr>
        <p:blipFill>
          <a:blip r:embed="rId2"/>
          <a:stretch/>
        </p:blipFill>
        <p:spPr>
          <a:xfrm>
            <a:off x="4786200" y="4357800"/>
            <a:ext cx="2428920" cy="1627200"/>
          </a:xfrm>
          <a:prstGeom prst="rect">
            <a:avLst/>
          </a:prstGeom>
          <a:ln w="0">
            <a:noFill/>
          </a:ln>
        </p:spPr>
      </p:pic>
      <p:sp>
        <p:nvSpPr>
          <p:cNvPr id="440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obr%C3%A1zky+prodava%C4%8D&amp;oq=obr%C3%A1zky+prodava%C4%8D&amp;gs_l=img.3...51984.52922.0.53328.8.6.0.0.0.0.187.656.3j3.6.0...0.0...1c.1.bmnf4VtmLig&amp;bav=on.2,or.</a:t>
            </a:r>
            <a:r>
              <a:rPr b="0" lang="cs-CZ" sz="9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mec%C3%A1nico&amp;oq=mec%C3%A1nico&amp;gs_l=img.3..0i19j0i5i19l3.168453.169562.0.170015.8.4.0.2.2.0.203.593.0j3j1.4.0...0.0...1c.1.rE9TzrGsw68&amp;bav=on.2,or.r_</a:t>
            </a:r>
            <a:r>
              <a:rPr b="0" lang="cs-CZ" sz="900" spc="-1" strike="noStrike" u="sng">
                <a:solidFill>
                  <a:srgbClr val="168bba"/>
                </a:solidFill>
                <a:uFillTx/>
                <a:latin typeface="Corbel"/>
                <a:hlinkClick r:id="rId3"/>
              </a:rPr>
              <a:t>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periodista&amp;oq=periodista&amp;gs_l=img.3...20984.22625.2.23516.10.6.0.2.2.0.94.250.3.3.0...0.0...1c.1.CNiejUUjA3g&amp;bav=on.2,or.r_gc.r_pw.r_qf.&amp;fp=82436daf9b2b167c&amp;bpcl=38897761&amp;biw=1280&amp;</a:t>
            </a:r>
            <a:r>
              <a:rPr b="0" lang="cs-CZ" sz="900" spc="-1" strike="noStrike" u="sng">
                <a:solidFill>
                  <a:srgbClr val="168bba"/>
                </a:solidFill>
                <a:uFillTx/>
                <a:latin typeface="Corbel"/>
                <a:hlinkClick r:id="rId4"/>
              </a:rPr>
              <a:t>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m%C3%A9dico&amp;oq=m%C3%A9dico&amp;gs_l=img.3..0i19l10.14469.15250.4.15953.6.5.0.0.0.0.156.532.3j2.5.0...0.0...1c.1.FJL14ME2jkw&amp;bav=on.2,or.r_gc.r_pw.r</a:t>
            </a:r>
            <a:r>
              <a:rPr b="0" lang="cs-CZ" sz="900" spc="-1" strike="noStrike" u="sng">
                <a:solidFill>
                  <a:srgbClr val="168bba"/>
                </a:solidFill>
                <a:uFillTx/>
                <a:latin typeface="Corbel"/>
                <a:hlinkClick r:id="rId5"/>
              </a:rPr>
              <a:t>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prodava%C4%8D&amp;oq=prodava%C4%8D&amp;gs_l=img.3..0l3j0i24l7.22187.23078.6.23516.8.5.0.1.1.0.110.110.0j1.1.0...0.0...1c.1.ct0Hn7d1rEE&amp;bav=on.2,or.r_gc.r</a:t>
            </a:r>
            <a:r>
              <a:rPr b="0" lang="cs-CZ" sz="900" spc="-1" strike="noStrike" u="sng">
                <a:solidFill>
                  <a:srgbClr val="168bba"/>
                </a:solidFill>
                <a:uFillTx/>
                <a:latin typeface="Corbel"/>
                <a:hlinkClick r:id="rId6"/>
              </a:rPr>
              <a:t>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metal%C3%BArgico&amp;oq=metal%C3%BArgico&amp;gs_l=img.3...13688.15735.8.16266.11.7.0.4.4.0.187.873.2j5.7.0...0.0...1c.1.cdjdYtgFZFY&amp;bav=on.2,or.r_gc.r_pw.r_qf.&amp;fp=82436daf9b2b167</a:t>
            </a:r>
            <a:r>
              <a:rPr b="0" lang="cs-CZ" sz="900" spc="-1" strike="noStrike" u="sng">
                <a:solidFill>
                  <a:srgbClr val="168bba"/>
                </a:solidFill>
                <a:uFillTx/>
                <a:latin typeface="Corbel"/>
                <a:hlinkClick r:id="rId7"/>
              </a:rPr>
              <a:t>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pintor&amp;oq=pintor&amp;gs_l=img.3..0i19l10.56062.56859.24.57281.6.5.0.0.0.0.235.595.3j1j1.5.0...0.0...1c.1.5VHsM2j5fXA&amp;bav=on.2,or.r_gc.r_pw.r_qf.&amp;fp=82436daf9b2</a:t>
            </a:r>
            <a:r>
              <a:rPr b="0" lang="cs-CZ" sz="900" spc="-1" strike="noStrike" u="sng">
                <a:solidFill>
                  <a:srgbClr val="168bba"/>
                </a:solidFill>
                <a:uFillTx/>
                <a:latin typeface="Corbel"/>
                <a:hlinkClick r:id="rId8"/>
              </a:rPr>
              <a:t>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fontanero&amp;oq=fontanero&amp;gs_l=img.3..0i19l2.19422.20625.26.21188.9.7.0.0.0.0.172.719.2j4.6.0...0.0...1c.1.cGp777fqrGc&amp;bav=on.2,or.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electricista&amp;oq=electricista&amp;gs_l=img.3..0i19l3.10797.12407.28.12797.12.6.0.4.4.0.140.641.2j4.6.0...0.0...1c.1.5xs_Rf4lhXQ&amp;bav=on.2,or.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arquitecto&amp;oq=arquitecto&amp;gs_l=img.3..0i19l10.21375.23344.30.23734.10.8.0.2.2.0.218.999.4j2j2.8.0...0.0...1c.1.nIoHhmKd5_U&amp;bav=on.2,or.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Zástupný symbol pro zápatí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zdravotn%C3%AD+sestra&amp;oq=zdravotn%C3%AD+sestra&amp;gs_l=img.3..0l4j0i24l6.16954.19079.10.19266.16.9.0.2.2.0.234.702.1j3j1.5.0...0.0...1c.1.cwkND4vctZs&amp;bav=on.2,or.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sastre&amp;oq=sastre&amp;gs_l=img.3..0i19l4j0i5i19l6.48265.49125.12.49797.6.6.0.0.0.0.156.655.2j4.6.0...0.0...1c.1.rrRRsefrA44&amp;bav=on.2,or.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piloto&amp;oq=piloto&amp;gs_l=img.3..0j0i24l6j0i10i24j0i24l2.14016.14875.14.15187.6.6.0.0.0.0.172.688.4j2.6.0...0.0...1c.1.OS_MCo-MaVo&amp;bav=on.2,or.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profesor&amp;oq=profesor&amp;gs_l=img.3..0l2j0i10j0l7.13391.14250.16.14562.8.6.0.1.1.0.156.657.1j4.5.0...0.0...1c.1.bnl9kLeWnmo&amp;bav=on.2,or.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minero&amp;oq=minero&amp;gs_l=img.3..0i19l8j0i10i19j0i5i19.22422.23094.18.23750.6.4.0.0.0.0.141.250.0j2.2.0...0.0...1c.1.0ofbMTBtIT0&amp;bav=on.2,or.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locutor&amp;oq=locutor&amp;gs_l=img.3..0i19l7.22953.23719.20.24735.7.3.0.0.0.0.156.375.1j2.3.0...0.0...1c.1.N1GVdPKnLqg&amp;bav=on.2,or.r_gc.r_pw.r_qf.&amp;fp=82436daf9b2b167c&amp;bpcl=38897761&amp;biw=1280&amp;bih=571http://www.google.cz/search?q=obr%C3%A1zky+elektrik%C3%A1%C5%99&amp;hl=cs&amp;prmd=imvns&amp;tbm=isch&amp;tbo=u&amp;source=univ&amp;sa=X&amp;ei=vPCsUMqNK8b2sgad-oGgAw&amp;ved=0CCgQsAQ&amp;biw=1280&amp;bih=571#hl=cs&amp;tbm=isch&amp;sa=1&amp;q=peluquero&amp;oq=peluquero&amp;gs_l=img.3..0i19l2j0i5i19l2.12032.13688.22.15891.9.6.0.3.3.0.453.640.1j1j4-1.3.0...0.0...1c.1.QhN1L74Tjws&amp;bav=on.2,or.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dentista&amp;oq=dentista&amp;gs_l=img.3..0l2j0i24l8.30531.31641.32.31812.8.6.0.0.0.0.140.749.0j6.6.0...0.0...1c.1.ZPkMigvezIo&amp;bav=on.2,or.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actor&amp;oq=actor&amp;gs_l=img.3..0l2j0i24l8.21000.21734.34.22172.5.5.0.0.0.0.188.641.2j3.5.0...0.0...1c.1.IJC-ZQEGYRk&amp;bav=on.2,or.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rbel"/>
              </a:rPr>
              <a:t>http://www.google.cz/search?q=obr%C3%A1zky+elektrik%C3%A1%C5%99&amp;hl=cs&amp;prmd=imvns&amp;tbm=isch&amp;tbo=u&amp;source=univ&amp;sa=X&amp;ei=vPCsUMqNK8b2sgad-oGgAw&amp;ved=0CCgQsAQ&amp;biw=1280&amp;bih=571#hl=cs&amp;tbm=isch&amp;sa=1&amp;q=abogado&amp;oq=abogado&amp;gs_l=img.3..0i19l10.11750.12828.36.13281.7.6.0.0.0.0.172.641.3j3.6.0...0.0...1c.1.9U-FPoIUUH0&amp;bav=on.2,or.r_gc.r_pw.r_qf.&amp;fp=82436daf9b2b167c&amp;bpcl=38897761&amp;biw=1280&amp;bih=571</a:t>
            </a: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Zástupný symbol pro zápatí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Nadpis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17" name="Zástupný symbol pro obsah 3" descr="image002.jpg"/>
          <p:cNvPicPr/>
          <p:nvPr/>
        </p:nvPicPr>
        <p:blipFill>
          <a:blip r:embed="rId2"/>
          <a:stretch/>
        </p:blipFill>
        <p:spPr>
          <a:xfrm>
            <a:off x="2476440" y="1774800"/>
            <a:ext cx="4191120" cy="4626000"/>
          </a:xfrm>
          <a:prstGeom prst="rect">
            <a:avLst/>
          </a:prstGeom>
          <a:ln w="0">
            <a:noFill/>
          </a:ln>
        </p:spPr>
      </p:pic>
      <p:sp>
        <p:nvSpPr>
          <p:cNvPr id="318" name="Zástupný symbol pro zápatí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Zástupný symbol pro obsah 3" descr="abogado.jpg"/>
          <p:cNvPicPr/>
          <p:nvPr/>
        </p:nvPicPr>
        <p:blipFill>
          <a:blip r:embed="rId2"/>
          <a:stretch/>
        </p:blipFill>
        <p:spPr>
          <a:xfrm>
            <a:off x="4572000" y="3786120"/>
            <a:ext cx="1790640" cy="2552760"/>
          </a:xfrm>
          <a:prstGeom prst="rect">
            <a:avLst/>
          </a:prstGeom>
          <a:ln w="0">
            <a:noFill/>
          </a:ln>
        </p:spPr>
      </p:pic>
      <p:pic>
        <p:nvPicPr>
          <p:cNvPr id="321" name="Obrázek 4" descr="juez.jpg"/>
          <p:cNvPicPr/>
          <p:nvPr/>
        </p:nvPicPr>
        <p:blipFill>
          <a:blip r:embed="rId3"/>
          <a:stretch/>
        </p:blipFill>
        <p:spPr>
          <a:xfrm>
            <a:off x="714240" y="2143080"/>
            <a:ext cx="3357720" cy="2509920"/>
          </a:xfrm>
          <a:prstGeom prst="rect">
            <a:avLst/>
          </a:prstGeom>
          <a:ln w="0">
            <a:noFill/>
          </a:ln>
        </p:spPr>
      </p:pic>
      <p:sp>
        <p:nvSpPr>
          <p:cNvPr id="322" name="TextovéPole 4"/>
          <p:cNvSpPr/>
          <p:nvPr/>
        </p:nvSpPr>
        <p:spPr>
          <a:xfrm>
            <a:off x="4658040" y="257184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fensor en un jui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Zástupný symbol pro zápatí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5" name="Zástupný symbol pro obsah 3" descr="actor.jpg"/>
          <p:cNvPicPr/>
          <p:nvPr/>
        </p:nvPicPr>
        <p:blipFill>
          <a:blip r:embed="rId2"/>
          <a:stretch/>
        </p:blipFill>
        <p:spPr>
          <a:xfrm>
            <a:off x="2643120" y="2071800"/>
            <a:ext cx="3571920" cy="3071880"/>
          </a:xfrm>
          <a:prstGeom prst="rect">
            <a:avLst/>
          </a:prstGeom>
          <a:ln w="0">
            <a:noFill/>
          </a:ln>
        </p:spPr>
      </p:pic>
      <p:sp>
        <p:nvSpPr>
          <p:cNvPr id="326" name="TextovéPole 3"/>
          <p:cNvSpPr/>
          <p:nvPr/>
        </p:nvSpPr>
        <p:spPr>
          <a:xfrm>
            <a:off x="6643800" y="31431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e repres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n el teatro, cine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9" name="Zástupný symbol pro obsah 3" descr="cocinera.jpg"/>
          <p:cNvPicPr/>
          <p:nvPr/>
        </p:nvPicPr>
        <p:blipFill>
          <a:blip r:embed="rId2"/>
          <a:stretch/>
        </p:blipFill>
        <p:spPr>
          <a:xfrm>
            <a:off x="5072040" y="450072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330" name="Obrázek 4" descr="cocinero.jpg"/>
          <p:cNvPicPr/>
          <p:nvPr/>
        </p:nvPicPr>
        <p:blipFill>
          <a:blip r:embed="rId3"/>
          <a:stretch/>
        </p:blipFill>
        <p:spPr>
          <a:xfrm>
            <a:off x="714240" y="1643040"/>
            <a:ext cx="3643560" cy="3378240"/>
          </a:xfrm>
          <a:prstGeom prst="rect">
            <a:avLst/>
          </a:prstGeom>
          <a:ln w="0">
            <a:noFill/>
          </a:ln>
        </p:spPr>
      </p:pic>
      <p:sp>
        <p:nvSpPr>
          <p:cNvPr id="331" name="TextovéPole 4"/>
          <p:cNvSpPr/>
          <p:nvPr/>
        </p:nvSpPr>
        <p:spPr>
          <a:xfrm>
            <a:off x="5143680" y="257184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 que tiene por oficio guisar la comida. Prepara la comida para la gente en el restaur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ástupný symbol pro zápatí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TextovéPole 3"/>
          <p:cNvSpPr/>
          <p:nvPr/>
        </p:nvSpPr>
        <p:spPr>
          <a:xfrm>
            <a:off x="642960" y="2643120"/>
            <a:ext cx="1857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aliza indistintamente trabajos básicos de construcción, como alzado de muros, par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s ca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Zástupný symbol pro obsah 5" descr="zedník.jpg"/>
          <p:cNvPicPr/>
          <p:nvPr/>
        </p:nvPicPr>
        <p:blipFill>
          <a:blip r:embed="rId2"/>
          <a:stretch/>
        </p:blipFill>
        <p:spPr>
          <a:xfrm>
            <a:off x="3813120" y="2214720"/>
            <a:ext cx="3984840" cy="3000240"/>
          </a:xfrm>
          <a:prstGeom prst="rect">
            <a:avLst/>
          </a:prstGeom>
          <a:ln w="0">
            <a:noFill/>
          </a:ln>
        </p:spPr>
      </p:pic>
      <p:sp>
        <p:nvSpPr>
          <p:cNvPr id="336" name="Zástupný symbol pro zápatí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8" name="Zástupný symbol pro obsah 3" descr="camarero.jpg"/>
          <p:cNvPicPr/>
          <p:nvPr/>
        </p:nvPicPr>
        <p:blipFill>
          <a:blip r:embed="rId2"/>
          <a:stretch/>
        </p:blipFill>
        <p:spPr>
          <a:xfrm>
            <a:off x="3786120" y="2286000"/>
            <a:ext cx="2857680" cy="4294080"/>
          </a:xfrm>
          <a:prstGeom prst="rect">
            <a:avLst/>
          </a:prstGeom>
          <a:ln w="0">
            <a:noFill/>
          </a:ln>
        </p:spPr>
      </p:pic>
      <p:pic>
        <p:nvPicPr>
          <p:cNvPr id="339" name="Obrázek 4" descr="camarera.jpg"/>
          <p:cNvPicPr/>
          <p:nvPr/>
        </p:nvPicPr>
        <p:blipFill>
          <a:blip r:embed="rId3"/>
          <a:stretch/>
        </p:blipFill>
        <p:spPr>
          <a:xfrm>
            <a:off x="428760" y="1500120"/>
            <a:ext cx="3500280" cy="2478240"/>
          </a:xfrm>
          <a:prstGeom prst="rect">
            <a:avLst/>
          </a:prstGeom>
          <a:ln w="0">
            <a:noFill/>
          </a:ln>
        </p:spPr>
      </p:pic>
      <p:sp>
        <p:nvSpPr>
          <p:cNvPr id="340" name="TextovéPole 4"/>
          <p:cNvSpPr/>
          <p:nvPr/>
        </p:nvSpPr>
        <p:spPr>
          <a:xfrm>
            <a:off x="571680" y="500076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rsona que sirve en un hotel, fonda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ástupný symbol pro zápatí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VY_32_INOVACE_21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5T13:21:58Z</dcterms:created>
  <dc:creator>Uživatel</dc:creator>
  <dc:description/>
  <dc:language>en-US</dc:language>
  <cp:lastModifiedBy>Tereza</cp:lastModifiedBy>
  <dcterms:modified xsi:type="dcterms:W3CDTF">2012-12-01T16:31:08Z</dcterms:modified>
  <cp:revision>28</cp:revision>
  <dc:subject/>
  <dc:title>Snímek 1</dc:title>
</cp:coreProperties>
</file>