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59738-3E3E-4176-A52A-7BD75075F3B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D96B5-7FD7-4891-8735-E730B4AA596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0DB31-06F7-49CF-AC62-DE2ED9F99AC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CA0D7-298D-47C7-8F03-285CF1AD6A7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DD0FD-6DE4-4318-9CA0-AE88CD81FCF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7941E-E4CE-48CE-87E2-70FDCCD91C4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159-ACF3-4745-864E-B55B032D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6FD-C6EC-40E0-A196-CEB6CEE1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303-79A6-4EBA-A710-B9F375D1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BC9-002E-4A8F-9C78-CECA339D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CDE-E145-457A-A398-C7A53AAA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A87-3120-4F71-AF24-8BE46883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CD9-CA79-48AB-BE0B-50714DAF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002-3F8F-41F7-91B7-21578238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2A9-7F0C-4F45-98E8-28FB26B2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6D0-B658-49FA-9184-DA04FB4C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042-AF8C-42DF-BC1B-C9E53E73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415-F26F-4A14-B3D8-95FBC941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Y_32_INOVACE_21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C29A8-0DBA-46C4-AD1D-A667F5395D7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OS  PIN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3169800"/>
            <a:ext cx="88693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?Ya has visto estos cuadr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?Conoces los auto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ázek 1" descr="logo"/>
          <p:cNvPicPr/>
          <p:nvPr/>
        </p:nvPicPr>
        <p:blipFill>
          <a:blip r:embed="rId1"/>
          <a:stretch/>
        </p:blipFill>
        <p:spPr>
          <a:xfrm>
            <a:off x="792000" y="826920"/>
            <a:ext cx="2934000" cy="657360"/>
          </a:xfrm>
          <a:prstGeom prst="rect">
            <a:avLst/>
          </a:prstGeom>
          <a:ln w="0">
            <a:noFill/>
          </a:ln>
        </p:spPr>
      </p:pic>
      <p:sp>
        <p:nvSpPr>
          <p:cNvPr id="51" name="Zástupný symbol pro zápatí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Y_32_INOVACE_21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944720" y="360360"/>
            <a:ext cx="5904000" cy="6624720"/>
          </a:xfrm>
          <a:prstGeom prst="rect">
            <a:avLst/>
          </a:prstGeom>
          <a:ln w="0">
            <a:noFill/>
          </a:ln>
        </p:spPr>
      </p:pic>
      <p:sp>
        <p:nvSpPr>
          <p:cNvPr id="53" name="Zástupný symbol pro zápatí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Y_32_INOVACE_21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2519280" y="647640"/>
            <a:ext cx="4824360" cy="6624720"/>
          </a:xfrm>
          <a:prstGeom prst="rect">
            <a:avLst/>
          </a:prstGeom>
          <a:ln w="0">
            <a:noFill/>
          </a:ln>
        </p:spPr>
      </p:pic>
      <p:sp>
        <p:nvSpPr>
          <p:cNvPr id="55" name="Zástupný symbol pro zápatí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Y_32_INOVACE_21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211400" y="1768320"/>
            <a:ext cx="7456320" cy="4384800"/>
          </a:xfrm>
          <a:prstGeom prst="rect">
            <a:avLst/>
          </a:prstGeom>
          <a:ln w="0">
            <a:noFill/>
          </a:ln>
        </p:spPr>
      </p:pic>
      <p:sp>
        <p:nvSpPr>
          <p:cNvPr id="57" name="Zástupný symbol pro zápatí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Y_32_INOVACE_21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112760" y="1768320"/>
            <a:ext cx="7651800" cy="4384800"/>
          </a:xfrm>
          <a:prstGeom prst="rect">
            <a:avLst/>
          </a:prstGeom>
          <a:ln w="0">
            <a:noFill/>
          </a:ln>
        </p:spPr>
      </p:pic>
      <p:sp>
        <p:nvSpPr>
          <p:cNvPr id="59" name="Zástupný symbol pro zápatí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Y_32_INOVACE_21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13:59:18Z</dcterms:created>
  <dc:creator/>
  <dc:description/>
  <dc:language>en-US</dc:language>
  <cp:lastModifiedBy>Martina Kykalová</cp:lastModifiedBy>
  <dcterms:modified xsi:type="dcterms:W3CDTF">2013-02-02T14:20:34Z</dcterms:modified>
  <cp:revision>1</cp:revision>
  <dc:subject/>
  <dc:title>LOS  PINTORES</dc:title>
</cp:coreProperties>
</file>