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372DC-546E-417A-B91F-AEA24D265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88873-C4B3-4BB7-B03F-734DB3F11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8884F0A-EE3E-4FB1-9EAE-BCEE708A862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0173E5F-692D-43A6-BC97-98811C1CDAB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AE93AAB-92C3-4757-992C-B2FE657203F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C5E4DD5-3404-4364-9483-AF1559A57D7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2C70DF1-46F0-4E9C-BEDC-F7869EA6070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AF466CA-5AFE-489F-9561-0FF03F49A4D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09B86FB-9B01-4AED-834A-1DF2991238C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C232A70-04D7-46E6-A7BD-9E2830C663D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8E6AEEC-E772-466A-976F-9BBBADBF929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F06AD4E-E6AA-4EC1-8A9B-51512FBEBE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D33E9-A89C-4735-94A2-A67D0155F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671F9EF-CE67-4BE7-BB6B-493CB1722E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0C629AF-D6F0-4D44-8E95-CD1E8030B6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50536A5-2AA5-4FFF-AC6E-2F803D343F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F4FD90B-5518-482B-991D-0518551406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ADD3684-793F-4845-BF49-739C654365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F591BD9-BABE-4E60-B850-ACC5789947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4089C94-9E76-4A5C-B65B-E8BD9F290E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AA6D14A-536E-4F01-9476-32ADD1B761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9BDDE43-EDF5-4334-A2FC-528F53C30C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AD19AD8-8284-4D1F-A97D-A562927E19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9F372-3466-4D66-A31A-1079EB4FF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E6B2844-0F75-45CA-9C5C-E2DD3EEFB9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C62810-FE29-4906-BA49-DB443D724EA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F6FACF-3B54-4130-B202-D7200E6F51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FDE712-B0EA-4D08-87D7-578E9A3D91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C95B83-0352-4BC7-980B-29E4955063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5A013C-6F6C-464E-9221-AAAE542FFA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3FCDC8-901C-45E8-8A76-3FC5A9A331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E9ED90-A801-45AB-8402-A8B6957E66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19A6D5-A38B-4BEB-BF51-DC3D15CD55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96243A-CCA1-47B6-B98D-7475DF8AAD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FC62D5-4F03-49E4-9E88-2D3A17FDF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FB5029-5E7D-4E88-A471-B00897C489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C53597F-9534-4ACC-9A99-4C8B8676F0F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A5739F0-87EA-4F36-897F-82972A0D6B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15C2C40-6708-4053-920A-8E120C0F32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5254024-D5AB-430D-BB97-6FBD658CCB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5B3714D-3417-4799-A47C-0877104F52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0CE1EB6-78FC-4D35-B999-E54AEFCE76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21C6BC6-E5F2-44CE-8BFB-F142C6DEE9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5C5DA64-8576-4368-B3FA-F90A70A25E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85B05D7-005B-4090-8187-5702A4EDB2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546B1-C8B6-4D43-B3DE-5C52EBB3D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EECDC8A-B7D7-4288-9E88-B744D18E38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F3E6C64-291F-4753-8F9F-03891C793E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F8F7601-6569-45C2-83B6-F8B2194775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31BB6BC-503D-4C66-94C8-2D3A5D8139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85D6EC0-9D78-4547-BB82-BB887BECD9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A71AE-08DA-495A-BFB8-7241C7911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6773E-3408-4CB3-8467-B77688AAA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5F2E1-0452-4084-A26B-085717E99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05164-91AE-4C7D-8EBF-70459D5D4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C5343-C7CF-4969-95AC-3DED28A89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B8E66-F83C-4CAB-A81C-4960EEF67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D6B6B-1A1D-442C-B837-C7388A14A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2EEB7-0457-4F58-A675-D0A942292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18591-B624-479D-AEEC-5F82DFBBE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47488-AA7A-4643-9132-6D0B69C3F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45FD50-D100-4FBB-8025-E66A78B748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C12FAC-7720-411A-B377-80BEAC0547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BB9FBB-8746-4021-B713-8E9967176E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5D03D6-022B-4150-976A-79B83532CF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AFA9CC-CA86-41E0-907B-9B8ED58448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4D8757-CE53-4020-9FD6-2B6D2969DD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389C7-3035-4293-AB57-D5A2E0D3C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C16E04-9E1C-4CF9-B59C-33E33033A6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18D2F-B05A-4937-8D43-AD3747017D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667AD-F73E-4CCC-ACBA-8C5E51F828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A30456-0B97-4508-8834-65B9C2206C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617F9D-18E7-46B1-A6AF-F8351C88FF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DFB703-7310-48FC-AB53-5F4B0564C8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F6DDE8-7D4E-4809-88E2-41E692393E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0639998-EBE8-4E2B-B940-2A391F1EA3C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51CA6F4-62D2-4BAA-AD76-3B63F136E79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9B06714-E543-4A27-8AED-605D31D5B50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A4E55-6CDE-4C14-AB34-ED2C1DF81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9157D31-22CF-404E-950D-B531D86E73C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3569C54-3EB0-446C-9666-670C157B676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C27FC2B-B956-4EEC-858F-C6FCB67E715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8FC9BA4-3E7C-4B1F-8B3F-4E79A00EBB8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F1C8B2F-ADB4-4FBD-BDFF-01A71E4DFD9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61EA61E-D548-4363-9EC2-1290C7F53D5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B2EB538-6B5C-4FB8-8152-7A192DCF94A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D2A8C4D-09CC-427E-A668-2A2B1B7DF66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B749B98-FAF7-40D6-AF2F-426F2ED9C5E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6797B4-AE2B-474E-9792-EB8F2FF8C5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9FB1E-EE16-45EF-9022-98706789D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F28C79-AC90-4ACA-8013-C4434A8B5E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4F9FC2-4CCA-44E6-987E-1C3C286A35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A7EA88-FCA1-4B9C-AE7B-147D83132F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E873B5-6E00-4C31-9ECB-DBDF1E1890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7D30D0-7148-423D-B123-DC81B33832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430650-8F06-44D2-BBA1-F17E10A80A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98D0ED-E8A3-41FB-8009-0B318B3C8C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E73CA7-6128-4DF8-8135-2BDEEEFCA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73A34F-A888-4EEC-8B08-96F3D0919B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865646-44A6-4255-A4F4-FE91AE7872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89636-166A-4A68-BE96-B399D69FD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33B6D6-19CF-4D72-865C-E002E7F555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F54634-033E-4519-8499-B8B2A70A42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27E51F-1D68-4DEE-84AB-8F2796D3D8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28A159-2CCF-4AB6-B3F1-4E831B9523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2865B9-8FAA-4112-A9A8-64B47661EA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EFAF58-049B-4519-B821-0422764054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E11CF6-CDDE-49C7-9A76-1178529E98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E27C13-22BD-411F-BB50-C7F3CBED3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40E73E-1EA0-4425-BBBF-C399AA6F82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DA2712-2D94-4C40-852F-441896AD31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C370B-D2F4-4E9B-A715-23120F43A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ABF813-FB46-428D-A756-E28D863F11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4B8482-EDE7-4EAD-8B99-A3291B8A4B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071388-D52E-42FF-A5E8-E156F95E46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FC9BF7-0430-4604-9D06-2EBE3D4804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77303A-B2AA-49AC-98BF-7BAF59DB01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244680-4B79-4386-9C05-E9CD43E93F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E445A5-EABD-4678-9562-7C2349DA67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DEE9D7-164E-4DF2-8EB8-E3E1D9A233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3E0117-2905-4F75-94E7-4584E42D10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08E33-77EE-4836-B70C-C3E274739B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D3FFE-E0AE-4B3B-9EDA-AE3619152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BE11D9-697F-493C-8406-F582913E87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25A51B-4B76-4253-9029-3279D9993C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D05B5F-AAE8-4086-897D-808BAF6731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B0D9F4-3172-41D0-ADAF-D5BB0B3D47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1CAB28-1C1A-47C8-819C-5EC93D9942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0E98D2-C58C-4CC3-B497-C8B1F8A7FC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147A32-D876-4573-A74C-26876639F0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B92D95-C2A3-4274-8314-E7C9958CA4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B0F22F-7F21-49B5-BE4D-F277639825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688E7C-2212-408A-9BEC-04EF3563E0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DE315-C3C9-460D-AA31-2F4C73D51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322488-B1EC-44D4-9B2C-23DB051BB6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0A518B-6656-4AB9-8876-8907814083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9F7032-E0AB-48CA-A0C6-6235B86032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0EA310-64A7-4FD6-992B-CBD2931E24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1E1AA2-4BBF-4F80-B5C6-79A750E957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0C3E11-6464-462F-A726-7C23A8BB89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733310-240D-4739-9D97-1FF054962D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60F7D04-3C86-43D3-AC09-3BEE6093CB5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D76ED6B-4CEE-4317-B951-C951500F931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28F3EF1-B4A5-4D71-A203-6D71B7D5D99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80B9-6F70-415B-9234-AAF4DBA7753A}" type="datetime">
              <a:rPr b="0" lang="cs-CZ" sz="1400" spc="-1" strike="noStrike">
                <a:solidFill>
                  <a:srgbClr val="ffffff"/>
                </a:solidFill>
                <a:latin typeface="Georgia"/>
              </a:rPr>
              <a:t>29.07.20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Times New Roman"/>
            </a:endParaRPr>
          </a:p>
        </p:txBody>
      </p:sp>
      <p:sp>
        <p:nvSpPr>
          <p:cNvPr id="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5742-5C42-451D-8B41-100AAF4B87D8}"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římá spojovací čára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bdélník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bdélník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bdélník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bdélník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bdélník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Elipsa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Elipsa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bdélník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57E2-60D9-4121-8A53-68E0C6F47ABE}"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36B2-CFE1-42D5-88F9-37BB0ED77C09}" type="datetime">
              <a:rPr b="0" lang="cs-CZ" sz="1400" spc="-1" strike="noStrike">
                <a:solidFill>
                  <a:srgbClr val="ffffff"/>
                </a:solidFill>
                <a:latin typeface="Georgia"/>
              </a:rPr>
              <a:t>29.07.20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1827-52BB-453C-8FEC-F12075EA2290}" type="datetime">
              <a:rPr b="0" lang="cs-CZ" sz="1400" spc="-1" strike="noStrike">
                <a:solidFill>
                  <a:srgbClr val="ffffff"/>
                </a:solidFill>
                <a:latin typeface="Georgia"/>
              </a:rPr>
              <a:t>29.07.20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B883-F525-447D-BFA6-1DD7F29AFA0A}"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Obdélník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bdélník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bdélní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bdélník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bdélník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římá spojovací čára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Elipsa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Elipsa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CDC8-8041-4F47-BAB8-E4ADACC43FB4}"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1F85-B7B4-401D-94BB-C04012CD7AE7}" type="datetime">
              <a:rPr b="0" lang="cs-CZ" sz="1400" spc="-1" strike="noStrike">
                <a:solidFill>
                  <a:srgbClr val="ffffff"/>
                </a:solidFill>
                <a:latin typeface="Georgia"/>
              </a:rPr>
              <a:t>29.07.20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bdélník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bdélník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bdélník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bdélník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římá spojovací čára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Obdélník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Elipsa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Elipsa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F3BE-BF7E-48DF-AAE5-D3CAE66E4B96}" type="datetime">
              <a:rPr b="0" lang="cs-CZ" sz="1400" spc="-1" strike="noStrike">
                <a:solidFill>
                  <a:srgbClr val="ffffff"/>
                </a:solidFill>
                <a:latin typeface="Georgia"/>
              </a:rPr>
              <a:t>29.07.20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3C06-3B9B-48FD-B2FA-E0F6586D5207}"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C90F-D940-4EE9-BF29-953FEC0842C1}" type="datetime">
              <a:rPr b="0" lang="cs-CZ" sz="1400" spc="-1" strike="noStrike">
                <a:solidFill>
                  <a:srgbClr val="ffffff"/>
                </a:solidFill>
                <a:latin typeface="Georgia"/>
              </a:rPr>
              <a:t>29.07.20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4753-635B-4A1F-B796-5FF415186B6B}"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Obdélník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bdélník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bdélník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bdélník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bdélník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bdélník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bdélník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římá spojovací čára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Elipsa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Elipsa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91CA-7E9B-4EE4-AA37-E215E82B6538}" type="datetime">
              <a:rPr b="0" lang="cs-CZ" sz="1400" spc="-1" strike="noStrike">
                <a:solidFill>
                  <a:srgbClr val="ffffff"/>
                </a:solidFill>
                <a:latin typeface="Georgia"/>
              </a:rPr>
              <a:t>29.07.20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0788-EFEE-4854-B28D-290556F82F3B}"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římá spojovací čára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DD49-514B-4A19-B7C0-6C4278C444D4}" type="datetime">
              <a:rPr b="0" lang="cs-CZ" sz="1400" spc="-1" strike="noStrike">
                <a:solidFill>
                  <a:srgbClr val="ffffff"/>
                </a:solidFill>
                <a:latin typeface="Georgia"/>
              </a:rPr>
              <a:t>29.07.20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0FF5-1339-4FB5-8E82-B7C1FC91681D}"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Přímá spojovací čára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Obdélník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bdélník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bdélní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bdélník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bdélník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bdélník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římá spojovací čára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Obdélník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Elipsa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Elipsa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5140-D2E2-4ADA-9030-35C571BA5B90}" type="datetime">
              <a:rPr b="0" lang="cs-CZ" sz="1400" spc="-1" strike="noStrike">
                <a:solidFill>
                  <a:srgbClr val="ffffff"/>
                </a:solidFill>
                <a:latin typeface="Georgia"/>
              </a:rPr>
              <a:t>29.07.20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F740-41DD-439E-89AC-FA1749277CF6}"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8084-DA8E-44C4-9255-5AB52D238E17}" type="datetime">
              <a:rPr b="0" lang="cs-CZ" sz="1400" spc="-1" strike="noStrike">
                <a:solidFill>
                  <a:srgbClr val="ffffff"/>
                </a:solidFill>
                <a:latin typeface="Georgia"/>
              </a:rPr>
              <a:t>29.07.20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BC6E-87B3-46EA-B283-CC03C4690E2A}"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bdélník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bdélník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bdélní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bdélník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bdélník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776EA-B4AC-4784-BD17-2F22057AEE36}" type="datetime">
              <a:rPr b="0" lang="cs-CZ" sz="1400" spc="-1" strike="noStrike">
                <a:solidFill>
                  <a:srgbClr val="ffffff"/>
                </a:solidFill>
                <a:latin typeface="Georgia"/>
              </a:rPr>
              <a:t>29.07.20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87FB-25D7-4D9B-9373-E07958536EB8}" type="slidenum">
              <a:rPr b="0" lang="cs-CZ"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Obdélník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bdélník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bdélník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bdélník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bdélník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římá spojovací čára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Elipsa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Elipsa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bdélník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A99A-5174-4562-8E3F-11BF6AC58FFB}" type="slidenum">
              <a:rPr b="0" lang="cs-CZ"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68A8-557C-4BFE-AB61-D434AD92F91B}" type="datetime">
              <a:rPr b="0" lang="cs-CZ" sz="1400" spc="-1" strike="noStrike">
                <a:solidFill>
                  <a:srgbClr val="ffffff"/>
                </a:solidFill>
                <a:latin typeface="Georgia"/>
              </a:rPr>
              <a:t>29.07.20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646b86"/>
                </a:solidFill>
                <a:latin typeface="Georgia"/>
              </a:rPr>
              <a:t>LA LITERATURA ESPAŇOLA CONTEMPORÁNEA</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d16349"/>
                </a:solidFill>
                <a:latin typeface="Georgia"/>
              </a:rPr>
              <a:t>CAMILO JOSÉ CELA</a:t>
            </a:r>
            <a:endParaRPr b="0" lang="en-US" sz="4200" spc="-1" strike="noStrike">
              <a:solidFill>
                <a:srgbClr val="7b9899"/>
              </a:solidFill>
              <a:latin typeface="Georgia"/>
            </a:endParaRPr>
          </a:p>
        </p:txBody>
      </p:sp>
      <p:pic>
        <p:nvPicPr>
          <p:cNvPr id="608" name="Picture 2" descr="Camilo José Cela Madrid 1996.jpg"/>
          <p:cNvPicPr/>
          <p:nvPr/>
        </p:nvPicPr>
        <p:blipFill>
          <a:blip r:embed="rId1"/>
          <a:stretch/>
        </p:blipFill>
        <p:spPr>
          <a:xfrm>
            <a:off x="500040" y="3143160"/>
            <a:ext cx="1905120" cy="2524320"/>
          </a:xfrm>
          <a:prstGeom prst="rect">
            <a:avLst/>
          </a:prstGeom>
          <a:ln w="0">
            <a:noFill/>
          </a:ln>
        </p:spPr>
      </p:pic>
      <p:pic>
        <p:nvPicPr>
          <p:cNvPr id="609" name="Picture 5" descr="logo"/>
          <p:cNvPicPr/>
          <p:nvPr/>
        </p:nvPicPr>
        <p:blipFill>
          <a:blip r:embed="rId2"/>
          <a:stretch/>
        </p:blipFill>
        <p:spPr>
          <a:xfrm>
            <a:off x="571680" y="571680"/>
            <a:ext cx="2933640" cy="657000"/>
          </a:xfrm>
          <a:prstGeom prst="rect">
            <a:avLst/>
          </a:prstGeom>
          <a:ln w="0">
            <a:noFill/>
          </a:ln>
        </p:spPr>
      </p:pic>
      <p:sp>
        <p:nvSpPr>
          <p:cNvPr id="610" name="Zástupný symbol pro zápatí 5"/>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7b9899"/>
                </a:solidFill>
                <a:latin typeface="Georgia"/>
              </a:rPr>
              <a:t>Camilo José Cela Trulock</a:t>
            </a:r>
            <a:r>
              <a:rPr b="1" lang="cs-CZ" sz="3000" spc="-1" strike="noStrike" baseline="30000">
                <a:solidFill>
                  <a:srgbClr val="7b9899"/>
                </a:solidFill>
                <a:latin typeface="Georgia"/>
              </a:rPr>
              <a:t> </a:t>
            </a:r>
            <a:br>
              <a:rPr sz="3000"/>
            </a:br>
            <a:r>
              <a:rPr b="1" lang="es-ES" sz="2400" spc="-1" strike="noStrike">
                <a:solidFill>
                  <a:srgbClr val="7b9899"/>
                </a:solidFill>
                <a:latin typeface="Georgia"/>
              </a:rPr>
              <a:t>11 de mayo de 1916 – Madrid, 17 de enero</a:t>
            </a:r>
            <a:r>
              <a:rPr b="1" lang="cs-CZ" sz="2400" spc="-1" strike="noStrike">
                <a:solidFill>
                  <a:srgbClr val="7b9899"/>
                </a:solidFill>
                <a:latin typeface="Georgia"/>
              </a:rPr>
              <a:t> </a:t>
            </a:r>
            <a:r>
              <a:rPr b="1" lang="es-ES" sz="2400" spc="-1" strike="noStrike">
                <a:solidFill>
                  <a:srgbClr val="7b9899"/>
                </a:solidFill>
                <a:latin typeface="Georgia"/>
              </a:rPr>
              <a:t>de</a:t>
            </a:r>
            <a:r>
              <a:rPr b="1" lang="cs-CZ" sz="2400" spc="-1" strike="noStrike">
                <a:solidFill>
                  <a:srgbClr val="7b9899"/>
                </a:solidFill>
                <a:latin typeface="Georgia"/>
              </a:rPr>
              <a:t> </a:t>
            </a:r>
            <a:r>
              <a:rPr b="1" lang="es-ES" sz="2400" spc="-1" strike="noStrike">
                <a:solidFill>
                  <a:srgbClr val="7b9899"/>
                </a:solidFill>
                <a:latin typeface="Georgia"/>
              </a:rPr>
              <a:t>2002</a:t>
            </a:r>
            <a:r>
              <a:rPr b="1" lang="cs-CZ" sz="2400" spc="-1" strike="noStrike">
                <a:solidFill>
                  <a:srgbClr val="7b9899"/>
                </a:solidFill>
                <a:latin typeface="Georgia"/>
              </a:rPr>
              <a:t> </a:t>
            </a:r>
            <a:endParaRPr b="0" lang="en-US" sz="2400" spc="-1" strike="noStrike">
              <a:solidFill>
                <a:srgbClr val="7b9899"/>
              </a:solidFill>
              <a:latin typeface="Georgia"/>
            </a:endParaRPr>
          </a:p>
        </p:txBody>
      </p:sp>
      <p:sp>
        <p:nvSpPr>
          <p:cNvPr id="61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E</a:t>
            </a:r>
            <a:r>
              <a:rPr b="0" lang="es-ES" sz="2700" spc="-1" strike="noStrike">
                <a:solidFill>
                  <a:srgbClr val="000000"/>
                </a:solidFill>
                <a:latin typeface="Georgia"/>
              </a:rPr>
              <a:t>scritor español</a:t>
            </a:r>
            <a:r>
              <a:rPr b="0" lang="cs-CZ" sz="2700" spc="-1" strike="noStrike">
                <a:solidFill>
                  <a:srgbClr val="000000"/>
                </a:solidFill>
                <a:latin typeface="Georgia"/>
              </a:rPr>
              <a:t> </a:t>
            </a:r>
            <a:r>
              <a:rPr b="0" lang="es-ES" sz="2700" spc="-1" strike="noStrike">
                <a:solidFill>
                  <a:srgbClr val="000000"/>
                </a:solidFill>
                <a:latin typeface="Georgia"/>
              </a:rPr>
              <a:t>novelista, periodista, ensayista, editor de revistas literarias, conferenciante</a:t>
            </a:r>
            <a:endParaRPr b="0" lang="en-US" sz="27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A</a:t>
            </a:r>
            <a:r>
              <a:rPr b="0" lang="es-ES" sz="2700" spc="-1" strike="noStrike">
                <a:solidFill>
                  <a:srgbClr val="000000"/>
                </a:solidFill>
                <a:latin typeface="Georgia"/>
              </a:rPr>
              <a:t>cadémico de la Real Academia Española </a:t>
            </a:r>
            <a:endParaRPr b="0" lang="en-US" sz="27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eorgia"/>
              </a:rPr>
              <a:t>Premio Nobel de Literatura en 1989</a:t>
            </a:r>
            <a:endParaRPr b="0" lang="en-US" sz="27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eorgia"/>
              </a:rPr>
              <a:t>Premio Cervantes en 1995 </a:t>
            </a:r>
            <a:endParaRPr b="0" lang="en-US" sz="2700" spc="-1" strike="noStrike">
              <a:solidFill>
                <a:srgbClr val="000000"/>
              </a:solidFill>
              <a:latin typeface="Georgia"/>
            </a:endParaRPr>
          </a:p>
          <a:p>
            <a:pPr marL="272880" indent="-27288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eorgia"/>
              </a:rPr>
              <a:t>Premio Príncipe de Asturias de las Letras en 1987</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3" name="Zástupný symbol pro zápatí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MARQUESADO </a:t>
            </a:r>
            <a:endParaRPr b="0" lang="en-US" sz="3300" spc="-1" strike="noStrike">
              <a:solidFill>
                <a:srgbClr val="7b9899"/>
              </a:solidFill>
              <a:latin typeface="Georgia"/>
            </a:endParaRPr>
          </a:p>
        </p:txBody>
      </p:sp>
      <p:sp>
        <p:nvSpPr>
          <p:cNvPr id="615" name=""/>
          <p:cNvSpPr txBox="1"/>
          <p:nvPr/>
        </p:nvSpPr>
        <p:spPr>
          <a:xfrm>
            <a:off x="456840" y="1600200"/>
            <a:ext cx="5186520" cy="254304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    </a:t>
            </a:r>
            <a:r>
              <a:rPr b="0" lang="es-ES" sz="2700" spc="-1" strike="noStrike">
                <a:solidFill>
                  <a:srgbClr val="000000"/>
                </a:solidFill>
                <a:latin typeface="Georgia"/>
              </a:rPr>
              <a:t>Por sus méritos literarios,</a:t>
            </a:r>
            <a:r>
              <a:rPr b="0" lang="cs-CZ" sz="2700" spc="-1" strike="noStrike">
                <a:solidFill>
                  <a:srgbClr val="000000"/>
                </a:solidFill>
                <a:latin typeface="Georgia"/>
              </a:rPr>
              <a:t> </a:t>
            </a:r>
            <a:r>
              <a:rPr b="0" lang="es-ES" sz="2700" spc="-1" strike="noStrike">
                <a:solidFill>
                  <a:srgbClr val="000000"/>
                </a:solidFill>
                <a:latin typeface="Georgia"/>
              </a:rPr>
              <a:t>en</a:t>
            </a:r>
            <a:r>
              <a:rPr b="0" lang="cs-CZ" sz="2700" spc="-1" strike="noStrike">
                <a:solidFill>
                  <a:srgbClr val="000000"/>
                </a:solidFill>
                <a:latin typeface="Georgia"/>
              </a:rPr>
              <a:t> </a:t>
            </a:r>
            <a:r>
              <a:rPr b="0" lang="es-ES" sz="2700" spc="-1" strike="noStrike">
                <a:solidFill>
                  <a:srgbClr val="000000"/>
                </a:solidFill>
                <a:latin typeface="Georgia"/>
              </a:rPr>
              <a:t>1996 el rey Juan </a:t>
            </a:r>
            <a:r>
              <a:rPr b="0" lang="cs-CZ" sz="2700" spc="-1" strike="noStrike">
                <a:solidFill>
                  <a:srgbClr val="000000"/>
                </a:solidFill>
                <a:latin typeface="Georgia"/>
              </a:rPr>
              <a:t> </a:t>
            </a:r>
            <a:r>
              <a:rPr b="0" lang="es-ES" sz="2700" spc="-1" strike="noStrike">
                <a:solidFill>
                  <a:srgbClr val="000000"/>
                </a:solidFill>
                <a:latin typeface="Georgia"/>
              </a:rPr>
              <a:t>Carlos I le otorgó el Marquesado de Iria Flavia, creado ex profeso.</a:t>
            </a:r>
            <a:endParaRPr b="0" lang="en-US" sz="2700" spc="-1" strike="noStrike">
              <a:solidFill>
                <a:srgbClr val="000000"/>
              </a:solidFill>
              <a:latin typeface="Georgia"/>
            </a:endParaRPr>
          </a:p>
        </p:txBody>
      </p:sp>
      <p:pic>
        <p:nvPicPr>
          <p:cNvPr id="616" name="Picture 2" descr="http://upload.wikimedia.org/wikipedia/commons/thumb/a/a6/Camilo_Jose_Cela-2.jpg/200px-Camilo_Jose_Cela-2.jpg"/>
          <p:cNvPicPr/>
          <p:nvPr/>
        </p:nvPicPr>
        <p:blipFill>
          <a:blip r:embed="rId1"/>
          <a:stretch/>
        </p:blipFill>
        <p:spPr>
          <a:xfrm>
            <a:off x="5429160" y="3357720"/>
            <a:ext cx="2548080" cy="2643120"/>
          </a:xfrm>
          <a:prstGeom prst="rect">
            <a:avLst/>
          </a:prstGeom>
          <a:ln w="0">
            <a:noFill/>
          </a:ln>
        </p:spPr>
      </p:pic>
      <p:sp>
        <p:nvSpPr>
          <p:cNvPr id="617" name="Zástupný symbol pro zápatí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LA GUERRA CIVIL </a:t>
            </a:r>
            <a:endParaRPr b="0" lang="en-US" sz="3300" spc="-1" strike="noStrike">
              <a:solidFill>
                <a:srgbClr val="7b9899"/>
              </a:solidFill>
              <a:latin typeface="Georgia"/>
            </a:endParaRPr>
          </a:p>
        </p:txBody>
      </p:sp>
      <p:sp>
        <p:nvSpPr>
          <p:cNvPr id="619" name=""/>
          <p:cNvSpPr txBox="1"/>
          <p:nvPr/>
        </p:nvSpPr>
        <p:spPr>
          <a:xfrm>
            <a:off x="301680" y="1527120"/>
            <a:ext cx="5556240" cy="4572000"/>
          </a:xfrm>
          <a:prstGeom prst="rect">
            <a:avLst/>
          </a:prstGeom>
          <a:noFill/>
          <a:ln w="0">
            <a:noFill/>
          </a:ln>
        </p:spPr>
        <p:txBody>
          <a:bodyPr anchor="t">
            <a:normAutofit fontScale="96000"/>
          </a:bodyPr>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000000"/>
                </a:solidFill>
                <a:latin typeface="Georgia"/>
              </a:rPr>
              <a:t>Durante l</a:t>
            </a:r>
            <a:r>
              <a:rPr b="0" lang="es-ES" sz="2500" spc="-1" strike="noStrike">
                <a:solidFill>
                  <a:srgbClr val="000000"/>
                </a:solidFill>
                <a:latin typeface="Georgia"/>
              </a:rPr>
              <a:t>a Guerra Civil</a:t>
            </a:r>
            <a:r>
              <a:rPr b="0" lang="cs-CZ" sz="2500" spc="-1" strike="noStrike">
                <a:solidFill>
                  <a:srgbClr val="000000"/>
                </a:solidFill>
                <a:latin typeface="Georgia"/>
              </a:rPr>
              <a:t>, </a:t>
            </a:r>
            <a:r>
              <a:rPr b="0" lang="es-ES" sz="2500" spc="-1" strike="noStrike">
                <a:solidFill>
                  <a:srgbClr val="000000"/>
                </a:solidFill>
                <a:latin typeface="Georgia"/>
              </a:rPr>
              <a:t> Cela, de ideas conservadoras, logró escapar a la zona sublevada y se alistó como soldado, fue herido y hospitalizado en Logroño.</a:t>
            </a: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rPr>
              <a:t>Al acabar la guerra mostró indecisión en sus estudios universitarios y entró a trabajar en una Oficina de Industrias Textiles, donde empezó a escribir lo que será </a:t>
            </a:r>
            <a:r>
              <a:rPr b="0" i="1" lang="es-ES" sz="2500" spc="-1" strike="noStrike">
                <a:solidFill>
                  <a:srgbClr val="000000"/>
                </a:solidFill>
                <a:latin typeface="Georgia"/>
              </a:rPr>
              <a:t>La familia de Pascual Duarte</a:t>
            </a:r>
            <a:r>
              <a:rPr b="0" lang="es-ES" sz="2500" spc="-1" strike="noStrike">
                <a:solidFill>
                  <a:srgbClr val="000000"/>
                </a:solidFill>
                <a:latin typeface="Georgia"/>
              </a:rPr>
              <a:t>. </a:t>
            </a:r>
            <a:endParaRPr b="0" lang="en-US" sz="2500" spc="-1" strike="noStrike">
              <a:solidFill>
                <a:srgbClr val="000000"/>
              </a:solidFill>
              <a:latin typeface="Georgia"/>
            </a:endParaRPr>
          </a:p>
        </p:txBody>
      </p:sp>
      <p:pic>
        <p:nvPicPr>
          <p:cNvPr id="620" name="Picture 2" descr="http://upload.wikimedia.org/wikipedia/commons/thumb/d/d6/Camilo_Jos%C3%A9_Cela.jpg/250px-Camilo_Jos%C3%A9_Cela.jpg"/>
          <p:cNvPicPr/>
          <p:nvPr/>
        </p:nvPicPr>
        <p:blipFill>
          <a:blip r:embed="rId1"/>
          <a:stretch/>
        </p:blipFill>
        <p:spPr>
          <a:xfrm>
            <a:off x="6143760" y="2143080"/>
            <a:ext cx="2523960" cy="2428920"/>
          </a:xfrm>
          <a:prstGeom prst="rect">
            <a:avLst/>
          </a:prstGeom>
          <a:ln w="0">
            <a:noFill/>
          </a:ln>
        </p:spPr>
      </p:pic>
      <p:sp>
        <p:nvSpPr>
          <p:cNvPr id="621" name="Zástupný symbol pro zápatí 4"/>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LA CUCAŇA</a:t>
            </a:r>
            <a:endParaRPr b="0" lang="en-US" sz="3300" spc="-1" strike="noStrike">
              <a:solidFill>
                <a:srgbClr val="7b9899"/>
              </a:solidFill>
              <a:latin typeface="Georgia"/>
            </a:endParaRPr>
          </a:p>
        </p:txBody>
      </p:sp>
      <p:sp>
        <p:nvSpPr>
          <p:cNvPr id="62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eorgia"/>
              </a:rPr>
              <a:t>A los 50 años comenzó Cela a escribir sus memorias y trazó entonces un amplio proyecto que llamó </a:t>
            </a:r>
            <a:r>
              <a:rPr b="0" i="1" lang="es-ES" sz="2700" spc="-1" strike="noStrike">
                <a:solidFill>
                  <a:srgbClr val="000000"/>
                </a:solidFill>
                <a:latin typeface="Georgia"/>
              </a:rPr>
              <a:t>La cucaña</a:t>
            </a:r>
            <a:r>
              <a:rPr b="0" lang="es-ES" sz="2700" spc="-1" strike="noStrike">
                <a:solidFill>
                  <a:srgbClr val="000000"/>
                </a:solidFill>
                <a:latin typeface="Georgia"/>
              </a:rPr>
              <a:t>. De aquel plan sólo se editó en libro </a:t>
            </a:r>
            <a:r>
              <a:rPr b="0" i="1" lang="es-ES" sz="2700" spc="-1" strike="noStrike">
                <a:solidFill>
                  <a:srgbClr val="000000"/>
                </a:solidFill>
                <a:latin typeface="Georgia"/>
              </a:rPr>
              <a:t>La rosa</a:t>
            </a:r>
            <a:r>
              <a:rPr b="0" lang="es-ES" sz="2700" spc="-1" strike="noStrike">
                <a:solidFill>
                  <a:srgbClr val="000000"/>
                </a:solidFill>
                <a:latin typeface="Georgia"/>
              </a:rPr>
              <a:t> que termina en los recuerdos de su infancia. El volumen II se publicó en el año 2</a:t>
            </a:r>
            <a:r>
              <a:rPr b="0" lang="cs-CZ" sz="2700" spc="-1" strike="noStrike">
                <a:solidFill>
                  <a:srgbClr val="000000"/>
                </a:solidFill>
                <a:latin typeface="Georgia"/>
              </a:rPr>
              <a:t>001 </a:t>
            </a:r>
            <a:r>
              <a:rPr b="0" lang="es-ES" sz="2700" spc="-1" strike="noStrike">
                <a:solidFill>
                  <a:srgbClr val="000000"/>
                </a:solidFill>
                <a:latin typeface="Georgia"/>
              </a:rPr>
              <a:t>abarca parte de la infancia, la adolescencia y juventud del auto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4" name="Zástupný symbol pro zápatí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TREMENDISMO</a:t>
            </a:r>
            <a:endParaRPr b="0" lang="en-US" sz="33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   </a:t>
            </a:r>
            <a:r>
              <a:rPr b="0" lang="es-ES" sz="2700" spc="-1" strike="noStrike">
                <a:solidFill>
                  <a:srgbClr val="000000"/>
                </a:solidFill>
                <a:latin typeface="Georgia"/>
              </a:rPr>
              <a:t>En 1942 publicó </a:t>
            </a:r>
            <a:r>
              <a:rPr b="0" i="1" lang="es-ES" sz="2700" spc="-1" strike="noStrike">
                <a:solidFill>
                  <a:srgbClr val="000000"/>
                </a:solidFill>
                <a:latin typeface="Georgia"/>
              </a:rPr>
              <a:t>La familia de Pascual Duarte</a:t>
            </a:r>
            <a:r>
              <a:rPr b="0" lang="es-ES" sz="2700" spc="-1" strike="noStrike">
                <a:solidFill>
                  <a:srgbClr val="000000"/>
                </a:solidFill>
                <a:latin typeface="Georgia"/>
              </a:rPr>
              <a:t>, novela que se desarrolla en la Extremadura rural de antes de la Guerra Civil y durante ella y en la que su protagonista cuenta la historia de su vida, en la que se presenta la violencia más cruda como única respuesta que conoce a los sinsabores de su existencia. Este libro inauguró un nuevo estilo en la narrativa española, conocido con el término «tremendismo».</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7" name="Zástupný symbol pro zápatí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LA COLMENA</a:t>
            </a:r>
            <a:endParaRPr b="0" lang="en-US" sz="33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Georgia"/>
              </a:rPr>
              <a:t>Una de sus obras maestras, </a:t>
            </a:r>
            <a:r>
              <a:rPr b="0" i="1" lang="es-ES" sz="2300" spc="-1" strike="noStrike">
                <a:solidFill>
                  <a:srgbClr val="000000"/>
                </a:solidFill>
                <a:latin typeface="Georgia"/>
              </a:rPr>
              <a:t>La colmena</a:t>
            </a:r>
            <a:r>
              <a:rPr b="0" lang="es-ES" sz="2300" spc="-1" strike="noStrike">
                <a:solidFill>
                  <a:srgbClr val="000000"/>
                </a:solidFill>
                <a:latin typeface="Georgia"/>
              </a:rPr>
              <a:t>, se editó primeramente en 1951 en Buenos Aires, ya que la censura había prohibido su publicación en España a causa de sus pasajes eróticos. </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Georgia"/>
              </a:rPr>
              <a:t>La novela cuenta retazos de las historias de múltiples personajes que se desarrollan en el Madrid de los primeros años del franquismo. Muchos críticos consideran que esta obra incorpora la literatura española a la novelística moderna. El mismo autor definió esta obra como «esta crónica amarga de un tiempo amargo» en el que el principal protagonista es el «miedo». </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Georgia"/>
              </a:rPr>
              <a:t>Está considerada por parte de la crítica especializada como una de las mejores novelas españolas del siglo XX. </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Georgia"/>
              </a:rPr>
              <a:t>Fu</a:t>
            </a:r>
            <a:r>
              <a:rPr b="0" lang="cs-CZ" sz="2300" spc="-1" strike="noStrike">
                <a:solidFill>
                  <a:srgbClr val="000000"/>
                </a:solidFill>
                <a:latin typeface="Georgia"/>
              </a:rPr>
              <a:t>e</a:t>
            </a:r>
            <a:r>
              <a:rPr b="0" lang="es-ES" sz="2300" spc="-1" strike="noStrike">
                <a:solidFill>
                  <a:srgbClr val="000000"/>
                </a:solidFill>
                <a:latin typeface="Georgia"/>
              </a:rPr>
              <a:t> llevada al cine</a:t>
            </a:r>
            <a:r>
              <a:rPr b="0" lang="cs-CZ" sz="2300" spc="-1" strike="noStrike">
                <a:solidFill>
                  <a:srgbClr val="000000"/>
                </a:solidFill>
                <a:latin typeface="Georgia"/>
              </a:rPr>
              <a:t> </a:t>
            </a:r>
            <a:r>
              <a:rPr b="0" lang="es-ES" sz="2300" spc="-1" strike="noStrike">
                <a:solidFill>
                  <a:srgbClr val="000000"/>
                </a:solidFill>
                <a:latin typeface="Georgia"/>
              </a:rPr>
              <a:t>en 1982, en película donde el propio Cela participó como guionista y actor.</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
        <p:nvSpPr>
          <p:cNvPr id="630" name="Zástupný symbol pro zápatí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Obra literaria</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anchor="t">
            <a:normAutofit fontScale="99000"/>
          </a:bodyPr>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Georgia"/>
              </a:rPr>
              <a:t>La familia de Pascual Duarte</a:t>
            </a:r>
            <a:r>
              <a:rPr b="0" lang="es-ES" sz="2100" spc="-1" strike="noStrike">
                <a:solidFill>
                  <a:srgbClr val="000000"/>
                </a:solidFill>
                <a:latin typeface="Georgia"/>
              </a:rPr>
              <a:t> (1942)</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Georgia"/>
              </a:rPr>
              <a:t>Pabellón de reposo</a:t>
            </a:r>
            <a:r>
              <a:rPr b="0" lang="es-ES" sz="2100" spc="-1" strike="noStrike">
                <a:solidFill>
                  <a:srgbClr val="000000"/>
                </a:solidFill>
                <a:latin typeface="Georgia"/>
              </a:rPr>
              <a:t> (1943)</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Georgia"/>
              </a:rPr>
              <a:t>Nuevas andanzas y desventuras de Lazarillo de Tormes</a:t>
            </a:r>
            <a:r>
              <a:rPr b="0" lang="es-ES" sz="2100" spc="-1" strike="noStrike">
                <a:solidFill>
                  <a:srgbClr val="000000"/>
                </a:solidFill>
                <a:latin typeface="Georgia"/>
              </a:rPr>
              <a:t> (1944)</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Georgia"/>
              </a:rPr>
              <a:t>La colmena</a:t>
            </a:r>
            <a:r>
              <a:rPr b="0" lang="es-ES" sz="2100" spc="-1" strike="noStrike">
                <a:solidFill>
                  <a:srgbClr val="000000"/>
                </a:solidFill>
                <a:latin typeface="Georgia"/>
              </a:rPr>
              <a:t> (1951)</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Georgia"/>
              </a:rPr>
              <a:t>Mrs Caldwell habla con su hijo</a:t>
            </a:r>
            <a:r>
              <a:rPr b="0" lang="es-ES" sz="2100" spc="-1" strike="noStrike">
                <a:solidFill>
                  <a:srgbClr val="000000"/>
                </a:solidFill>
                <a:latin typeface="Georgia"/>
              </a:rPr>
              <a:t> (1953)</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Georgia"/>
              </a:rPr>
              <a:t>La catira. Historias de Venezuela</a:t>
            </a:r>
            <a:r>
              <a:rPr b="0" lang="es-ES" sz="2100" spc="-1" strike="noStrike">
                <a:solidFill>
                  <a:srgbClr val="000000"/>
                </a:solidFill>
                <a:latin typeface="Georgia"/>
              </a:rPr>
              <a:t> (1955). Premio de la Crítica</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Georgia"/>
              </a:rPr>
              <a:t>Tobogán de hambrientos</a:t>
            </a:r>
            <a:r>
              <a:rPr b="0" lang="es-ES" sz="2100" spc="-1" strike="noStrike">
                <a:solidFill>
                  <a:srgbClr val="000000"/>
                </a:solidFill>
                <a:latin typeface="Georgia"/>
              </a:rPr>
              <a:t> (1962)</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Georgia"/>
              </a:rPr>
              <a:t>San Camilo 1936</a:t>
            </a:r>
            <a:r>
              <a:rPr b="0" lang="es-ES" sz="2100" spc="-1" strike="noStrike">
                <a:solidFill>
                  <a:srgbClr val="000000"/>
                </a:solidFill>
                <a:latin typeface="Georgia"/>
              </a:rPr>
              <a:t> (1969)</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Georgia"/>
              </a:rPr>
              <a:t>Oficio de tinieblas 5</a:t>
            </a:r>
            <a:r>
              <a:rPr b="0" lang="es-ES" sz="2100" spc="-1" strike="noStrike">
                <a:solidFill>
                  <a:srgbClr val="000000"/>
                </a:solidFill>
                <a:latin typeface="Georgia"/>
              </a:rPr>
              <a:t> (1973)</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Georgia"/>
              </a:rPr>
              <a:t>Mazurca para dos muertos</a:t>
            </a:r>
            <a:r>
              <a:rPr b="0" lang="es-ES" sz="2100" spc="-1" strike="noStrike">
                <a:solidFill>
                  <a:srgbClr val="000000"/>
                </a:solidFill>
                <a:latin typeface="Georgia"/>
              </a:rPr>
              <a:t> (1983). Premio Nacional de Narrativa</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Georgia"/>
              </a:rPr>
              <a:t>Cristo versus Arizona</a:t>
            </a:r>
            <a:r>
              <a:rPr b="0" lang="es-ES" sz="2100" spc="-1" strike="noStrike">
                <a:solidFill>
                  <a:srgbClr val="000000"/>
                </a:solidFill>
                <a:latin typeface="Georgia"/>
              </a:rPr>
              <a:t> (1988)</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Georgia"/>
              </a:rPr>
              <a:t>El asesinato del perdedor</a:t>
            </a:r>
            <a:r>
              <a:rPr b="0" lang="es-ES" sz="2100" spc="-1" strike="noStrike">
                <a:solidFill>
                  <a:srgbClr val="000000"/>
                </a:solidFill>
                <a:latin typeface="Georgia"/>
              </a:rPr>
              <a:t> (1994)</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Georgia"/>
              </a:rPr>
              <a:t>La cruz de San Andrés</a:t>
            </a:r>
            <a:r>
              <a:rPr b="0" lang="es-ES" sz="2100" spc="-1" strike="noStrike">
                <a:solidFill>
                  <a:srgbClr val="000000"/>
                </a:solidFill>
                <a:latin typeface="Georgia"/>
              </a:rPr>
              <a:t> (1994). Premio Planeta</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Georgia"/>
              </a:rPr>
              <a:t>Madera de boj</a:t>
            </a:r>
            <a:r>
              <a:rPr b="0" lang="es-ES" sz="2100" spc="-1" strike="noStrike">
                <a:solidFill>
                  <a:srgbClr val="000000"/>
                </a:solidFill>
                <a:latin typeface="Georgia"/>
              </a:rPr>
              <a:t> (1999)</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
        <p:nvSpPr>
          <p:cNvPr id="633" name="Zástupný symbol pro zápatí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Georgia"/>
              </a:rPr>
              <a:t>VY_32_INOVACE_21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11:52:02Z</dcterms:created>
  <dc:creator>Uživatel</dc:creator>
  <dc:description/>
  <dc:language>en-US</dc:language>
  <cp:lastModifiedBy>Tereza</cp:lastModifiedBy>
  <dcterms:modified xsi:type="dcterms:W3CDTF">2013-01-11T22:15:27Z</dcterms:modified>
  <cp:revision>6</cp:revision>
  <dc:subject/>
  <dc:title>CAMILO JOSÉ CELA</dc:title>
</cp:coreProperties>
</file>