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03A-937A-489D-A65E-CC349FA2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22B-3A95-4821-BD11-4E09A15B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212-D38D-4576-9AE9-BEDCEDF7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4CA-146E-4435-8143-71EF5EDB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9554-80FB-4E94-87D6-7DAC9659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F17-172A-4FF5-AE58-38AAA90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6339-70BE-4505-97D6-A71573F1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9C7-DC2F-4A65-B831-7F6F1A19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132B-39EF-4328-B6EA-782826ED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E7E1-6B0C-4548-B5C3-17701FA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15D-8249-4D85-B64A-635E4D9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8B5-7BFA-417F-984A-9F7A633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CDB1-AD33-4918-95D3-B0A9EFD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6C9E-281B-4895-8FFA-78A1AACF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775-207C-47DA-971C-A99EF85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2D3-2A39-41D3-8700-59202810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A576-FE68-44FD-9AD8-5F6CA207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06804-7483-4E01-8A11-4B853BE6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87FAD-093E-4DE8-A29F-A1E0257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8C320-6A7C-4871-81A4-9265AD0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F91DF-C6BB-4631-B4D3-2DB2BBF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B78EA-B172-4914-B6BF-4CD0BD4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AD9-341E-45CF-9C0A-A01E110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C8492-8CDB-4E79-806A-849B0697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F7B13-DB05-491B-A193-83A78E92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407F6-D9E3-4A6F-8974-97083E8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95E86-5961-4B99-8A12-29B761B0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054C9-55F5-4643-8D2C-16249A67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59F9-46AA-4CF2-8955-F71222F3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420E0-4A0C-418D-B0EA-43A00F75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752B-5E8F-4850-8AF9-4FE5CECD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38AF-5B6F-460E-A972-F80E4014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949E3-6E19-46B8-B6B9-B34A17F4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13E-D946-41E5-9749-A0394B8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27B2-23D7-48AE-A8F7-E9B1B7F5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C6A5-0CD9-44CF-90FF-09843CD0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ED2F-349C-4644-AB0A-6B97A646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B1CC-E032-4089-A818-E458DD0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F1C4-2574-4354-A24E-141F1C9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BF35-BF62-4830-8808-C1882C4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7EBD-3286-445C-B2A9-8C86399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B801-8A08-4824-A706-C83AB8F8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7A6B-6799-449C-86A5-38119923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566-D2BC-440C-B952-C7301DC0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748-CE55-4574-AC6A-E0B0C9F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36F-C674-4A93-8A01-A4E06A2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129-694A-493E-8470-58FC05C8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6BB-85BC-4685-B68D-4F5996C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2CF-F55E-4ED7-A08A-08636C9996EC}" type="datetime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1E0C-1B38-4F8C-AAED-0E69A2BED1E6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6232-3C31-4648-8765-D71F0122D087}" type="datetime">
              <a:rPr b="0" lang="cs-CZ" sz="2400" spc="-1" strike="noStrike">
                <a:solidFill>
                  <a:srgbClr val="fefefe"/>
                </a:solidFill>
                <a:latin typeface="Times New Roman"/>
              </a:rPr>
              <a:t>31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30C-7572-465E-A093-732A00E942AA}" type="slidenum"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499-EEA1-4E8D-A093-010EDF62A0C7}" type="datetime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CB81-C63A-481E-96F9-762C9E48EA5B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8198-D14F-4D3A-95B9-B2612539CDB9}" type="datetime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414-C280-4B2A-975C-BBC4D62D24B6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42920" y="2421000"/>
            <a:ext cx="352908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                                 </a:t>
            </a: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LAS CIUDADES</a:t>
            </a:r>
            <a:br>
              <a:rPr sz="3600"/>
            </a:b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          en</a:t>
            </a:r>
            <a:br>
              <a:rPr sz="3600"/>
            </a:b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     ESPAŇ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31291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24242"/>
                </a:solidFill>
                <a:latin typeface="Century Gothic"/>
              </a:rPr>
              <a:t>?CONOCES ESTAS CIUDADES?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Zástupný symbol pro zápatí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logo"/>
          <p:cNvPicPr/>
          <p:nvPr/>
        </p:nvPicPr>
        <p:blipFill>
          <a:blip r:embed="rId1"/>
          <a:stretch/>
        </p:blipFill>
        <p:spPr>
          <a:xfrm>
            <a:off x="755640" y="609480"/>
            <a:ext cx="29336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  </a:t>
            </a: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Espaň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9" name="Zástupný symbol pro obsah 4" descr=""/>
          <p:cNvPicPr/>
          <p:nvPr/>
        </p:nvPicPr>
        <p:blipFill>
          <a:blip r:embed="rId1"/>
          <a:stretch/>
        </p:blipFill>
        <p:spPr>
          <a:xfrm>
            <a:off x="1908000" y="2324160"/>
            <a:ext cx="5046840" cy="3508200"/>
          </a:xfrm>
          <a:prstGeom prst="rect">
            <a:avLst/>
          </a:prstGeom>
          <a:ln w="0">
            <a:noFill/>
          </a:ln>
        </p:spPr>
      </p:pic>
      <p:sp>
        <p:nvSpPr>
          <p:cNvPr id="370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    </a:t>
            </a: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EL MAPA DE ESPAŇ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Zástupný symbol pro obsah 2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459480" cy="3683160"/>
          </a:xfrm>
          <a:prstGeom prst="rect">
            <a:avLst/>
          </a:prstGeom>
          <a:ln w="0">
            <a:noFill/>
          </a:ln>
        </p:spPr>
      </p:pic>
      <p:sp>
        <p:nvSpPr>
          <p:cNvPr id="341" name="Zástupný symbol pro zápatí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916280"/>
            <a:ext cx="345780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?Conoces </a:t>
            </a:r>
            <a:br>
              <a:rPr sz="4000"/>
            </a:b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    esta   </a:t>
            </a:r>
            <a:br>
              <a:rPr sz="4000"/>
            </a:b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  ciudad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300720" y="4005000"/>
            <a:ext cx="122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e3d2d"/>
                </a:solidFill>
                <a:latin typeface="Century Gothic"/>
              </a:rPr>
              <a:t>El centro de ………</a:t>
            </a:r>
            <a:endParaRPr b="0" lang="en-US" sz="13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Zástupný symbol pro zápatí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rázek 1" descr="File:Collagesevilla.jpg"/>
          <p:cNvPicPr/>
          <p:nvPr/>
        </p:nvPicPr>
        <p:blipFill>
          <a:blip r:embed="rId1"/>
          <a:stretch/>
        </p:blipFill>
        <p:spPr>
          <a:xfrm>
            <a:off x="5003640" y="795240"/>
            <a:ext cx="27338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508720" y="1557000"/>
            <a:ext cx="24480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Esta ciudad </a:t>
            </a:r>
            <a:br>
              <a:rPr sz="4000"/>
            </a:b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es muy famos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3024000" cy="5423040"/>
          </a:xfrm>
          <a:prstGeom prst="rect">
            <a:avLst/>
          </a:prstGeom>
          <a:ln w="0">
            <a:noFill/>
          </a:ln>
        </p:spPr>
      </p:pic>
      <p:sp>
        <p:nvSpPr>
          <p:cNvPr id="348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       </a:t>
            </a: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?Dónde podemos ver </a:t>
            </a:r>
            <a:br>
              <a:rPr sz="3600"/>
            </a:b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               estos lugares?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Zástupný symbol pro obsah 4" descr=""/>
          <p:cNvPicPr/>
          <p:nvPr/>
        </p:nvPicPr>
        <p:blipFill>
          <a:blip r:embed="rId1"/>
          <a:stretch/>
        </p:blipFill>
        <p:spPr>
          <a:xfrm>
            <a:off x="911160" y="2438280"/>
            <a:ext cx="3052800" cy="2646360"/>
          </a:xfrm>
          <a:prstGeom prst="rect">
            <a:avLst/>
          </a:prstGeom>
          <a:ln w="0">
            <a:noFill/>
          </a:ln>
        </p:spPr>
      </p:pic>
      <p:sp>
        <p:nvSpPr>
          <p:cNvPr id="351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rázek 5" descr=""/>
          <p:cNvPicPr/>
          <p:nvPr/>
        </p:nvPicPr>
        <p:blipFill>
          <a:blip r:embed="rId2"/>
          <a:stretch/>
        </p:blipFill>
        <p:spPr>
          <a:xfrm>
            <a:off x="4797360" y="3848040"/>
            <a:ext cx="2776680" cy="2087640"/>
          </a:xfrm>
          <a:prstGeom prst="rect">
            <a:avLst/>
          </a:prstGeom>
          <a:ln w="0">
            <a:noFill/>
          </a:ln>
        </p:spPr>
      </p:pic>
      <p:pic>
        <p:nvPicPr>
          <p:cNvPr id="353" name="Obrázek 7" descr=""/>
          <p:cNvPicPr/>
          <p:nvPr/>
        </p:nvPicPr>
        <p:blipFill>
          <a:blip r:embed="rId3"/>
          <a:stretch/>
        </p:blipFill>
        <p:spPr>
          <a:xfrm>
            <a:off x="4356000" y="2301840"/>
            <a:ext cx="3659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cs-CZ" sz="3600" spc="-1" strike="noStrike">
                <a:solidFill>
                  <a:srgbClr val="94c600"/>
                </a:solidFill>
                <a:latin typeface="Century Gothic"/>
              </a:rPr>
              <a:t>?Conoces esta arquitectura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Zástupný symbol pro obsah 4" descr=""/>
          <p:cNvPicPr/>
          <p:nvPr/>
        </p:nvPicPr>
        <p:blipFill>
          <a:blip r:embed="rId1"/>
          <a:stretch/>
        </p:blipFill>
        <p:spPr>
          <a:xfrm>
            <a:off x="636480" y="2565360"/>
            <a:ext cx="3638520" cy="2879640"/>
          </a:xfrm>
          <a:prstGeom prst="rect">
            <a:avLst/>
          </a:prstGeom>
          <a:ln w="0">
            <a:noFill/>
          </a:ln>
        </p:spPr>
      </p:pic>
      <p:sp>
        <p:nvSpPr>
          <p:cNvPr id="356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5" descr=""/>
          <p:cNvPicPr/>
          <p:nvPr/>
        </p:nvPicPr>
        <p:blipFill>
          <a:blip r:embed="rId2"/>
          <a:stretch/>
        </p:blipFill>
        <p:spPr>
          <a:xfrm>
            <a:off x="4616280" y="3213000"/>
            <a:ext cx="34657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508720" y="1196640"/>
            <a:ext cx="24480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</a:t>
            </a: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Estas</a:t>
            </a:r>
            <a:br>
              <a:rPr sz="4000"/>
            </a:b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fotos </a:t>
            </a:r>
            <a:br>
              <a:rPr sz="4000"/>
            </a:b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son</a:t>
            </a:r>
            <a:br>
              <a:rPr sz="4000"/>
            </a:b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 de ……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3816360" cy="5565600"/>
          </a:xfrm>
          <a:prstGeom prst="rect">
            <a:avLst/>
          </a:prstGeom>
          <a:ln w="0">
            <a:noFill/>
          </a:ln>
        </p:spPr>
      </p:pic>
      <p:sp>
        <p:nvSpPr>
          <p:cNvPr id="360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Este palacio está en……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2" name="Zástupný symbol pro obsah 4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108920" cy="2592360"/>
          </a:xfrm>
          <a:prstGeom prst="rect">
            <a:avLst/>
          </a:prstGeom>
          <a:ln w="0">
            <a:noFill/>
          </a:ln>
        </p:spPr>
      </p:pic>
      <p:sp>
        <p:nvSpPr>
          <p:cNvPr id="363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c600"/>
                </a:solidFill>
                <a:latin typeface="Century Gothic"/>
              </a:rPr>
              <a:t>La arquitectura musulman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5" name="Zástupný symbol pro obsah 4" descr=""/>
          <p:cNvPicPr/>
          <p:nvPr/>
        </p:nvPicPr>
        <p:blipFill>
          <a:blip r:embed="rId1"/>
          <a:stretch/>
        </p:blipFill>
        <p:spPr>
          <a:xfrm>
            <a:off x="5319720" y="2708280"/>
            <a:ext cx="1996920" cy="2665440"/>
          </a:xfrm>
          <a:prstGeom prst="rect">
            <a:avLst/>
          </a:prstGeom>
          <a:ln w="0">
            <a:noFill/>
          </a:ln>
        </p:spPr>
      </p:pic>
      <p:sp>
        <p:nvSpPr>
          <p:cNvPr id="366" name="Zástupný symbol pro zápatí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4c600"/>
                </a:solidFill>
                <a:latin typeface="Arial"/>
              </a:rPr>
              <a:t>VY_32_INOVACE_2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5" descr=""/>
          <p:cNvPicPr/>
          <p:nvPr/>
        </p:nvPicPr>
        <p:blipFill>
          <a:blip r:embed="rId2"/>
          <a:stretch/>
        </p:blipFill>
        <p:spPr>
          <a:xfrm>
            <a:off x="2124000" y="2406600"/>
            <a:ext cx="22845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57:49Z</dcterms:created>
  <dc:creator>Tereza</dc:creator>
  <dc:description/>
  <dc:language>en-US</dc:language>
  <cp:lastModifiedBy>Martina Kykalová</cp:lastModifiedBy>
  <dcterms:modified xsi:type="dcterms:W3CDTF">2013-02-02T13:46:44Z</dcterms:modified>
  <cp:revision>5</cp:revision>
  <dc:subject/>
  <dc:title>Snímek 1</dc:title>
</cp:coreProperties>
</file>