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46C-8D26-4744-8808-36A33FE8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5B8-06E1-4FED-9BA0-DFDAFDA2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533-7302-4A71-A68E-B94D1290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852-ABAD-4050-BBD3-8C33D36F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591-8AFA-45C2-9A26-1DDD46C4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AF9-38F1-446F-B8B4-0C6F74F9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AB8-3110-4F1C-ACAD-5B8A11FA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08E-6852-4E80-8583-E774A662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61A-1956-4489-BC1B-95BCC92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E99-FF65-4FC9-B307-9C8CBB69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39A-75EC-406E-BD66-BA88E0B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C9C-C73B-45AF-AECF-2D09675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425-0407-43B1-8BB4-5D52D9088B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12840" y="404640"/>
            <a:ext cx="67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Georgia"/>
              </a:rPr>
              <a:t>FOTOGRAFOVÁNÍ UMĚLECKÝCH DĚL V PROSTORU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3" descr="lachapelle jesus is my homeboy"/>
          <p:cNvPicPr/>
          <p:nvPr/>
        </p:nvPicPr>
        <p:blipFill>
          <a:blip r:embed="rId1"/>
          <a:stretch/>
        </p:blipFill>
        <p:spPr>
          <a:xfrm>
            <a:off x="3325680" y="2682720"/>
            <a:ext cx="4310280" cy="3011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1584360" y="58690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eorgia"/>
              </a:rPr>
              <a:t>OUČASNÉ UMĚNÍ V PROSTORU  (PLASTIKA, OBJEKT a INSTALACE)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4924440" y="189000"/>
            <a:ext cx="558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15_prezentac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Obdélník 5"/>
          <p:cNvSpPr/>
          <p:nvPr/>
        </p:nvSpPr>
        <p:spPr>
          <a:xfrm>
            <a:off x="157320" y="4956120"/>
            <a:ext cx="31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guyhepner.com/artists/?_escaped_fragment_=ART24/David-LaChapelle/COL89/Meditation/PIE446/Jesus-is-My-Homeboy--Footwash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podebal"/>
          <p:cNvPicPr/>
          <p:nvPr/>
        </p:nvPicPr>
        <p:blipFill>
          <a:blip r:embed="rId1"/>
          <a:stretch/>
        </p:blipFill>
        <p:spPr>
          <a:xfrm>
            <a:off x="1728720" y="333360"/>
            <a:ext cx="4832280" cy="6120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2" name="Picture 4" descr="podebal8"/>
          <p:cNvPicPr/>
          <p:nvPr/>
        </p:nvPicPr>
        <p:blipFill>
          <a:blip r:embed="rId2"/>
          <a:stretch/>
        </p:blipFill>
        <p:spPr>
          <a:xfrm>
            <a:off x="6769080" y="2441520"/>
            <a:ext cx="2521080" cy="1881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3" name="Picture 5" descr="pode bal6"/>
          <p:cNvPicPr/>
          <p:nvPr/>
        </p:nvPicPr>
        <p:blipFill>
          <a:blip r:embed="rId3"/>
          <a:stretch/>
        </p:blipFill>
        <p:spPr>
          <a:xfrm>
            <a:off x="6770520" y="4560840"/>
            <a:ext cx="2519640" cy="1879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4" name="Picture 6" descr="podebal3"/>
          <p:cNvPicPr/>
          <p:nvPr/>
        </p:nvPicPr>
        <p:blipFill>
          <a:blip r:embed="rId4"/>
          <a:stretch/>
        </p:blipFill>
        <p:spPr>
          <a:xfrm>
            <a:off x="6770520" y="345960"/>
            <a:ext cx="2519640" cy="1879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576360" y="6093000"/>
            <a:ext cx="108108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Pode Bal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3384720" y="6461280"/>
            <a:ext cx="56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aktualne.centrum.cz/kultura/umeni/clanek.phtml?id=164224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ástupný symbol pro obsah 2"/>
          <p:cNvSpPr/>
          <p:nvPr/>
        </p:nvSpPr>
        <p:spPr>
          <a:xfrm>
            <a:off x="700200" y="1752480"/>
            <a:ext cx="9850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ráz, B., Dějiny výtvarného umění IV, Praha 2005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irst plagiat"/>
          <p:cNvPicPr/>
          <p:nvPr/>
        </p:nvPicPr>
        <p:blipFill>
          <a:blip r:embed="rId1"/>
          <a:stretch/>
        </p:blipFill>
        <p:spPr>
          <a:xfrm>
            <a:off x="385920" y="341280"/>
            <a:ext cx="5472000" cy="3909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7" name="Picture 3" descr="hirst lekay"/>
          <p:cNvPicPr/>
          <p:nvPr/>
        </p:nvPicPr>
        <p:blipFill>
          <a:blip r:embed="rId2"/>
          <a:stretch/>
        </p:blipFill>
        <p:spPr>
          <a:xfrm>
            <a:off x="6002280" y="317520"/>
            <a:ext cx="4511880" cy="3938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8" name="Picture 4" descr="Hirst-Shark"/>
          <p:cNvPicPr/>
          <p:nvPr/>
        </p:nvPicPr>
        <p:blipFill>
          <a:blip r:embed="rId3"/>
          <a:stretch/>
        </p:blipFill>
        <p:spPr>
          <a:xfrm>
            <a:off x="3816360" y="4390920"/>
            <a:ext cx="3384720" cy="2225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9" name="Text Box 5"/>
          <p:cNvSpPr/>
          <p:nvPr/>
        </p:nvSpPr>
        <p:spPr>
          <a:xfrm>
            <a:off x="216000" y="4365720"/>
            <a:ext cx="3495600" cy="8240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amien Hirst: Fyzická nemožnost smrti v mysli někoho, kdo žije (1992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216000" y="5084640"/>
            <a:ext cx="32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stuckism.com/Hirst/StoleArt.html, http://talktorbay.com/wp-content/flgallery/images/irtnparg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iracle03"/>
          <p:cNvPicPr/>
          <p:nvPr/>
        </p:nvPicPr>
        <p:blipFill>
          <a:blip r:embed="rId1"/>
          <a:srcRect l="26461" t="0" r="23461" b="0"/>
          <a:stretch/>
        </p:blipFill>
        <p:spPr>
          <a:xfrm>
            <a:off x="450720" y="333360"/>
            <a:ext cx="4086360" cy="6120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2" name="Picture 3" descr="miracle02"/>
          <p:cNvPicPr/>
          <p:nvPr/>
        </p:nvPicPr>
        <p:blipFill>
          <a:blip r:embed="rId2"/>
          <a:stretch/>
        </p:blipFill>
        <p:spPr>
          <a:xfrm>
            <a:off x="4753080" y="925560"/>
            <a:ext cx="5833800" cy="4375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3" name="Text Box 4"/>
          <p:cNvSpPr/>
          <p:nvPr/>
        </p:nvSpPr>
        <p:spPr>
          <a:xfrm>
            <a:off x="4753080" y="5373720"/>
            <a:ext cx="259236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Kryštof Kintera: Miracl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4753080" y="5899320"/>
            <a:ext cx="32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img.ct24.cz/cache/616x410/article/27/2641/264041.jpg?1308146242, http://kristofkintera.com/img-work/miracle/miracle03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o-not-touch1"/>
          <p:cNvPicPr/>
          <p:nvPr/>
        </p:nvPicPr>
        <p:blipFill>
          <a:blip r:embed="rId1"/>
          <a:stretch/>
        </p:blipFill>
        <p:spPr>
          <a:xfrm>
            <a:off x="504720" y="722160"/>
            <a:ext cx="9864720" cy="4867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3456000" y="5746680"/>
            <a:ext cx="403236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Kryštof Kintera: Do Not Touch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Obdélník 3"/>
          <p:cNvSpPr/>
          <p:nvPr/>
        </p:nvSpPr>
        <p:spPr>
          <a:xfrm>
            <a:off x="504720" y="5794200"/>
            <a:ext cx="329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kristofkintera.com/img-work/do-not-touch/do-not-touch1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456000" y="6345360"/>
            <a:ext cx="403236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Kamera Skura a Kunst-Fu: Superstart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Obdélník 3"/>
          <p:cNvSpPr/>
          <p:nvPr/>
        </p:nvSpPr>
        <p:spPr>
          <a:xfrm>
            <a:off x="216000" y="6137280"/>
            <a:ext cx="329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oidnes.cz/06/052/maxi/KOT12eed7_superstar_1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64000" y="1484280"/>
            <a:ext cx="609588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attelan-la-nona-ora-1999"/>
          <p:cNvPicPr/>
          <p:nvPr/>
        </p:nvPicPr>
        <p:blipFill>
          <a:blip r:embed="rId1"/>
          <a:stretch/>
        </p:blipFill>
        <p:spPr>
          <a:xfrm>
            <a:off x="431640" y="404640"/>
            <a:ext cx="4695840" cy="6048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2" name="Text Box 4"/>
          <p:cNvSpPr/>
          <p:nvPr/>
        </p:nvSpPr>
        <p:spPr>
          <a:xfrm>
            <a:off x="5256360" y="4292640"/>
            <a:ext cx="4033800" cy="8240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Maurizio Catellan: Jan Pavel II. zasažený meteoritem (2004). Všichni (2007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310360" y="5875200"/>
            <a:ext cx="329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christinepalma.com/images/sculpture_catellan_pope03_lanonaora.jpg, http://www.menil.org/exhibitions/images/KUB_CattelanM_OG2_0895_web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5286240" y="401760"/>
            <a:ext cx="522792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899778369_e3f63a293a_b"/>
          <p:cNvPicPr/>
          <p:nvPr/>
        </p:nvPicPr>
        <p:blipFill>
          <a:blip r:embed="rId1"/>
          <a:stretch/>
        </p:blipFill>
        <p:spPr>
          <a:xfrm>
            <a:off x="431640" y="909720"/>
            <a:ext cx="3843360" cy="180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6" name="Picture 3" descr="nahled380x212"/>
          <p:cNvPicPr/>
          <p:nvPr/>
        </p:nvPicPr>
        <p:blipFill>
          <a:blip r:embed="rId2"/>
          <a:stretch/>
        </p:blipFill>
        <p:spPr>
          <a:xfrm>
            <a:off x="4464000" y="615960"/>
            <a:ext cx="3009960" cy="5391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" name="Picture 4" descr="nahled395x212"/>
          <p:cNvPicPr/>
          <p:nvPr/>
        </p:nvPicPr>
        <p:blipFill>
          <a:blip r:embed="rId3"/>
          <a:stretch/>
        </p:blipFill>
        <p:spPr>
          <a:xfrm>
            <a:off x="7705800" y="615960"/>
            <a:ext cx="2895480" cy="5391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8" name="Picture 5" descr="GUMA GUAR6"/>
          <p:cNvPicPr/>
          <p:nvPr/>
        </p:nvPicPr>
        <p:blipFill>
          <a:blip r:embed="rId4"/>
          <a:stretch/>
        </p:blipFill>
        <p:spPr>
          <a:xfrm>
            <a:off x="431640" y="2925720"/>
            <a:ext cx="3816360" cy="1795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9" name="Text Box 6"/>
          <p:cNvSpPr/>
          <p:nvPr/>
        </p:nvSpPr>
        <p:spPr>
          <a:xfrm>
            <a:off x="360360" y="4848120"/>
            <a:ext cx="3887640" cy="580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roupe Guma Guar: Kolektivní identita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Obdélník 6"/>
          <p:cNvSpPr/>
          <p:nvPr/>
        </p:nvSpPr>
        <p:spPr>
          <a:xfrm>
            <a:off x="576360" y="6172200"/>
            <a:ext cx="994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bozo.cz/wp-content/gallery/artwall/gumaguar-1-jpg.jpg, http://img.reflex.cz/img/3/article/501566_import-jste-taky-v-narodnim-tymu.jpg, http://24.media.tumblr.com/TlTgRtqu9p6833bnBgPJ1LnFo1_400.jpg, http://img.aktualne.centrum.cz/152/32/1523269-guma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ztohoven"/>
          <p:cNvPicPr/>
          <p:nvPr/>
        </p:nvPicPr>
        <p:blipFill>
          <a:blip r:embed="rId1"/>
          <a:stretch/>
        </p:blipFill>
        <p:spPr>
          <a:xfrm>
            <a:off x="487440" y="333360"/>
            <a:ext cx="4392360" cy="3516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2" name="Picture 4" descr="ztohoven roman tyc1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40000" y="4005360"/>
            <a:ext cx="3431880" cy="2574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3" name="Picture 5" descr="ztohovensemaforisti"/>
          <p:cNvPicPr/>
          <p:nvPr/>
        </p:nvPicPr>
        <p:blipFill>
          <a:blip r:embed="rId3"/>
          <a:stretch/>
        </p:blipFill>
        <p:spPr>
          <a:xfrm>
            <a:off x="5040360" y="1230480"/>
            <a:ext cx="5545080" cy="4359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4968720" y="5695920"/>
            <a:ext cx="491040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Ztohoven: Mediální realita. Semafory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Obdélník 5"/>
          <p:cNvSpPr/>
          <p:nvPr/>
        </p:nvSpPr>
        <p:spPr>
          <a:xfrm>
            <a:off x="5040360" y="260280"/>
            <a:ext cx="55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designmagazin.cz/foto/2008/01/ztohoven-vybuch.jpg, http://img.blesk.cz/img/1/normal480/1195148-img-roman-tyc-semafor-panacek-umelec-vytvarnik-ztohoven.jpg, http://img.aktualne.centrum.cz/444/47/4444777-roman-tyc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odebal nike"/>
          <p:cNvPicPr/>
          <p:nvPr/>
        </p:nvPicPr>
        <p:blipFill>
          <a:blip r:embed="rId1"/>
          <a:stretch/>
        </p:blipFill>
        <p:spPr>
          <a:xfrm>
            <a:off x="1785960" y="333360"/>
            <a:ext cx="3022560" cy="3095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7" name="Picture 4" descr="PodeBal_TurbanGoretex"/>
          <p:cNvPicPr/>
          <p:nvPr/>
        </p:nvPicPr>
        <p:blipFill>
          <a:blip r:embed="rId2"/>
          <a:stretch/>
        </p:blipFill>
        <p:spPr>
          <a:xfrm>
            <a:off x="5011560" y="795240"/>
            <a:ext cx="5472360" cy="4434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8" name="Picture 5" descr="PodeBal_JambiaVictorinox"/>
          <p:cNvPicPr/>
          <p:nvPr/>
        </p:nvPicPr>
        <p:blipFill>
          <a:blip r:embed="rId3"/>
          <a:stretch/>
        </p:blipFill>
        <p:spPr>
          <a:xfrm>
            <a:off x="498600" y="3611520"/>
            <a:ext cx="4309920" cy="2865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4968720" y="5373720"/>
            <a:ext cx="491040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Pode Bal: Beauty Free Shop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Obdélník 5"/>
          <p:cNvSpPr/>
          <p:nvPr/>
        </p:nvSpPr>
        <p:spPr>
          <a:xfrm>
            <a:off x="5113440" y="5950080"/>
            <a:ext cx="54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artlist.cz/?id=917, http://divus.cc/upload/products/katalogy-40-8.full.png, http://divus.cc/upload/products/katalogy-40-3.full.png, https://www.divus.cz/images/katalogy/PodeBal_burka_nike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6-26T07:28:23Z</dcterms:modified>
  <cp:revision>1260</cp:revision>
  <dc:subject/>
  <dc:title>Snímek 1</dc:title>
</cp:coreProperties>
</file>