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FE9-375C-49B9-B972-77850D91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7DB-3831-4EC9-934F-31D5C1DA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086-77BF-4993-AE92-3C2C3939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223-D259-45BF-AA9B-F4028A32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14B-FA56-4D66-B49E-4EBA84E2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3E4-9283-4EF2-910A-BD410364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1A7-FFCE-4D5E-B46F-668551B4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C34-001C-4DC6-93E7-89A71F4B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CE9-B98F-4A3C-A177-27642C73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0C5-B1A3-4F79-BAEC-F0485DA1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2C0-E2B2-4BF5-A29D-6A61A73B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479-EDF2-41CF-9408-6869A776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7E38-3F76-4908-A6F2-DF0A905E2D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12840" y="404640"/>
            <a:ext cx="674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Georgia"/>
              </a:rPr>
              <a:t>SOUČASNÉ UMĚNÍ</a:t>
            </a:r>
            <a:endParaRPr b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3" descr="lachapelle jesus is my homeboy"/>
          <p:cNvPicPr/>
          <p:nvPr/>
        </p:nvPicPr>
        <p:blipFill>
          <a:blip r:embed="rId1"/>
          <a:stretch/>
        </p:blipFill>
        <p:spPr>
          <a:xfrm>
            <a:off x="3325680" y="2682720"/>
            <a:ext cx="4310280" cy="3011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3" name="Text Box 4"/>
          <p:cNvSpPr/>
          <p:nvPr/>
        </p:nvSpPr>
        <p:spPr>
          <a:xfrm>
            <a:off x="3313080" y="588168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eorgia"/>
              </a:rPr>
              <a:t>VE FOTOGRAFII          (KÝČ NEBO UMĚNÍ?)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TextovéPole 4"/>
          <p:cNvSpPr/>
          <p:nvPr/>
        </p:nvSpPr>
        <p:spPr>
          <a:xfrm>
            <a:off x="4924440" y="189000"/>
            <a:ext cx="558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1114_prezentace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Obdélník 5"/>
          <p:cNvSpPr/>
          <p:nvPr/>
        </p:nvSpPr>
        <p:spPr>
          <a:xfrm>
            <a:off x="208080" y="6093000"/>
            <a:ext cx="316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guyhepner.com/artists/?_escaped_fragment_=ART24/David-LaChapelle/COL89/Meditation/PIE446/Jesus-is-My-Homeboy--Footwash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lachapelle jesus is my homeboy"/>
          <p:cNvPicPr/>
          <p:nvPr/>
        </p:nvPicPr>
        <p:blipFill>
          <a:blip r:embed="rId1"/>
          <a:stretch/>
        </p:blipFill>
        <p:spPr>
          <a:xfrm>
            <a:off x="1415880" y="407880"/>
            <a:ext cx="8136000" cy="568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2473200" y="6321600"/>
            <a:ext cx="605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David LaChapelle: Jesus is my Homeboy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208080" y="6093000"/>
            <a:ext cx="316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guyhepner.com/artists/?_escaped_fragment_=ART24/David-LaChapelle/COL89/Meditation/PIE446/Jesus-is-My-Homeboy--Footwash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lachapelle jesus is my homeboy2"/>
          <p:cNvPicPr/>
          <p:nvPr/>
        </p:nvPicPr>
        <p:blipFill>
          <a:blip r:embed="rId1"/>
          <a:stretch/>
        </p:blipFill>
        <p:spPr>
          <a:xfrm>
            <a:off x="1152360" y="476280"/>
            <a:ext cx="8641080" cy="5638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9" name="Text Box 4"/>
          <p:cNvSpPr/>
          <p:nvPr/>
        </p:nvSpPr>
        <p:spPr>
          <a:xfrm>
            <a:off x="2473200" y="6321600"/>
            <a:ext cx="605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David LaChapelle: Jesus is my Homeboy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Obdélník 3"/>
          <p:cNvSpPr/>
          <p:nvPr/>
        </p:nvSpPr>
        <p:spPr>
          <a:xfrm>
            <a:off x="216000" y="6242040"/>
            <a:ext cx="31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rebelart.net/david-lachapelle-jesus-is-my-homeboy/00647/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achapelle passion of christ"/>
          <p:cNvPicPr/>
          <p:nvPr/>
        </p:nvPicPr>
        <p:blipFill>
          <a:blip r:embed="rId1"/>
          <a:stretch/>
        </p:blipFill>
        <p:spPr>
          <a:xfrm>
            <a:off x="1512720" y="333360"/>
            <a:ext cx="7920360" cy="5796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82" name="Text Box 3"/>
          <p:cNvSpPr/>
          <p:nvPr/>
        </p:nvSpPr>
        <p:spPr>
          <a:xfrm>
            <a:off x="2473200" y="6321600"/>
            <a:ext cx="605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David LaChapelle: Passion of Christ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Obdélník 3"/>
          <p:cNvSpPr/>
          <p:nvPr/>
        </p:nvSpPr>
        <p:spPr>
          <a:xfrm>
            <a:off x="216000" y="6242040"/>
            <a:ext cx="31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davidlachapelle.com/series/passion-of-the-christ/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achapelle sandrobotticelli_venusandmars"/>
          <p:cNvPicPr/>
          <p:nvPr/>
        </p:nvPicPr>
        <p:blipFill>
          <a:blip r:embed="rId1"/>
          <a:stretch/>
        </p:blipFill>
        <p:spPr>
          <a:xfrm>
            <a:off x="792000" y="281160"/>
            <a:ext cx="5400720" cy="2211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85" name="Picture 3" descr="Lachapelle rape of africa"/>
          <p:cNvPicPr/>
          <p:nvPr/>
        </p:nvPicPr>
        <p:blipFill>
          <a:blip r:embed="rId2"/>
          <a:stretch/>
        </p:blipFill>
        <p:spPr>
          <a:xfrm>
            <a:off x="1440000" y="2708280"/>
            <a:ext cx="8675640" cy="3816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86" name="Text Box 4"/>
          <p:cNvSpPr/>
          <p:nvPr/>
        </p:nvSpPr>
        <p:spPr>
          <a:xfrm>
            <a:off x="6337440" y="220500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David LaChapelle: Rape of Africa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337440" y="26028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Sandro Bo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t</a:t>
            </a: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ticelli: Venuše a Mars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6337440" y="1504800"/>
            <a:ext cx="31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blindie.com/2009/09/11/ga-ga-david-lachapelles-rape-of-africa-photographic-series/, http://www.botticellisvision.com/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nachtway rwanda"/>
          <p:cNvPicPr/>
          <p:nvPr/>
        </p:nvPicPr>
        <p:blipFill>
          <a:blip r:embed="rId1"/>
          <a:stretch/>
        </p:blipFill>
        <p:spPr>
          <a:xfrm>
            <a:off x="1081080" y="333360"/>
            <a:ext cx="8785080" cy="5894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90" name="Text Box 3"/>
          <p:cNvSpPr/>
          <p:nvPr/>
        </p:nvSpPr>
        <p:spPr>
          <a:xfrm>
            <a:off x="3673440" y="6308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James Nachteway: Rwanda, 1994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Obdélník 3"/>
          <p:cNvSpPr/>
          <p:nvPr/>
        </p:nvSpPr>
        <p:spPr>
          <a:xfrm>
            <a:off x="216000" y="6242040"/>
            <a:ext cx="31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vsmeets.files.wordpress.com/2011/07/rwanda-hutu-death-camp.jpg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nachtwey_afganistan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77920" y="345960"/>
            <a:ext cx="8569440" cy="5743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93" name="Text Box 4"/>
          <p:cNvSpPr/>
          <p:nvPr/>
        </p:nvSpPr>
        <p:spPr>
          <a:xfrm>
            <a:off x="3673440" y="6308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James Nachteway: Afghánistán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Obdélník 3"/>
          <p:cNvSpPr/>
          <p:nvPr/>
        </p:nvSpPr>
        <p:spPr>
          <a:xfrm>
            <a:off x="193680" y="6229440"/>
            <a:ext cx="31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artnet.com/artwork/424021125/113308/james-nachtwey-afghanistan-1996.html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salgado brasil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63880" y="765000"/>
            <a:ext cx="3319560" cy="5040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96" name="Picture 4" descr="salgado brasil2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34800" y="765000"/>
            <a:ext cx="3337200" cy="5067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97" name="Text Box 7"/>
          <p:cNvSpPr/>
          <p:nvPr/>
        </p:nvSpPr>
        <p:spPr>
          <a:xfrm>
            <a:off x="2846520" y="5900760"/>
            <a:ext cx="5186160" cy="3373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Sebastiao Salgado: Brasil Gold Miners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8" name="Picture 8" descr="Salgado4"/>
          <p:cNvPicPr/>
          <p:nvPr/>
        </p:nvPicPr>
        <p:blipFill>
          <a:blip r:embed="rId3"/>
          <a:stretch/>
        </p:blipFill>
        <p:spPr>
          <a:xfrm>
            <a:off x="7378560" y="765000"/>
            <a:ext cx="3310200" cy="5040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99" name="Obdélník 5"/>
          <p:cNvSpPr/>
          <p:nvPr/>
        </p:nvSpPr>
        <p:spPr>
          <a:xfrm>
            <a:off x="237960" y="636912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masters-of-photography.com/S/salgado/salgado_serra_pelada_full.html, http://blog.echovar.com/?p=4020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salgado-sahel"/>
          <p:cNvPicPr/>
          <p:nvPr/>
        </p:nvPicPr>
        <p:blipFill>
          <a:blip r:embed="rId1"/>
          <a:stretch/>
        </p:blipFill>
        <p:spPr>
          <a:xfrm>
            <a:off x="1297080" y="379440"/>
            <a:ext cx="8351640" cy="55324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01" name="Text Box 4"/>
          <p:cNvSpPr/>
          <p:nvPr/>
        </p:nvSpPr>
        <p:spPr>
          <a:xfrm>
            <a:off x="2592360" y="6093000"/>
            <a:ext cx="5759640" cy="3373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Sebastiao Salgado: Uprchlický tábor Korem, Etiopie, 1984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Obdélník 3"/>
          <p:cNvSpPr/>
          <p:nvPr/>
        </p:nvSpPr>
        <p:spPr>
          <a:xfrm>
            <a:off x="212760" y="6378480"/>
            <a:ext cx="41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mikophoto.net/wordpress/?attachment_id=4366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salgado"/>
          <p:cNvPicPr/>
          <p:nvPr/>
        </p:nvPicPr>
        <p:blipFill>
          <a:blip r:embed="rId1"/>
          <a:stretch/>
        </p:blipFill>
        <p:spPr>
          <a:xfrm>
            <a:off x="5256360" y="2995560"/>
            <a:ext cx="4897440" cy="33926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04" name="Picture 6" descr="salgado-photographer"/>
          <p:cNvPicPr/>
          <p:nvPr/>
        </p:nvPicPr>
        <p:blipFill>
          <a:blip r:embed="rId2"/>
          <a:stretch/>
        </p:blipFill>
        <p:spPr>
          <a:xfrm>
            <a:off x="1079640" y="282600"/>
            <a:ext cx="4543200" cy="3048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05" name="Text Box 7"/>
          <p:cNvSpPr/>
          <p:nvPr/>
        </p:nvSpPr>
        <p:spPr>
          <a:xfrm>
            <a:off x="1774800" y="6257880"/>
            <a:ext cx="3351240" cy="3373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Sebastiao Salgado: Kuvajt, 1991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6" name="Picture 8" descr="SS_Kuwait91_fallen"/>
          <p:cNvPicPr/>
          <p:nvPr/>
        </p:nvPicPr>
        <p:blipFill>
          <a:blip r:embed="rId3">
            <a:lum bright="-2000"/>
          </a:blip>
          <a:stretch/>
        </p:blipFill>
        <p:spPr>
          <a:xfrm>
            <a:off x="1065240" y="3484440"/>
            <a:ext cx="4033800" cy="2714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07" name="Picture 9" descr="Sal4gado1"/>
          <p:cNvPicPr/>
          <p:nvPr/>
        </p:nvPicPr>
        <p:blipFill>
          <a:blip r:embed="rId4"/>
          <a:stretch/>
        </p:blipFill>
        <p:spPr>
          <a:xfrm>
            <a:off x="5761080" y="279360"/>
            <a:ext cx="3816360" cy="257832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6"/>
          <p:cNvSpPr/>
          <p:nvPr/>
        </p:nvSpPr>
        <p:spPr>
          <a:xfrm>
            <a:off x="6985080" y="5210280"/>
            <a:ext cx="31687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www.thefirst10000.com/wp-content/uploads/2011/11/Salgado.jpg, http://csw.art.pl/new/2000/segalo_e.html, https://people.creighton.edu/~mec89416/bookrpt.html, http://fotojournalismus.tumblr.com/post/20290333527/canadian-firefighters-in-kuwait-battle-to-seal-an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7200" y="1600200"/>
            <a:ext cx="985068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Zástupný symbol pro obsah 2"/>
          <p:cNvSpPr/>
          <p:nvPr/>
        </p:nvSpPr>
        <p:spPr>
          <a:xfrm>
            <a:off x="700200" y="1752480"/>
            <a:ext cx="9850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ráz, B., Dějiny výtvarného umění IV, Praha 2005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rewdson beneaththeroses300dpi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855720" y="264960"/>
            <a:ext cx="9145440" cy="5943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47" name="Text Box 4"/>
          <p:cNvSpPr/>
          <p:nvPr/>
        </p:nvSpPr>
        <p:spPr>
          <a:xfrm>
            <a:off x="3300480" y="63342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Gregory Crewdson: Beneath the roses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Obdélník 1"/>
          <p:cNvSpPr/>
          <p:nvPr/>
        </p:nvSpPr>
        <p:spPr>
          <a:xfrm>
            <a:off x="289080" y="6334200"/>
            <a:ext cx="31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sthessaysjeongvisual.blogspot.cz/2010/10/part1-gregory-crewdson.html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rewdson beneath the roses"/>
          <p:cNvPicPr/>
          <p:nvPr/>
        </p:nvPicPr>
        <p:blipFill>
          <a:blip r:embed="rId1"/>
          <a:stretch/>
        </p:blipFill>
        <p:spPr>
          <a:xfrm>
            <a:off x="865080" y="333360"/>
            <a:ext cx="9217080" cy="59799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0" name="Text Box 3"/>
          <p:cNvSpPr/>
          <p:nvPr/>
        </p:nvSpPr>
        <p:spPr>
          <a:xfrm>
            <a:off x="3338640" y="64152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Gregory Crewdson: Beneath the roses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Obdélník 3"/>
          <p:cNvSpPr/>
          <p:nvPr/>
        </p:nvSpPr>
        <p:spPr>
          <a:xfrm>
            <a:off x="289080" y="6334200"/>
            <a:ext cx="31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distantrealityphotographer.blogspot.cz/p/my-chosen-image.html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rewdson twilight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84360" y="196920"/>
            <a:ext cx="7777080" cy="6199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3" name="Text Box 3"/>
          <p:cNvSpPr/>
          <p:nvPr/>
        </p:nvSpPr>
        <p:spPr>
          <a:xfrm>
            <a:off x="3338640" y="64152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Gregory Crewdson: Twilight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Obdélník 3"/>
          <p:cNvSpPr/>
          <p:nvPr/>
        </p:nvSpPr>
        <p:spPr>
          <a:xfrm>
            <a:off x="289080" y="6334200"/>
            <a:ext cx="31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jasminehwilkes.blogspot.cz/2010/10/gregory-crewdson.html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3879720" y="641340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Erwin Olaf: Paradise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" name="Picture 4" descr="olaf paradise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92000" y="260280"/>
            <a:ext cx="4577040" cy="6048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7" name="Picture 6" descr="olaf paradise"/>
          <p:cNvPicPr/>
          <p:nvPr/>
        </p:nvPicPr>
        <p:blipFill>
          <a:blip r:embed="rId2">
            <a:lum contrast="12000"/>
          </a:blip>
          <a:srcRect l="33074" t="13812" r="30299" b="8688"/>
          <a:stretch/>
        </p:blipFill>
        <p:spPr>
          <a:xfrm>
            <a:off x="5578560" y="260280"/>
            <a:ext cx="4575240" cy="60501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8" name="Obdélník 4"/>
          <p:cNvSpPr/>
          <p:nvPr/>
        </p:nvSpPr>
        <p:spPr>
          <a:xfrm>
            <a:off x="289080" y="6334200"/>
            <a:ext cx="31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chicquero.com/2011/10/19/caricatures-portraits-and-some-clowns/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914640" y="641340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Erwin Olaf: Paradise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" name="Picture 6" descr="olaf paradise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532480" y="260280"/>
            <a:ext cx="4562280" cy="6048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1" name="Picture 7" descr="olaf paradise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79400" y="260280"/>
            <a:ext cx="4584600" cy="6048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2" name="Obdélník 4"/>
          <p:cNvSpPr/>
          <p:nvPr/>
        </p:nvSpPr>
        <p:spPr>
          <a:xfrm>
            <a:off x="289080" y="6334200"/>
            <a:ext cx="31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chicquero.com/2011/10/19/caricatures-portraits-and-some-clowns/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olaf royal blood diana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31640" y="333360"/>
            <a:ext cx="6193080" cy="618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6840360" y="5661000"/>
            <a:ext cx="31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Erwin Olaf: Royal Blood (Diana Spencer, Princess of Wales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" name="Picture 7" descr="diana"/>
          <p:cNvPicPr/>
          <p:nvPr/>
        </p:nvPicPr>
        <p:blipFill>
          <a:blip r:embed="rId2">
            <a:grayscl/>
            <a:lum contrast="12000"/>
          </a:blip>
          <a:stretch/>
        </p:blipFill>
        <p:spPr>
          <a:xfrm>
            <a:off x="6840360" y="333360"/>
            <a:ext cx="3787920" cy="518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6" name="Obdélník 4"/>
          <p:cNvSpPr/>
          <p:nvPr/>
        </p:nvSpPr>
        <p:spPr>
          <a:xfrm>
            <a:off x="6861240" y="4778280"/>
            <a:ext cx="316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nikitawintersbergerwdka.blogspot.cz/2011/05/royal-blood-erwin-olaf.html, http://www.fanpop.com/clubs/princess-diana/images/21947319/title/beautiful-photo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olaf royal blood alexandra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31640" y="333360"/>
            <a:ext cx="5578560" cy="626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8" name="Picture 4" descr="Alexandra_Fyodorovna_LOC_01137u"/>
          <p:cNvPicPr/>
          <p:nvPr/>
        </p:nvPicPr>
        <p:blipFill>
          <a:blip r:embed="rId2"/>
          <a:stretch/>
        </p:blipFill>
        <p:spPr>
          <a:xfrm>
            <a:off x="6192720" y="333360"/>
            <a:ext cx="4289400" cy="568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9" name="Text Box 5"/>
          <p:cNvSpPr/>
          <p:nvPr/>
        </p:nvSpPr>
        <p:spPr>
          <a:xfrm>
            <a:off x="6192720" y="616572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Erwin Olaf: Royal Blood (carevna Alexandra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Obdélník 4"/>
          <p:cNvSpPr/>
          <p:nvPr/>
        </p:nvSpPr>
        <p:spPr>
          <a:xfrm>
            <a:off x="4425840" y="333360"/>
            <a:ext cx="316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chicquero.com/2011/10/19/caricatures-portraits-and-some-clowns/, https://en.wikipedia.org/wiki/File:Alexandra_Fyodorovna_LOC_01137u.jpg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olaf royal blood sissi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01600" y="333360"/>
            <a:ext cx="5375520" cy="6191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72" name="Picture 3" descr="sissi"/>
          <p:cNvPicPr/>
          <p:nvPr/>
        </p:nvPicPr>
        <p:blipFill>
          <a:blip r:embed="rId2"/>
          <a:stretch/>
        </p:blipFill>
        <p:spPr>
          <a:xfrm>
            <a:off x="6718320" y="333360"/>
            <a:ext cx="3171960" cy="5715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3" name="Text Box 4"/>
          <p:cNvSpPr/>
          <p:nvPr/>
        </p:nvSpPr>
        <p:spPr>
          <a:xfrm>
            <a:off x="6697800" y="6165720"/>
            <a:ext cx="31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eorgia"/>
              </a:rPr>
              <a:t>Erwin Olaf: Royal Blood (Alžběta Bavorská zv. Sissi)</a:t>
            </a:r>
            <a:endParaRPr b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Obdélník 4"/>
          <p:cNvSpPr/>
          <p:nvPr/>
        </p:nvSpPr>
        <p:spPr>
          <a:xfrm>
            <a:off x="431640" y="333360"/>
            <a:ext cx="316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0000"/>
                </a:solidFill>
                <a:latin typeface="Arial"/>
              </a:rPr>
              <a:t>http://nikitawintersbergerwdka.blogspot.cz/2011/05/royal-blood-erwin-olaf.html, https://cs.wikipedia.org/wiki/Soubor:Erzsebet_kiralyne_photo_1867.jpg</a:t>
            </a:r>
            <a:endParaRPr b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6:03Z</dcterms:created>
  <dc:creator>lazza</dc:creator>
  <dc:description/>
  <dc:language>en-US</dc:language>
  <cp:lastModifiedBy>martin</cp:lastModifiedBy>
  <dcterms:modified xsi:type="dcterms:W3CDTF">2013-06-26T07:10:56Z</dcterms:modified>
  <cp:revision>1261</cp:revision>
  <dc:subject/>
  <dc:title>Snímek 1</dc:title>
</cp:coreProperties>
</file>