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0D0-CC5E-4C86-AD11-F2A7BC42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527-EF48-45AD-9EBB-8410E92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3BC-AE07-4B3C-9002-55AC72D0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41C-549A-4403-BE56-39C5AEED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B0C-A969-4F95-8CBF-125945C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7FE-672B-4F78-A459-6BBC4D0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505-5A49-4B58-8AC4-2E6E1089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29D-2B13-490F-869D-7234E7F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191-809F-4A8F-962D-11A0EF7E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867-45C3-4CB0-80B7-C23C669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5D3-A0DA-4E31-A350-CF1FAA9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46B-615F-4E22-B8DB-B05DD38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CA4-72CA-4FA8-9C6E-EFECF4A03E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2840" y="404640"/>
            <a:ext cx="67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SOUČASNÉ UMĚNÍ</a:t>
            </a:r>
            <a:endParaRPr b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9" descr="lachapelle jesus is my homeboy"/>
          <p:cNvPicPr/>
          <p:nvPr/>
        </p:nvPicPr>
        <p:blipFill>
          <a:blip r:embed="rId1"/>
          <a:stretch/>
        </p:blipFill>
        <p:spPr>
          <a:xfrm>
            <a:off x="3325680" y="2784600"/>
            <a:ext cx="4310280" cy="3011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2448000" y="587700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alba inspirovaná fotografií, inspirace fotografie malbou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4924440" y="189000"/>
            <a:ext cx="558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13_prezentac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Obdélník 5"/>
          <p:cNvSpPr/>
          <p:nvPr/>
        </p:nvSpPr>
        <p:spPr>
          <a:xfrm>
            <a:off x="157320" y="5057640"/>
            <a:ext cx="31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guyhepner.com/artists/?_escaped_fragment_=ART24/David-LaChapelle/COL89/Meditation/PIE446/Jesus-is-My-Homeboy--Footwash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elnwein epiphany III presentation at temple 1998"/>
          <p:cNvPicPr/>
          <p:nvPr/>
        </p:nvPicPr>
        <p:blipFill>
          <a:blip r:embed="rId1"/>
          <a:stretch/>
        </p:blipFill>
        <p:spPr>
          <a:xfrm>
            <a:off x="1150920" y="409680"/>
            <a:ext cx="8713800" cy="5771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8" name="Text Box 3"/>
          <p:cNvSpPr/>
          <p:nvPr/>
        </p:nvSpPr>
        <p:spPr>
          <a:xfrm>
            <a:off x="2881440" y="6237360"/>
            <a:ext cx="53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ottfried Helnwein: Zjevení – Kristus v chrámu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385920" y="6253200"/>
            <a:ext cx="25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helnwein.org/werke/photo/group4/article3525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reud kate moss"/>
          <p:cNvPicPr/>
          <p:nvPr/>
        </p:nvPicPr>
        <p:blipFill>
          <a:blip r:embed="rId1"/>
          <a:stretch/>
        </p:blipFill>
        <p:spPr>
          <a:xfrm>
            <a:off x="576360" y="260280"/>
            <a:ext cx="4919400" cy="6193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1" name="Picture 3" descr="freud_029_kate_moss_2002"/>
          <p:cNvPicPr/>
          <p:nvPr/>
        </p:nvPicPr>
        <p:blipFill>
          <a:blip r:embed="rId2"/>
          <a:srcRect l="24125" t="3949" r="24366" b="4514"/>
          <a:stretch/>
        </p:blipFill>
        <p:spPr>
          <a:xfrm>
            <a:off x="5675400" y="260280"/>
            <a:ext cx="4646520" cy="6193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2" name="Text Box 4"/>
          <p:cNvSpPr/>
          <p:nvPr/>
        </p:nvSpPr>
        <p:spPr>
          <a:xfrm>
            <a:off x="3664080" y="30780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Lucien Freud: Kate Moss (2002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" name="Picture 5" descr="freud_029_kate_moss_2002"/>
          <p:cNvPicPr/>
          <p:nvPr/>
        </p:nvPicPr>
        <p:blipFill>
          <a:blip r:embed="rId3"/>
          <a:srcRect l="48217" t="8220" r="29415" b="71557"/>
          <a:stretch/>
        </p:blipFill>
        <p:spPr>
          <a:xfrm>
            <a:off x="5519880" y="260280"/>
            <a:ext cx="4968720" cy="33703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4" name="Obdélník 5"/>
          <p:cNvSpPr/>
          <p:nvPr/>
        </p:nvSpPr>
        <p:spPr>
          <a:xfrm>
            <a:off x="5675400" y="6442200"/>
            <a:ext cx="511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modernedition.com/art-articles/kate-moss/kate-moss-contemporary-art.html, http://www.standard.co.uk/arts/put-kate-and-kylie-in-museum-6583278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neo rauch_dernaechstezug_presse"/>
          <p:cNvPicPr/>
          <p:nvPr/>
        </p:nvPicPr>
        <p:blipFill>
          <a:blip r:embed="rId1"/>
          <a:stretch/>
        </p:blipFill>
        <p:spPr>
          <a:xfrm>
            <a:off x="1368360" y="282600"/>
            <a:ext cx="8209080" cy="6114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6" name="Text Box 4"/>
          <p:cNvSpPr/>
          <p:nvPr/>
        </p:nvSpPr>
        <p:spPr>
          <a:xfrm>
            <a:off x="4791240" y="6440400"/>
            <a:ext cx="118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Neo Rauch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Obdélník 3"/>
          <p:cNvSpPr/>
          <p:nvPr/>
        </p:nvSpPr>
        <p:spPr>
          <a:xfrm>
            <a:off x="220680" y="5770440"/>
            <a:ext cx="1096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sadiafakih.wordpress.com/2013/03/06/neo-rauch-2-2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ráz, B., Dějiny výtvarného umění IV, Praha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1"/>
          <p:cNvSpPr/>
          <p:nvPr/>
        </p:nvSpPr>
        <p:spPr>
          <a:xfrm>
            <a:off x="9072720" y="5950080"/>
            <a:ext cx="20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Michael Rittstein: Cyklisti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7" name="Picture 15" descr="rittstein"/>
          <p:cNvPicPr/>
          <p:nvPr/>
        </p:nvPicPr>
        <p:blipFill>
          <a:blip r:embed="rId1"/>
          <a:stretch/>
        </p:blipFill>
        <p:spPr>
          <a:xfrm>
            <a:off x="2000160" y="264960"/>
            <a:ext cx="6975720" cy="6367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8" name="Text Box 16"/>
          <p:cNvSpPr/>
          <p:nvPr/>
        </p:nvSpPr>
        <p:spPr>
          <a:xfrm>
            <a:off x="289080" y="244440"/>
            <a:ext cx="3816360" cy="520560"/>
          </a:xfrm>
          <a:prstGeom prst="rect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VLASTNÍ PŘÍBĚHY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Obdélník 1"/>
          <p:cNvSpPr/>
          <p:nvPr/>
        </p:nvSpPr>
        <p:spPr>
          <a:xfrm>
            <a:off x="144360" y="61848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mishasomerville.com/tag/michael-rittstein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rittstein s nakupem 1982"/>
          <p:cNvPicPr/>
          <p:nvPr/>
        </p:nvPicPr>
        <p:blipFill>
          <a:blip r:embed="rId1"/>
          <a:stretch/>
        </p:blipFill>
        <p:spPr>
          <a:xfrm>
            <a:off x="380880" y="295200"/>
            <a:ext cx="5184720" cy="3605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1" name="Picture 4" descr="rittstein vytah vystup z vytahu 1980"/>
          <p:cNvPicPr/>
          <p:nvPr/>
        </p:nvPicPr>
        <p:blipFill>
          <a:blip r:embed="rId2"/>
          <a:stretch/>
        </p:blipFill>
        <p:spPr>
          <a:xfrm>
            <a:off x="2104920" y="4098960"/>
            <a:ext cx="3457800" cy="2502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5" descr="rittstein smisene manzelstvi"/>
          <p:cNvPicPr/>
          <p:nvPr/>
        </p:nvPicPr>
        <p:blipFill>
          <a:blip r:embed="rId3"/>
          <a:stretch/>
        </p:blipFill>
        <p:spPr>
          <a:xfrm>
            <a:off x="5722920" y="282600"/>
            <a:ext cx="4932360" cy="5543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5689440" y="5970600"/>
            <a:ext cx="36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Michael Rittstein: Z nákupu, Smíšené manželství, Výtah (1980s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Obdélník 5"/>
          <p:cNvSpPr/>
          <p:nvPr/>
        </p:nvSpPr>
        <p:spPr>
          <a:xfrm>
            <a:off x="144360" y="4098960"/>
            <a:ext cx="1728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mishasomerville.com/tag/michael-rittstein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kultura.idnes.cz/v-ramci-olomoucke-retrospektivy-povede-michael-rittstein-workshop-11u-/vytvarne-umeni.aspx?c=A090304_125022_vytvarneum_ob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osef bolf atrium"/>
          <p:cNvPicPr/>
          <p:nvPr/>
        </p:nvPicPr>
        <p:blipFill>
          <a:blip r:embed="rId1"/>
          <a:srcRect l="721" t="0" r="0" b="0"/>
          <a:stretch/>
        </p:blipFill>
        <p:spPr>
          <a:xfrm>
            <a:off x="1127160" y="311040"/>
            <a:ext cx="8721720" cy="5911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6" name="Text Box 3"/>
          <p:cNvSpPr/>
          <p:nvPr/>
        </p:nvSpPr>
        <p:spPr>
          <a:xfrm>
            <a:off x="4149720" y="630864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osef Bolf: Atrium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Obdélník 3"/>
          <p:cNvSpPr/>
          <p:nvPr/>
        </p:nvSpPr>
        <p:spPr>
          <a:xfrm>
            <a:off x="263520" y="5954760"/>
            <a:ext cx="17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radio.cz/de/rubrik/mikrophon/josef-bolf-kunst-als-abstandhalter-zu-sich-selbst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josef bolf gym"/>
          <p:cNvPicPr/>
          <p:nvPr/>
        </p:nvPicPr>
        <p:blipFill>
          <a:blip r:embed="rId1"/>
          <a:stretch/>
        </p:blipFill>
        <p:spPr>
          <a:xfrm>
            <a:off x="1225440" y="387360"/>
            <a:ext cx="8496360" cy="5722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9" name="Text Box 3"/>
          <p:cNvSpPr/>
          <p:nvPr/>
        </p:nvSpPr>
        <p:spPr>
          <a:xfrm>
            <a:off x="4248000" y="62136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osef Bolf: Tělocvična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Obdélník 3"/>
          <p:cNvSpPr/>
          <p:nvPr/>
        </p:nvSpPr>
        <p:spPr>
          <a:xfrm>
            <a:off x="263520" y="5954760"/>
            <a:ext cx="17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radio.cz/de/rubrik/mikrophon/josef-bolf-kunst-als-abstandhalter-zu-sich-selbst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josef bplf jidelna"/>
          <p:cNvPicPr/>
          <p:nvPr/>
        </p:nvPicPr>
        <p:blipFill>
          <a:blip r:embed="rId1"/>
          <a:srcRect l="392" t="1056" r="0" b="0"/>
          <a:stretch/>
        </p:blipFill>
        <p:spPr>
          <a:xfrm>
            <a:off x="1081080" y="314280"/>
            <a:ext cx="8823240" cy="5951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4321080" y="63468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osef Bolf: Jídelna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Obdélník 3"/>
          <p:cNvSpPr/>
          <p:nvPr/>
        </p:nvSpPr>
        <p:spPr>
          <a:xfrm>
            <a:off x="263520" y="5954760"/>
            <a:ext cx="17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radio.cz/de/rubrik/mikrophon/josef-bolf-kunst-als-abstandhalter-zu-sich-selbst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osef bolf Šatna(1)"/>
          <p:cNvPicPr/>
          <p:nvPr/>
        </p:nvPicPr>
        <p:blipFill>
          <a:blip r:embed="rId1"/>
          <a:srcRect l="1663" t="0" r="764" b="0"/>
          <a:stretch/>
        </p:blipFill>
        <p:spPr>
          <a:xfrm>
            <a:off x="266760" y="866880"/>
            <a:ext cx="4643280" cy="4146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5" name="Picture 3" descr="josef-bolf-atrium-i"/>
          <p:cNvPicPr/>
          <p:nvPr/>
        </p:nvPicPr>
        <p:blipFill>
          <a:blip r:embed="rId2"/>
          <a:stretch/>
        </p:blipFill>
        <p:spPr>
          <a:xfrm>
            <a:off x="5113440" y="1484280"/>
            <a:ext cx="5688000" cy="4572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1898640" y="5160960"/>
            <a:ext cx="30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osef Bolf: Šatna, Atrium II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Obdélník 4"/>
          <p:cNvSpPr/>
          <p:nvPr/>
        </p:nvSpPr>
        <p:spPr>
          <a:xfrm>
            <a:off x="263520" y="5702400"/>
            <a:ext cx="17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radio.cz/de/rubrik/mikrophon/josef-bolf-kunst-als-abstandhalter-zu-sich-selbst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bacon rubens Descent_From_The_Cross"/>
          <p:cNvPicPr/>
          <p:nvPr/>
        </p:nvPicPr>
        <p:blipFill>
          <a:blip r:embed="rId1"/>
          <a:stretch/>
        </p:blipFill>
        <p:spPr>
          <a:xfrm>
            <a:off x="792000" y="260280"/>
            <a:ext cx="9433080" cy="6070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9" name="Text Box 4"/>
          <p:cNvSpPr/>
          <p:nvPr/>
        </p:nvSpPr>
        <p:spPr>
          <a:xfrm>
            <a:off x="433440" y="244440"/>
            <a:ext cx="4319640" cy="520560"/>
          </a:xfrm>
          <a:prstGeom prst="rect">
            <a:avLst/>
          </a:prstGeom>
          <a:solidFill>
            <a:srgbClr val="ff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ZNALOST KONTEXTU 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07880" y="6394320"/>
            <a:ext cx="53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Petr Paul Rubens: Triptych Ukřižování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" name="Picture 6" descr="bacon crucifixion Adolf_Eichmann_takes_notes_during_his_trial_USHMM_65268"/>
          <p:cNvPicPr/>
          <p:nvPr/>
        </p:nvPicPr>
        <p:blipFill>
          <a:blip r:embed="rId2"/>
          <a:stretch/>
        </p:blipFill>
        <p:spPr>
          <a:xfrm>
            <a:off x="6624720" y="3357720"/>
            <a:ext cx="40068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Picture 7" descr="bacon crucifi Nurse_Battleship_Potemkin"/>
          <p:cNvPicPr/>
          <p:nvPr/>
        </p:nvPicPr>
        <p:blipFill>
          <a:blip r:embed="rId3"/>
          <a:stretch/>
        </p:blipFill>
        <p:spPr>
          <a:xfrm>
            <a:off x="431640" y="981000"/>
            <a:ext cx="3132360" cy="4022640"/>
          </a:xfrm>
          <a:prstGeom prst="rect">
            <a:avLst/>
          </a:prstGeom>
          <a:ln w="0">
            <a:noFill/>
          </a:ln>
        </p:spPr>
      </p:pic>
      <p:sp>
        <p:nvSpPr>
          <p:cNvPr id="73" name="Obdélník 6"/>
          <p:cNvSpPr/>
          <p:nvPr/>
        </p:nvSpPr>
        <p:spPr>
          <a:xfrm>
            <a:off x="4968720" y="6329520"/>
            <a:ext cx="580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en.wikipedia.org/wiki/File:Nurse_Battleship_Potemkin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en.wikipedia.org/wiki/Adolf_Eichmann, http://en.wikipedia.org/wiki/The_Elevation_of_the_Cross_(Rubens)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acon crucifixion"/>
          <p:cNvPicPr/>
          <p:nvPr/>
        </p:nvPicPr>
        <p:blipFill>
          <a:blip r:embed="rId1">
            <a:lum contrast="12000"/>
          </a:blip>
          <a:srcRect l="0" t="0" r="0" b="2889"/>
          <a:stretch/>
        </p:blipFill>
        <p:spPr>
          <a:xfrm>
            <a:off x="419040" y="849240"/>
            <a:ext cx="10153800" cy="4164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2808360" y="5227560"/>
            <a:ext cx="53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Francis Bacon: Tři studie k Ukřižování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Obdélník 4"/>
          <p:cNvSpPr/>
          <p:nvPr/>
        </p:nvSpPr>
        <p:spPr>
          <a:xfrm>
            <a:off x="385920" y="6058080"/>
            <a:ext cx="580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en.wikipedia.org/wiki/File:Crucifixion_1965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6-26T07:11:05Z</dcterms:modified>
  <cp:revision>1264</cp:revision>
  <dc:subject/>
  <dc:title>Snímek 1</dc:title>
</cp:coreProperties>
</file>