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9474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date/time&gt;</a:t>
            </a: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3720" y="685440"/>
            <a:ext cx="547056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 u="sng">
                <a:solidFill>
                  <a:srgbClr val="00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2B16-2506-4FFF-9916-343A0864CA4C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00FD-2E14-4790-BAD5-06F35E62F4D4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14D1-030F-48FA-84DD-F1F2B5466DB7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77B2-7DB8-49CF-8782-4430A02ABA6D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5D38-A849-4E47-9C0A-15E0EB95B545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06A5-B420-402E-9A15-7789E427501A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CB2E-05F0-4B86-9AEC-E1FB864CAC68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84D5-7B9F-41F2-BD03-2C40A6CE94D4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A7F6-FF59-4C13-B2BD-305A75E1A64B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693720" y="685800"/>
            <a:ext cx="547056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DDDC-9A1C-44C9-AF5A-B1B6CAA7375A}" type="slidenum">
              <a:rPr b="0" lang="cs-CZ" sz="1200" spc="-1" strike="noStrike" u="sng">
                <a:solidFill>
                  <a:srgbClr val="000000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28A-7EFB-4AAB-8295-48CE79246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0C28-891D-4EF5-91FB-80404816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DB6-96CE-417C-93DB-5101E87C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7792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08280" y="160020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720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7792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08280" y="3964320"/>
            <a:ext cx="3171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CBF-B5DC-4D45-99EA-C3AAB8523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A3C4-55C7-49FB-86A1-24BA9F24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7B0-DB59-44D7-9FDA-F460C01B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E1F-79E9-4CBB-91DA-A1DA6EBB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0913-D563-467D-8F07-C7846EC2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7200" y="274320"/>
            <a:ext cx="9850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A17F-E4B4-466E-BB23-DC2FE8EC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67C5-3259-46DD-B736-8F3DBD21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95120" y="396432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4709-6406-4710-BC33-5BFE544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720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95120" y="1600200"/>
            <a:ext cx="4807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7200" y="3964320"/>
            <a:ext cx="9850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219-D5B9-49AE-A9EE-E626AAE36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7200" y="274320"/>
            <a:ext cx="985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600200"/>
            <a:ext cx="9850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756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9680" y="6244920"/>
            <a:ext cx="346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3680" y="6244920"/>
            <a:ext cx="2554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6757-329E-4EF3-BA80-1A0319E17C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016000" y="5786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Georgia"/>
              </a:rPr>
              <a:t>V DÍLE HENRI CARTIER-BRESSONA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660680" y="836640"/>
            <a:ext cx="75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ffff"/>
                </a:solidFill>
                <a:latin typeface="Georgia"/>
              </a:rPr>
              <a:t>UMĚNÍ POULIČNÍ FOTOGRAFIE</a:t>
            </a:r>
            <a:endParaRPr b="0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" name="TextovéPole 1"/>
          <p:cNvSpPr/>
          <p:nvPr/>
        </p:nvSpPr>
        <p:spPr>
          <a:xfrm>
            <a:off x="5761080" y="260280"/>
            <a:ext cx="4753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_32_INOVACE_1112_prezentac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Obdélník 9"/>
          <p:cNvSpPr/>
          <p:nvPr/>
        </p:nvSpPr>
        <p:spPr>
          <a:xfrm>
            <a:off x="431640" y="5516640"/>
            <a:ext cx="1405080" cy="109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thetravelphotographer.blogspot.cz/2010/04/moma-henri-cartier-bresson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3576600" y="3027240"/>
            <a:ext cx="3792600" cy="2489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ovéPole 2"/>
          <p:cNvSpPr/>
          <p:nvPr/>
        </p:nvSpPr>
        <p:spPr>
          <a:xfrm>
            <a:off x="2087640" y="31104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5) ZAMĚŘTE SE NA GEOMETRI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9" name="Obdélník 19"/>
          <p:cNvSpPr/>
          <p:nvPr/>
        </p:nvSpPr>
        <p:spPr>
          <a:xfrm>
            <a:off x="9674280" y="3579840"/>
            <a:ext cx="839880" cy="29397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rickimphotography.com/blog/2011/08/10-things-henri-cartier-bresson-can-teach-you-about-street-photography/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85800" y="1197000"/>
            <a:ext cx="7775640" cy="5211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ovéPole 2"/>
          <p:cNvSpPr/>
          <p:nvPr/>
        </p:nvSpPr>
        <p:spPr>
          <a:xfrm>
            <a:off x="2087640" y="31104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5) ZAMĚŘTE SE NA GEOMETRI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2" name="Obdélník 19"/>
          <p:cNvSpPr/>
          <p:nvPr/>
        </p:nvSpPr>
        <p:spPr>
          <a:xfrm>
            <a:off x="9674280" y="3579840"/>
            <a:ext cx="839880" cy="2604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artknowledgenews.com/15_09_2011_00_51_13_the_kunstmuseum_wolfsburg_presents_henri_cartier_bressons_landscapes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0" t="0" r="0" b="7615"/>
          <a:stretch/>
        </p:blipFill>
        <p:spPr>
          <a:xfrm>
            <a:off x="1655640" y="1197000"/>
            <a:ext cx="7631280" cy="5013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TextovéPole 5"/>
          <p:cNvSpPr/>
          <p:nvPr/>
        </p:nvSpPr>
        <p:spPr>
          <a:xfrm>
            <a:off x="3475080" y="634680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Brie, Francie (1968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2"/>
          <p:cNvSpPr/>
          <p:nvPr/>
        </p:nvSpPr>
        <p:spPr>
          <a:xfrm>
            <a:off x="2087640" y="33336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6) ZŮSTAŇTE NENÁPADNÍ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6" name="Obdélník 19"/>
          <p:cNvSpPr/>
          <p:nvPr/>
        </p:nvSpPr>
        <p:spPr>
          <a:xfrm>
            <a:off x="9674280" y="3579840"/>
            <a:ext cx="839880" cy="2604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artknowledgenews.com/15_09_2011_00_51_13_the_kunstmuseum_wolfsburg_presents_henri_cartier_bressons_landscapes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7" name="TextovéPole 5"/>
          <p:cNvSpPr/>
          <p:nvPr/>
        </p:nvSpPr>
        <p:spPr>
          <a:xfrm>
            <a:off x="3475080" y="634680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Jezero Sevan, Arménie (1972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1919160" y="1268280"/>
            <a:ext cx="7058160" cy="4753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a) REPORTÁŽNÍ FOTOGRAFI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" name="Obdélník 19"/>
          <p:cNvSpPr/>
          <p:nvPr/>
        </p:nvSpPr>
        <p:spPr>
          <a:xfrm>
            <a:off x="9097920" y="5589720"/>
            <a:ext cx="1416240" cy="109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phototv.cz/index.php?page=cataltxt&amp;grouptxt=18&amp;recid=263&amp;lang=CZ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431640" y="1125360"/>
            <a:ext cx="10082520" cy="5205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Je fotografie, která srozumitelně zachycuje  aktuální děje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6" name="Picture 15" descr=""/>
          <p:cNvPicPr/>
          <p:nvPr/>
        </p:nvPicPr>
        <p:blipFill>
          <a:blip r:embed="rId1"/>
          <a:stretch/>
        </p:blipFill>
        <p:spPr>
          <a:xfrm>
            <a:off x="2448000" y="1986120"/>
            <a:ext cx="6026040" cy="4538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7" name="TextovéPole 4"/>
          <p:cNvSpPr/>
          <p:nvPr/>
        </p:nvSpPr>
        <p:spPr>
          <a:xfrm>
            <a:off x="115920" y="5448240"/>
            <a:ext cx="2189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Nick Ut: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Dívka z Trang Bang (1972)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a) REPORTÁŽNÍ FOTOGRAFI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Obdélník 19"/>
          <p:cNvSpPr/>
          <p:nvPr/>
        </p:nvSpPr>
        <p:spPr>
          <a:xfrm>
            <a:off x="9428040" y="4764240"/>
            <a:ext cx="1079640" cy="160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fotografeumaideia.com.br/site/index.php?option=com_content&amp;task=view&amp;id=1771&amp;Itemid=137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521080" y="620712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Robert Capa: 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Občanská válka ve Španělsku (1936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728720" y="1268280"/>
            <a:ext cx="7451640" cy="489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ovéPole 2"/>
          <p:cNvSpPr/>
          <p:nvPr/>
        </p:nvSpPr>
        <p:spPr>
          <a:xfrm>
            <a:off x="2087640" y="38592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b) POULIČNÍ FOTOGRAFIE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Obdélník 19"/>
          <p:cNvSpPr/>
          <p:nvPr/>
        </p:nvSpPr>
        <p:spPr>
          <a:xfrm>
            <a:off x="8929800" y="5899320"/>
            <a:ext cx="1488960" cy="76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followingruth.blogspot.cz/2011/03/josef-koudelka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431640" y="1125360"/>
            <a:ext cx="10082520" cy="9471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Calibri"/>
                <a:ea typeface="Calibri"/>
              </a:rPr>
              <a:t>Je typ dokumentární fotografie, která zobrazuje lidi v nearanžovaných situacích ve veřejných prostorách.</a:t>
            </a:r>
            <a:endParaRPr b="0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" name="TextovéPole 4"/>
          <p:cNvSpPr/>
          <p:nvPr/>
        </p:nvSpPr>
        <p:spPr>
          <a:xfrm>
            <a:off x="404640" y="6135840"/>
            <a:ext cx="21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Josef Koudelka</a:t>
            </a: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09720" y="2252520"/>
            <a:ext cx="5589720" cy="4345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bdélník 19"/>
          <p:cNvSpPr/>
          <p:nvPr/>
        </p:nvSpPr>
        <p:spPr>
          <a:xfrm>
            <a:off x="8664480" y="5492880"/>
            <a:ext cx="1489320" cy="76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pbase.com/omoses/image/88558923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" name="TextovéPole 4"/>
          <p:cNvSpPr/>
          <p:nvPr/>
        </p:nvSpPr>
        <p:spPr>
          <a:xfrm>
            <a:off x="720720" y="1604880"/>
            <a:ext cx="43927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Henri Cartier-Bresson </a:t>
            </a: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(1908-2004, Francie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Zakladatel moderní foto-žurnalistiky (reportážní fotografie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Tzv. „humanistická fotografie“ 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  <a:ea typeface="Calibri"/>
              </a:rPr>
              <a:t>Spoluzakladatel agentury Magnum Photos (1947)</a:t>
            </a: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761080" y="1892160"/>
            <a:ext cx="4367160" cy="338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0" name="Text Box 3" descr=""/>
          <p:cNvPicPr/>
          <p:nvPr/>
        </p:nvPicPr>
        <p:blipFill>
          <a:blip r:embed="rId2"/>
          <a:stretch/>
        </p:blipFill>
        <p:spPr>
          <a:xfrm>
            <a:off x="858960" y="444600"/>
            <a:ext cx="9272520" cy="982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ovéPole 2"/>
          <p:cNvSpPr/>
          <p:nvPr/>
        </p:nvSpPr>
        <p:spPr>
          <a:xfrm>
            <a:off x="2087640" y="33336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1) CESTUJTE!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" name="TextovéPole 4"/>
          <p:cNvSpPr/>
          <p:nvPr/>
        </p:nvSpPr>
        <p:spPr>
          <a:xfrm>
            <a:off x="3600360" y="6335640"/>
            <a:ext cx="38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Moma, Indie(1948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" name="Obdélník 9"/>
          <p:cNvSpPr/>
          <p:nvPr/>
        </p:nvSpPr>
        <p:spPr>
          <a:xfrm>
            <a:off x="393840" y="5192640"/>
            <a:ext cx="1066680" cy="763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www.vinitaagarwal.com/archives/830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1"/>
          <a:stretch/>
        </p:blipFill>
        <p:spPr>
          <a:xfrm>
            <a:off x="1655640" y="1181160"/>
            <a:ext cx="7551720" cy="498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ovéPole 2"/>
          <p:cNvSpPr/>
          <p:nvPr/>
        </p:nvSpPr>
        <p:spPr>
          <a:xfrm>
            <a:off x="2087640" y="33336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2) BUĎTE TRPĚLIVÍ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" name="Obdélník 19"/>
          <p:cNvSpPr/>
          <p:nvPr/>
        </p:nvSpPr>
        <p:spPr>
          <a:xfrm>
            <a:off x="9361440" y="1112760"/>
            <a:ext cx="1224000" cy="2437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erickimphotography.com/blog/2011/08/10-things-henri-cartier-bresson-can-teach-you-about-street-photography//, http://pariz-pro-pokrocile.blog.cz/1012/nadace-henri-cartier-bresson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687680" y="1112760"/>
            <a:ext cx="3676320" cy="5268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5576760" y="1112760"/>
            <a:ext cx="3600720" cy="525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ovéPole 2"/>
          <p:cNvSpPr/>
          <p:nvPr/>
        </p:nvSpPr>
        <p:spPr>
          <a:xfrm>
            <a:off x="2087640" y="33336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3) DĚTI JSOU BEZPROSTŘEDNÍ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" name="Obdélník 19"/>
          <p:cNvSpPr/>
          <p:nvPr/>
        </p:nvSpPr>
        <p:spPr>
          <a:xfrm>
            <a:off x="8497800" y="5545080"/>
            <a:ext cx="1871640" cy="109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apphotnum.free.fr/N2BE43.html, http://www.iphotocentral.com/search/detail.php/256/Henri+Cartier-Bresson/20/11422/1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44680" y="1198440"/>
            <a:ext cx="3487680" cy="5143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4216320" y="1198440"/>
            <a:ext cx="6153120" cy="4162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3" name="TextovéPole 5"/>
          <p:cNvSpPr/>
          <p:nvPr/>
        </p:nvSpPr>
        <p:spPr>
          <a:xfrm>
            <a:off x="4216320" y="5570640"/>
            <a:ext cx="406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Rue Mouffetard, Paříž (1954), 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Děti hrající si na kovboje, Řím (1951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"/>
          <p:cNvPicPr/>
          <p:nvPr/>
        </p:nvPicPr>
        <p:blipFill>
          <a:blip r:embed="rId1"/>
          <a:stretch/>
        </p:blipFill>
        <p:spPr>
          <a:xfrm>
            <a:off x="1584360" y="1197000"/>
            <a:ext cx="7777080" cy="510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ovéPole 4"/>
          <p:cNvSpPr/>
          <p:nvPr/>
        </p:nvSpPr>
        <p:spPr>
          <a:xfrm>
            <a:off x="3600360" y="6335640"/>
            <a:ext cx="384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Calibri"/>
                <a:ea typeface="Calibri"/>
              </a:rPr>
              <a:t>Šrínagar, Kašmír (1948)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6" name="Obdélník 9"/>
          <p:cNvSpPr/>
          <p:nvPr/>
        </p:nvSpPr>
        <p:spPr>
          <a:xfrm>
            <a:off x="393840" y="5192640"/>
            <a:ext cx="1066680" cy="14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ff0000"/>
                </a:solidFill>
                <a:latin typeface="Arial"/>
              </a:rPr>
              <a:t>http://thetravelphotographer.blogspot.cz/2010/04/moma-henri-cartier-bresson.html</a:t>
            </a:r>
            <a:endParaRPr b="0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" name="TextovéPole 5"/>
          <p:cNvSpPr/>
          <p:nvPr/>
        </p:nvSpPr>
        <p:spPr>
          <a:xfrm>
            <a:off x="2087640" y="333360"/>
            <a:ext cx="6842160" cy="581400"/>
          </a:xfrm>
          <a:prstGeom prst="rect">
            <a:avLst/>
          </a:prstGeom>
          <a:solidFill>
            <a:srgbClr val="161645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  <a:ea typeface="Calibri"/>
              </a:rPr>
              <a:t>4) POZORUJTE SVĚT JAKO MALÍŘI</a:t>
            </a:r>
            <a:endParaRPr b="0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7:26:03Z</dcterms:created>
  <dc:creator>lazza</dc:creator>
  <dc:description/>
  <dc:language>en-US</dc:language>
  <cp:lastModifiedBy>martin</cp:lastModifiedBy>
  <dcterms:modified xsi:type="dcterms:W3CDTF">2013-02-28T11:45:05Z</dcterms:modified>
  <cp:revision>598</cp:revision>
  <dc:subject/>
  <dc:title>Snímek 1</dc:title>
</cp:coreProperties>
</file>