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BFA-56E7-4027-8030-2B467CBF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76F7-AE82-4FB7-AA23-761C5131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CBD-7198-4145-A3E5-0B8578D1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285-CE88-4F43-BADA-69B82381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9ED-E150-4FD2-AC41-791BADA6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ABE-8AA5-4BC4-A792-04AB5DE1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DBA-A6FA-4939-8874-101F9D65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6B3B-CA43-4F6D-9532-7DFD8AF3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886-DB3F-45D0-9025-4FB3C613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936-D6AF-456C-9133-8D351CD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48A-D7CA-42ED-A517-3557EB42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A7B-557B-46D9-8BC8-F99476AD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C440-4092-4B50-A5AB-B8471ECD255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horolezec.cz/" TargetMode="Externa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664000" y="5630760"/>
            <a:ext cx="56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eorgia"/>
              </a:rPr>
              <a:t>JAK FOTIT UMĚLECKY SPRÁVNĚ  II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692360" y="83664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KOMPOZIČNÍ PRAVIDLA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TextovéPole 1"/>
          <p:cNvSpPr/>
          <p:nvPr/>
        </p:nvSpPr>
        <p:spPr>
          <a:xfrm>
            <a:off x="5761080" y="260280"/>
            <a:ext cx="475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09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Obdélník 9"/>
          <p:cNvSpPr/>
          <p:nvPr/>
        </p:nvSpPr>
        <p:spPr>
          <a:xfrm>
            <a:off x="3456000" y="6335640"/>
            <a:ext cx="40338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JJV-La_fontaine-1.jpg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4032360" y="2997360"/>
            <a:ext cx="2878200" cy="2482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PRAVIDLO TŘETIN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Obdélník 19"/>
          <p:cNvSpPr/>
          <p:nvPr/>
        </p:nvSpPr>
        <p:spPr>
          <a:xfrm>
            <a:off x="1333440" y="4292640"/>
            <a:ext cx="1079640" cy="76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photo/1384968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071800" y="1197000"/>
            <a:ext cx="4319640" cy="287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3" name="Picture 2" descr=""/>
          <p:cNvPicPr/>
          <p:nvPr/>
        </p:nvPicPr>
        <p:blipFill>
          <a:blip r:embed="rId2"/>
          <a:srcRect l="0" t="0" r="46271" b="0"/>
          <a:stretch/>
        </p:blipFill>
        <p:spPr>
          <a:xfrm>
            <a:off x="6607080" y="1197000"/>
            <a:ext cx="2322720" cy="287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5048280" y="4292640"/>
            <a:ext cx="3371760" cy="224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5" name="Picture 3" descr=""/>
          <p:cNvPicPr/>
          <p:nvPr/>
        </p:nvPicPr>
        <p:blipFill>
          <a:blip r:embed="rId4"/>
          <a:srcRect l="38272" t="0" r="5770" b="0"/>
          <a:stretch/>
        </p:blipFill>
        <p:spPr>
          <a:xfrm>
            <a:off x="2936880" y="4292640"/>
            <a:ext cx="1887480" cy="2249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ovéPole 4"/>
          <p:cNvSpPr/>
          <p:nvPr/>
        </p:nvSpPr>
        <p:spPr>
          <a:xfrm>
            <a:off x="431640" y="404640"/>
            <a:ext cx="10082520" cy="18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  <a:ea typeface="Calibri"/>
              </a:rPr>
              <a:t>SAMOSTATNÝ ÚKOL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alezněte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horolezec.cz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 takové snímky, u nichž bylo využito kompozičního pravidla třetin nebo principu zlatého řezu.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17" name="TextovéPole 4"/>
          <p:cNvGrpSpPr/>
          <p:nvPr/>
        </p:nvGrpSpPr>
        <p:grpSpPr>
          <a:xfrm>
            <a:off x="249120" y="2309760"/>
            <a:ext cx="10455480" cy="4462560"/>
            <a:chOff x="249120" y="2309760"/>
            <a:chExt cx="10455480" cy="4462560"/>
          </a:xfrm>
        </p:grpSpPr>
        <p:pic>
          <p:nvPicPr>
            <p:cNvPr id="118" name="TextovéPole 4" descr=""/>
            <p:cNvPicPr/>
            <p:nvPr/>
          </p:nvPicPr>
          <p:blipFill>
            <a:blip r:embed="rId2"/>
            <a:stretch/>
          </p:blipFill>
          <p:spPr>
            <a:xfrm>
              <a:off x="249120" y="2309760"/>
              <a:ext cx="10455480" cy="44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31640" y="2492280"/>
              <a:ext cx="10082520" cy="40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2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SAMOSTATNÝ (DOMÁCÍ) ÚKOL</a:t>
              </a: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yfotografujte a poté vyberte 4 nejlepší snímky, které budou komponovány podle principu: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Pravidla třetin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Zlatého řezu/zlaté spirály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alibri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Všechny snímky budou samozřejmě zcela ostré (výjimku může tvořit záměrné rozmazání – např. tekoucí voda), správně exponované (výjimkou může být opět cílená podexpozice – např. černá silueta stromu proti západu slunce apod.), bez blesku, s ISO max. 400 (u kompaktu) nebo 800 (u DSLR)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CO JE TO KOMPOZIC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TextovéPole 4"/>
          <p:cNvSpPr/>
          <p:nvPr/>
        </p:nvSpPr>
        <p:spPr>
          <a:xfrm>
            <a:off x="431640" y="981000"/>
            <a:ext cx="10082520" cy="947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Komponovat scénu znamená rozmisťovat objekty na obraze/fotografii tak, aby působily vyváženě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901880" y="4417920"/>
            <a:ext cx="3147840" cy="2089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927080" y="2104920"/>
            <a:ext cx="3146400" cy="209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322960" y="2104920"/>
            <a:ext cx="3162240" cy="209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5322960" y="4495680"/>
            <a:ext cx="3030480" cy="2011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5"/>
          <a:stretch/>
        </p:blipFill>
        <p:spPr>
          <a:xfrm>
            <a:off x="1922400" y="2104920"/>
            <a:ext cx="3146400" cy="209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3" name="Picture 9" descr=""/>
          <p:cNvPicPr/>
          <p:nvPr/>
        </p:nvPicPr>
        <p:blipFill>
          <a:blip r:embed="rId6"/>
          <a:stretch/>
        </p:blipFill>
        <p:spPr>
          <a:xfrm>
            <a:off x="5318280" y="2104920"/>
            <a:ext cx="3162240" cy="2097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4" name="Picture 10" descr=""/>
          <p:cNvPicPr/>
          <p:nvPr/>
        </p:nvPicPr>
        <p:blipFill>
          <a:blip r:embed="rId7"/>
          <a:stretch/>
        </p:blipFill>
        <p:spPr>
          <a:xfrm>
            <a:off x="5318280" y="4410000"/>
            <a:ext cx="3162240" cy="2097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5" name="Obdélník 19"/>
          <p:cNvSpPr/>
          <p:nvPr/>
        </p:nvSpPr>
        <p:spPr>
          <a:xfrm>
            <a:off x="8672400" y="4889520"/>
            <a:ext cx="1657440" cy="14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,http://www.sxc.hu/photo/1382734 http://www.sxc.hu/photo/1055751, http://www.sxc.hu/photo/1382017, http://www.sxc.hu/photo/1374417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TextovéPole 4"/>
          <p:cNvSpPr/>
          <p:nvPr/>
        </p:nvSpPr>
        <p:spPr>
          <a:xfrm>
            <a:off x="641520" y="234936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Pláž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CO JE TO KOMPOZIC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Obdélník 19"/>
          <p:cNvSpPr/>
          <p:nvPr/>
        </p:nvSpPr>
        <p:spPr>
          <a:xfrm>
            <a:off x="9217080" y="1816200"/>
            <a:ext cx="1374840" cy="19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photo/852553, http://www.sxc.hu/photo/1151918, http://www.sxc.hu/photo/976237http://www.sxc.hu/photo/723554, http://www.sxc.hu/photo/832824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087640" y="1290600"/>
            <a:ext cx="3170160" cy="2376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508720" y="1290600"/>
            <a:ext cx="3543120" cy="23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1739880" y="3933720"/>
            <a:ext cx="3527280" cy="264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2" name="Picture 4" descr=""/>
          <p:cNvPicPr/>
          <p:nvPr/>
        </p:nvPicPr>
        <p:blipFill>
          <a:blip r:embed="rId4"/>
          <a:stretch/>
        </p:blipFill>
        <p:spPr>
          <a:xfrm>
            <a:off x="5533920" y="3933720"/>
            <a:ext cx="1984320" cy="2644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Picture 5" descr=""/>
          <p:cNvPicPr/>
          <p:nvPr/>
        </p:nvPicPr>
        <p:blipFill>
          <a:blip r:embed="rId5"/>
          <a:stretch/>
        </p:blipFill>
        <p:spPr>
          <a:xfrm>
            <a:off x="7734240" y="3933720"/>
            <a:ext cx="285768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4" name="TextovéPole 4"/>
          <p:cNvSpPr/>
          <p:nvPr/>
        </p:nvSpPr>
        <p:spPr>
          <a:xfrm>
            <a:off x="431640" y="1290600"/>
            <a:ext cx="14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Město a lidé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ovéPole 2"/>
          <p:cNvSpPr/>
          <p:nvPr/>
        </p:nvSpPr>
        <p:spPr>
          <a:xfrm>
            <a:off x="431640" y="414360"/>
            <a:ext cx="100825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CENTRÁLNÍ NEBO ASYMETRICKÁ KOMPOZICE?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Obdélník 19"/>
          <p:cNvSpPr/>
          <p:nvPr/>
        </p:nvSpPr>
        <p:spPr>
          <a:xfrm>
            <a:off x="1670040" y="5589720"/>
            <a:ext cx="43164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browse.phtml?f=download&amp;id=1368687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TextovéPole 4"/>
          <p:cNvSpPr/>
          <p:nvPr/>
        </p:nvSpPr>
        <p:spPr>
          <a:xfrm>
            <a:off x="431640" y="1125360"/>
            <a:ext cx="10082520" cy="8859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alibri"/>
                <a:ea typeface="Calibri"/>
              </a:rPr>
              <a:t>Centrální kompozice rozpůlí snímek na dva – může být opticky nejednotný</a:t>
            </a:r>
            <a:endParaRPr b="0" lang="en-US" sz="2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8" name="Obrázek 5" descr=""/>
          <p:cNvPicPr/>
          <p:nvPr/>
        </p:nvPicPr>
        <p:blipFill>
          <a:blip r:embed="rId1"/>
          <a:stretch/>
        </p:blipFill>
        <p:spPr>
          <a:xfrm>
            <a:off x="763560" y="1906560"/>
            <a:ext cx="5213520" cy="3476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Obrázek 8" descr=""/>
          <p:cNvPicPr/>
          <p:nvPr/>
        </p:nvPicPr>
        <p:blipFill>
          <a:blip r:embed="rId2"/>
          <a:srcRect l="43748" t="0" r="2951" b="-1049"/>
          <a:stretch/>
        </p:blipFill>
        <p:spPr>
          <a:xfrm>
            <a:off x="6481800" y="1905120"/>
            <a:ext cx="3532320" cy="44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ovéPole 2"/>
          <p:cNvSpPr/>
          <p:nvPr/>
        </p:nvSpPr>
        <p:spPr>
          <a:xfrm>
            <a:off x="431640" y="414360"/>
            <a:ext cx="1008252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CENTRÁLNÍ NEBO ASYMETRICKÁ KOMPOZICE?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" name="Obdélník 19"/>
          <p:cNvSpPr/>
          <p:nvPr/>
        </p:nvSpPr>
        <p:spPr>
          <a:xfrm>
            <a:off x="4753080" y="5675400"/>
            <a:ext cx="431460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browse.phtml?f=download&amp;id=1375204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2" name="Obrázek 1" descr=""/>
          <p:cNvPicPr/>
          <p:nvPr/>
        </p:nvPicPr>
        <p:blipFill>
          <a:blip r:embed="rId1"/>
          <a:srcRect l="34198" t="638" r="11109" b="4644"/>
          <a:stretch/>
        </p:blipFill>
        <p:spPr>
          <a:xfrm>
            <a:off x="590400" y="1557360"/>
            <a:ext cx="3805560" cy="4392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73" name="Obrázek 3" descr=""/>
          <p:cNvPicPr/>
          <p:nvPr/>
        </p:nvPicPr>
        <p:blipFill>
          <a:blip r:embed="rId2"/>
          <a:srcRect l="0" t="6491" r="7282" b="0"/>
          <a:stretch/>
        </p:blipFill>
        <p:spPr>
          <a:xfrm>
            <a:off x="4799160" y="1557360"/>
            <a:ext cx="5657760" cy="3803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ZLATÝ ŘEZ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" name="Obdélník 19"/>
          <p:cNvSpPr/>
          <p:nvPr/>
        </p:nvSpPr>
        <p:spPr>
          <a:xfrm>
            <a:off x="422280" y="6264360"/>
            <a:ext cx="1009188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Rechteck_GoldenerSchnitt.gif, http://en.wikipedia.org/wiki/File:Fibonacci_spiral_34.svg,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431640" y="1125360"/>
            <a:ext cx="10082520" cy="520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Zlatým řezem se označuje poměr o hodnotě přibližně 1,618. 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2685960" y="1844640"/>
            <a:ext cx="2782800" cy="2122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2668680" y="4254480"/>
            <a:ext cx="2789280" cy="1766880"/>
          </a:xfrm>
          <a:prstGeom prst="rect">
            <a:avLst/>
          </a:prstGeom>
          <a:ln w="0">
            <a:noFill/>
          </a:ln>
        </p:spPr>
      </p:pic>
      <p:sp>
        <p:nvSpPr>
          <p:cNvPr id="79" name="TextovéPole 4"/>
          <p:cNvSpPr/>
          <p:nvPr/>
        </p:nvSpPr>
        <p:spPr>
          <a:xfrm>
            <a:off x="385920" y="3595680"/>
            <a:ext cx="22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Zlatý řez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TextovéPole 4"/>
          <p:cNvSpPr/>
          <p:nvPr/>
        </p:nvSpPr>
        <p:spPr>
          <a:xfrm>
            <a:off x="452520" y="576576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Zlatá spirál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5684760" y="1870200"/>
            <a:ext cx="4829400" cy="4165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ovéPole 2"/>
          <p:cNvSpPr/>
          <p:nvPr/>
        </p:nvSpPr>
        <p:spPr>
          <a:xfrm>
            <a:off x="208908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ZLATÝ ŘEZ v prax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Obdélník 19"/>
          <p:cNvSpPr/>
          <p:nvPr/>
        </p:nvSpPr>
        <p:spPr>
          <a:xfrm>
            <a:off x="9217080" y="4292640"/>
            <a:ext cx="1297080" cy="19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browse.phtml?f=download&amp;id=1375204, http://www.sxc.hu/photo/1359602, http://www.sxc.hu/photo/1340086, http://www.sxc.hu/photo/1061687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4" name="Obrázek 1" descr=""/>
          <p:cNvPicPr/>
          <p:nvPr/>
        </p:nvPicPr>
        <p:blipFill>
          <a:blip r:embed="rId1"/>
          <a:stretch/>
        </p:blipFill>
        <p:spPr>
          <a:xfrm>
            <a:off x="1193760" y="1125360"/>
            <a:ext cx="4148280" cy="276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5" name="Picture 5" descr=""/>
          <p:cNvPicPr/>
          <p:nvPr/>
        </p:nvPicPr>
        <p:blipFill>
          <a:blip r:embed="rId2"/>
          <a:srcRect l="2487" t="7039" r="9330" b="14755"/>
          <a:stretch/>
        </p:blipFill>
        <p:spPr>
          <a:xfrm>
            <a:off x="1152360" y="981000"/>
            <a:ext cx="4206960" cy="300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5495760" y="1133640"/>
            <a:ext cx="4226040" cy="281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7" name="Picture 5" descr=""/>
          <p:cNvPicPr/>
          <p:nvPr/>
        </p:nvPicPr>
        <p:blipFill>
          <a:blip r:embed="rId4"/>
          <a:srcRect l="2487" t="7039" r="9330" b="14755"/>
          <a:stretch/>
        </p:blipFill>
        <p:spPr>
          <a:xfrm>
            <a:off x="5487840" y="952560"/>
            <a:ext cx="4206960" cy="30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5"/>
          <a:stretch/>
        </p:blipFill>
        <p:spPr>
          <a:xfrm>
            <a:off x="1800360" y="4149720"/>
            <a:ext cx="3536640" cy="235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9" name="Picture 5" descr=""/>
          <p:cNvPicPr/>
          <p:nvPr/>
        </p:nvPicPr>
        <p:blipFill>
          <a:blip r:embed="rId6"/>
          <a:srcRect l="9331" t="7040" r="2487" b="14759"/>
          <a:stretch/>
        </p:blipFill>
        <p:spPr>
          <a:xfrm>
            <a:off x="1752480" y="3952800"/>
            <a:ext cx="3606840" cy="2571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7"/>
          <a:stretch/>
        </p:blipFill>
        <p:spPr>
          <a:xfrm>
            <a:off x="5533920" y="4164120"/>
            <a:ext cx="3525840" cy="23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1" name="Picture 5" descr=""/>
          <p:cNvPicPr/>
          <p:nvPr/>
        </p:nvPicPr>
        <p:blipFill>
          <a:blip r:embed="rId8"/>
          <a:srcRect l="9331" t="7040" r="2487" b="14759"/>
          <a:stretch/>
        </p:blipFill>
        <p:spPr>
          <a:xfrm>
            <a:off x="5495760" y="3917880"/>
            <a:ext cx="3676680" cy="262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ovéPole 2"/>
          <p:cNvSpPr/>
          <p:nvPr/>
        </p:nvSpPr>
        <p:spPr>
          <a:xfrm>
            <a:off x="208908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ZLATÝ ŘEZ v prax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3" name="Obdélník 19"/>
          <p:cNvSpPr/>
          <p:nvPr/>
        </p:nvSpPr>
        <p:spPr>
          <a:xfrm>
            <a:off x="9217080" y="4292640"/>
            <a:ext cx="1297080" cy="19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sxc.hu/browse.phtml?f=download&amp;id=1375204, http://www.sxc.hu/photo/1359602, http://www.sxc.hu/photo/1340086, http://www.sxc.hu/photo/1061687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4" name="Obrázek 1" descr=""/>
          <p:cNvPicPr/>
          <p:nvPr/>
        </p:nvPicPr>
        <p:blipFill>
          <a:blip r:embed="rId1"/>
          <a:stretch/>
        </p:blipFill>
        <p:spPr>
          <a:xfrm>
            <a:off x="1193760" y="1125360"/>
            <a:ext cx="4148280" cy="2765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5495760" y="1133640"/>
            <a:ext cx="4226040" cy="281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1800360" y="4149720"/>
            <a:ext cx="3536640" cy="2357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7" name="Picture 4" descr=""/>
          <p:cNvPicPr/>
          <p:nvPr/>
        </p:nvPicPr>
        <p:blipFill>
          <a:blip r:embed="rId4"/>
          <a:stretch/>
        </p:blipFill>
        <p:spPr>
          <a:xfrm>
            <a:off x="5533920" y="4164120"/>
            <a:ext cx="3525840" cy="23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9" descr=""/>
          <p:cNvPicPr/>
          <p:nvPr/>
        </p:nvPicPr>
        <p:blipFill>
          <a:blip r:embed="rId5"/>
          <a:stretch/>
        </p:blipFill>
        <p:spPr>
          <a:xfrm>
            <a:off x="5495760" y="1197000"/>
            <a:ext cx="4233960" cy="268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6"/>
          <a:stretch/>
        </p:blipFill>
        <p:spPr>
          <a:xfrm>
            <a:off x="1800360" y="4243320"/>
            <a:ext cx="3530520" cy="223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7"/>
          <a:stretch/>
        </p:blipFill>
        <p:spPr>
          <a:xfrm>
            <a:off x="1193760" y="1241280"/>
            <a:ext cx="4233960" cy="268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8"/>
          <a:stretch/>
        </p:blipFill>
        <p:spPr>
          <a:xfrm>
            <a:off x="5494320" y="4164120"/>
            <a:ext cx="3530520" cy="2236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PRAVIDLO TŘETIN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Obdélník 19"/>
          <p:cNvSpPr/>
          <p:nvPr/>
        </p:nvSpPr>
        <p:spPr>
          <a:xfrm>
            <a:off x="2232000" y="6264360"/>
            <a:ext cx="6404040" cy="261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cs.wikipedia.org/wiki/Soubor:RuleOfThirds-SideBySide.gif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ovéPole 4"/>
          <p:cNvSpPr/>
          <p:nvPr/>
        </p:nvSpPr>
        <p:spPr>
          <a:xfrm>
            <a:off x="431640" y="1125360"/>
            <a:ext cx="10082520" cy="947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Hlavní objekty a motivy zájmu jsou umisťovány do blízkosti linií rozdělujících scénu na třetiny nebo do jejich průsečíků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912960" y="2421000"/>
            <a:ext cx="9024840" cy="3384360"/>
          </a:xfrm>
          <a:prstGeom prst="rect">
            <a:avLst/>
          </a:prstGeom>
          <a:ln w="0">
            <a:noFill/>
          </a:ln>
        </p:spPr>
      </p:pic>
      <p:sp>
        <p:nvSpPr>
          <p:cNvPr id="106" name="Přímá spojnice 3"/>
          <p:cNvSpPr/>
          <p:nvPr/>
        </p:nvSpPr>
        <p:spPr>
          <a:xfrm>
            <a:off x="5508720" y="4653000"/>
            <a:ext cx="4429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římá spojnice 15"/>
          <p:cNvSpPr/>
          <p:nvPr/>
        </p:nvSpPr>
        <p:spPr>
          <a:xfrm>
            <a:off x="6985080" y="2435400"/>
            <a:ext cx="0" cy="3336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2"/>
          <a:stretch/>
        </p:blipFill>
        <p:spPr>
          <a:xfrm>
            <a:off x="912960" y="2421000"/>
            <a:ext cx="4462200" cy="33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3"/>
          <a:stretch/>
        </p:blipFill>
        <p:spPr>
          <a:xfrm>
            <a:off x="5535720" y="2443320"/>
            <a:ext cx="4462200" cy="334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1-31T08:20:01Z</dcterms:modified>
  <cp:revision>532</cp:revision>
  <dc:subject/>
  <dc:title>Snímek 1</dc:title>
</cp:coreProperties>
</file>