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947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3720" y="685440"/>
            <a:ext cx="54705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DC3C-B3B0-4BC0-B112-01A5EBD1194C}" type="slidenum"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693720" y="685800"/>
            <a:ext cx="547056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14DD-2343-43F4-BB29-F71AC7272432}" type="slidenum"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94A-1CAB-46B0-A918-31438130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6DB-B801-48BD-AC59-014FA0A1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36D-0B1E-4B8A-8113-C2401C56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792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0828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20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792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0828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CCB-8EF4-47AD-BF81-1AAC1231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B95-15EA-4179-A2BB-7A5A7BF0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014-0E35-4D37-B3F5-A33CC83D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DAB-D344-4FA6-9C9D-AAAD13D8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70C-4649-45D5-8901-9AAC75BB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200" y="274320"/>
            <a:ext cx="985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121-F31A-4BF7-BB04-9BFD01EE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6B6-CE39-4D5C-AFC1-154C8C5A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7B2-1F88-4B31-8E2B-C6272FCD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90D-80F9-4EAD-9F88-1DED4B0D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756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9680" y="6244920"/>
            <a:ext cx="346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368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13B0-B9D7-48C2-85E5-DA775D04DF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664000" y="55497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JAK FOTIT TECHNICKY SPRÁVNĚ  IV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692360" y="981000"/>
            <a:ext cx="75610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500" spc="-1" strike="noStrike">
                <a:solidFill>
                  <a:srgbClr val="ffffff"/>
                </a:solidFill>
                <a:latin typeface="Georgia"/>
              </a:rPr>
              <a:t>ŠUM</a:t>
            </a:r>
            <a:endParaRPr b="0" lang="en-US" sz="11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TextovéPole 1"/>
          <p:cNvSpPr/>
          <p:nvPr/>
        </p:nvSpPr>
        <p:spPr>
          <a:xfrm>
            <a:off x="5761080" y="466560"/>
            <a:ext cx="475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1107_prezentac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Obdélník 9"/>
          <p:cNvSpPr/>
          <p:nvPr/>
        </p:nvSpPr>
        <p:spPr>
          <a:xfrm>
            <a:off x="3816360" y="6264360"/>
            <a:ext cx="324000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en.wikipedia.org/wiki/File:Highimgnoise.jp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4302000" y="3014640"/>
            <a:ext cx="2357640" cy="235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ovéPole 2"/>
          <p:cNvSpPr/>
          <p:nvPr/>
        </p:nvSpPr>
        <p:spPr>
          <a:xfrm>
            <a:off x="2305080" y="46836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4) JAK ZREDUKOVAT ŠUM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TextovéPole 8"/>
          <p:cNvSpPr/>
          <p:nvPr/>
        </p:nvSpPr>
        <p:spPr>
          <a:xfrm>
            <a:off x="8877240" y="5659560"/>
            <a:ext cx="17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1,3 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TextovéPole 9"/>
          <p:cNvSpPr/>
          <p:nvPr/>
        </p:nvSpPr>
        <p:spPr>
          <a:xfrm>
            <a:off x="4753080" y="576576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1/8 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TextovéPole 4"/>
          <p:cNvSpPr/>
          <p:nvPr/>
        </p:nvSpPr>
        <p:spPr>
          <a:xfrm>
            <a:off x="3024360" y="1052640"/>
            <a:ext cx="4911480" cy="459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b) Volba formátu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TextovéPole 4"/>
          <p:cNvSpPr/>
          <p:nvPr/>
        </p:nvSpPr>
        <p:spPr>
          <a:xfrm>
            <a:off x="431640" y="1996920"/>
            <a:ext cx="3313440" cy="3385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Calibri"/>
                <a:ea typeface="Calibri"/>
              </a:rPr>
              <a:t>Ztrátová komprese *.JPEG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Bezeztrátová komprese *.TIFF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Calibri"/>
                <a:ea typeface="Calibri"/>
              </a:rPr>
              <a:t>Bezeztrátový data formát *.RAW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TextovéPole 4"/>
          <p:cNvSpPr/>
          <p:nvPr/>
        </p:nvSpPr>
        <p:spPr>
          <a:xfrm>
            <a:off x="3998880" y="1935000"/>
            <a:ext cx="6581880" cy="3507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  <a:ea typeface="Calibri"/>
              </a:rPr>
              <a:t>SAMOSTATNÝ ÚKOL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Calibri"/>
                <a:ea typeface="Calibri"/>
              </a:rPr>
              <a:t>Vyfotografujte snímek ve formátu *.JPEG s různou mírou komprese (nejvyšší a nejnižší). Srovnejte zvětšený detail v PC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Calibri"/>
                <a:ea typeface="Calibri"/>
              </a:rPr>
              <a:t>Uložte fotografii </a:t>
            </a:r>
            <a:r>
              <a:rPr b="0" i="1" lang="cs-CZ" sz="2400" spc="-1" strike="noStrike">
                <a:solidFill>
                  <a:srgbClr val="00b050"/>
                </a:solidFill>
                <a:latin typeface="Calibri"/>
                <a:ea typeface="Calibri"/>
              </a:rPr>
              <a:t>Save for web </a:t>
            </a:r>
            <a:r>
              <a:rPr b="0" lang="cs-CZ" sz="2400" spc="-1" strike="noStrike">
                <a:solidFill>
                  <a:srgbClr val="00b050"/>
                </a:solidFill>
                <a:latin typeface="Calibri"/>
                <a:ea typeface="Calibri"/>
              </a:rPr>
              <a:t>několikrát za sebou. Srovnejte změnu kvality fotografie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Calibri"/>
                <a:ea typeface="Calibri"/>
              </a:rPr>
              <a:t>Vyfotografujte fotografii ve formátu *.RAW i *.JPEG současně a srovnejte jejich velikost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ovéPole 2"/>
          <p:cNvSpPr/>
          <p:nvPr/>
        </p:nvSpPr>
        <p:spPr>
          <a:xfrm>
            <a:off x="2305080" y="46836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4) JAK ZREDUKOVAT ŠUM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Obdélník 19"/>
          <p:cNvSpPr/>
          <p:nvPr/>
        </p:nvSpPr>
        <p:spPr>
          <a:xfrm>
            <a:off x="9348840" y="5640480"/>
            <a:ext cx="1160280" cy="109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cs.wikipedia.org/wiki/Soubor:Verrauscht_RIMG5594_crop.jp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TextovéPole 8"/>
          <p:cNvSpPr/>
          <p:nvPr/>
        </p:nvSpPr>
        <p:spPr>
          <a:xfrm>
            <a:off x="8877240" y="5659560"/>
            <a:ext cx="17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1,3 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TextovéPole 9"/>
          <p:cNvSpPr/>
          <p:nvPr/>
        </p:nvSpPr>
        <p:spPr>
          <a:xfrm>
            <a:off x="4753080" y="576576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1/8 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38440" y="1670040"/>
            <a:ext cx="7407000" cy="4881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TextovéPole 4"/>
          <p:cNvSpPr/>
          <p:nvPr/>
        </p:nvSpPr>
        <p:spPr>
          <a:xfrm>
            <a:off x="3024360" y="1052640"/>
            <a:ext cx="4911480" cy="459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c) Dodatečně – softwarová editac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7200" y="1600200"/>
            <a:ext cx="9850680" cy="4525920"/>
          </a:xfrm>
          <a:prstGeom prst="rect">
            <a:avLst/>
          </a:prstGeom>
          <a:ln w="0">
            <a:noFill/>
          </a:ln>
        </p:spPr>
      </p:pic>
      <p:sp>
        <p:nvSpPr>
          <p:cNvPr id="118" name="Obdélník 3"/>
          <p:cNvSpPr/>
          <p:nvPr/>
        </p:nvSpPr>
        <p:spPr>
          <a:xfrm>
            <a:off x="504720" y="260280"/>
            <a:ext cx="54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Použité prameny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: 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Kelby, S, Digitální fotografie, CP 2006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ovéPole 2"/>
          <p:cNvSpPr/>
          <p:nvPr/>
        </p:nvSpPr>
        <p:spPr>
          <a:xfrm>
            <a:off x="2087640" y="38592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1) JAK FUNGUJE SNÍMAČ (opakování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TextovéPole 4"/>
          <p:cNvSpPr/>
          <p:nvPr/>
        </p:nvSpPr>
        <p:spPr>
          <a:xfrm>
            <a:off x="728640" y="1265400"/>
            <a:ext cx="5611680" cy="1678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  <a:ea typeface="Calibri"/>
              </a:rPr>
              <a:t>SAMOSTATNÝ ÚKOL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Na základě ukázek popište, jak funguje snímač digitálního fotoaparátu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629400" y="3371760"/>
            <a:ext cx="3456000" cy="2211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1228680" y="3191040"/>
            <a:ext cx="5111640" cy="237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6629400" y="1284120"/>
            <a:ext cx="2930400" cy="1906920"/>
          </a:xfrm>
          <a:prstGeom prst="rect">
            <a:avLst/>
          </a:prstGeom>
          <a:ln w="0">
            <a:noFill/>
          </a:ln>
        </p:spPr>
      </p:pic>
      <p:sp>
        <p:nvSpPr>
          <p:cNvPr id="58" name="Obdélník 19"/>
          <p:cNvSpPr/>
          <p:nvPr/>
        </p:nvSpPr>
        <p:spPr>
          <a:xfrm>
            <a:off x="1152360" y="6093000"/>
            <a:ext cx="8636040" cy="428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en.wikipedia.org/wiki/File:Bayer_pattern_on_sensor.svg, http://en.wikipedia.org/wiki/File:Absorption-X3.sv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, http://en.wikipedia.org/wiki/File:Bayer_pattern_on_sensor_profile.sv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TextovéPole 4"/>
          <p:cNvSpPr/>
          <p:nvPr/>
        </p:nvSpPr>
        <p:spPr>
          <a:xfrm>
            <a:off x="9650520" y="128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1) Bayerův filtr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TextovéPole 4"/>
          <p:cNvSpPr/>
          <p:nvPr/>
        </p:nvSpPr>
        <p:spPr>
          <a:xfrm>
            <a:off x="6773760" y="5621400"/>
            <a:ext cx="29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2) Filtrování barev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TextovéPole 4"/>
          <p:cNvSpPr/>
          <p:nvPr/>
        </p:nvSpPr>
        <p:spPr>
          <a:xfrm>
            <a:off x="2301840" y="5589720"/>
            <a:ext cx="29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3) Přefiltrované barvy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ovéPole 2"/>
          <p:cNvSpPr/>
          <p:nvPr/>
        </p:nvSpPr>
        <p:spPr>
          <a:xfrm>
            <a:off x="1512720" y="385920"/>
            <a:ext cx="79203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1) JAK FUNGUJE SNÍMAČ (praktická ukázka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Obdélník 19"/>
          <p:cNvSpPr/>
          <p:nvPr/>
        </p:nvSpPr>
        <p:spPr>
          <a:xfrm>
            <a:off x="1152360" y="6093000"/>
            <a:ext cx="863604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www.sxc.hu/browse.phtml?f=download&amp;id=1377091, http://en.wikipedia.org/wiki/File:Absorption-X3.sv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4" name="Obrázek 1" descr=""/>
          <p:cNvPicPr/>
          <p:nvPr/>
        </p:nvPicPr>
        <p:blipFill>
          <a:blip r:embed="rId1"/>
          <a:stretch/>
        </p:blipFill>
        <p:spPr>
          <a:xfrm>
            <a:off x="1290600" y="1268280"/>
            <a:ext cx="6702480" cy="4465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5" name="Picture 6" descr=""/>
          <p:cNvPicPr/>
          <p:nvPr/>
        </p:nvPicPr>
        <p:blipFill>
          <a:blip r:embed="rId2"/>
          <a:srcRect l="24884" t="0" r="54102" b="0"/>
          <a:stretch/>
        </p:blipFill>
        <p:spPr>
          <a:xfrm>
            <a:off x="8209080" y="1278000"/>
            <a:ext cx="1439640" cy="4383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ovéPole 2"/>
          <p:cNvSpPr/>
          <p:nvPr/>
        </p:nvSpPr>
        <p:spPr>
          <a:xfrm>
            <a:off x="1512720" y="385920"/>
            <a:ext cx="79203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1) JAK FUNGUJE SNÍMAČ (praktická ukázka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Obdélník 19"/>
          <p:cNvSpPr/>
          <p:nvPr/>
        </p:nvSpPr>
        <p:spPr>
          <a:xfrm>
            <a:off x="9145440" y="4368960"/>
            <a:ext cx="1354320" cy="160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www.sxc.hu/browse.phtml?f=download&amp;id=1326287, http://www.sxc.hu/browse.phtml?f=download&amp;id=1392592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8" name="Obrázek 4" descr=""/>
          <p:cNvPicPr/>
          <p:nvPr/>
        </p:nvPicPr>
        <p:blipFill>
          <a:blip r:embed="rId1"/>
          <a:stretch/>
        </p:blipFill>
        <p:spPr>
          <a:xfrm>
            <a:off x="441360" y="1216080"/>
            <a:ext cx="10058400" cy="3004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9" name="Picture 6" descr=""/>
          <p:cNvPicPr/>
          <p:nvPr/>
        </p:nvPicPr>
        <p:blipFill>
          <a:blip r:embed="rId2"/>
          <a:srcRect l="31280" t="0" r="47681" b="0"/>
          <a:stretch/>
        </p:blipFill>
        <p:spPr>
          <a:xfrm>
            <a:off x="441360" y="1201680"/>
            <a:ext cx="745920" cy="2270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0" name="Obrázek 7" descr=""/>
          <p:cNvPicPr/>
          <p:nvPr/>
        </p:nvPicPr>
        <p:blipFill>
          <a:blip r:embed="rId3"/>
          <a:stretch/>
        </p:blipFill>
        <p:spPr>
          <a:xfrm>
            <a:off x="441360" y="4365720"/>
            <a:ext cx="7842240" cy="198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1" name="Picture 6" descr=""/>
          <p:cNvPicPr/>
          <p:nvPr/>
        </p:nvPicPr>
        <p:blipFill>
          <a:blip r:embed="rId4"/>
          <a:srcRect l="0" t="0" r="76608" b="0"/>
          <a:stretch/>
        </p:blipFill>
        <p:spPr>
          <a:xfrm>
            <a:off x="8282160" y="4368960"/>
            <a:ext cx="734760" cy="2011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2) JAK VZNIKÁ ŠUM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" name="Obdélník 19"/>
          <p:cNvSpPr/>
          <p:nvPr/>
        </p:nvSpPr>
        <p:spPr>
          <a:xfrm>
            <a:off x="1190520" y="6308640"/>
            <a:ext cx="863604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www.sxc.hu/photo/917015, http://www.sxc.hu/browse.phtml?f=download&amp;id=1356812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" name="TextovéPole 4"/>
          <p:cNvSpPr/>
          <p:nvPr/>
        </p:nvSpPr>
        <p:spPr>
          <a:xfrm>
            <a:off x="401760" y="5262480"/>
            <a:ext cx="5002200" cy="825480"/>
          </a:xfrm>
          <a:prstGeom prst="rect">
            <a:avLst/>
          </a:prstGeom>
          <a:noFill/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Je-li MÁLO světla (=slabý signál), šum bude na snímku patrnější/šum zesílil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TextovéPole 8"/>
          <p:cNvSpPr/>
          <p:nvPr/>
        </p:nvSpPr>
        <p:spPr>
          <a:xfrm>
            <a:off x="8877240" y="5659560"/>
            <a:ext cx="17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1,3 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TextovéPole 9"/>
          <p:cNvSpPr/>
          <p:nvPr/>
        </p:nvSpPr>
        <p:spPr>
          <a:xfrm>
            <a:off x="4753080" y="576576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1/8 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" name="TextovéPole 4"/>
          <p:cNvSpPr/>
          <p:nvPr/>
        </p:nvSpPr>
        <p:spPr>
          <a:xfrm>
            <a:off x="5545080" y="5262480"/>
            <a:ext cx="4932360" cy="825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Je-li DOSTATEK světla (=silný signál), je na snímku nepatrný/šum zeslabil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" name="TextovéPole 4"/>
          <p:cNvSpPr/>
          <p:nvPr/>
        </p:nvSpPr>
        <p:spPr>
          <a:xfrm>
            <a:off x="401760" y="1197000"/>
            <a:ext cx="10136160" cy="825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Šum je falešná informace, která vzniká působením elektromagnetických vln (teplo, mobil, rádiové vysílání, wi-fi atd.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9" name="Obrázek 1" descr=""/>
          <p:cNvPicPr/>
          <p:nvPr/>
        </p:nvPicPr>
        <p:blipFill>
          <a:blip r:embed="rId1"/>
          <a:stretch/>
        </p:blipFill>
        <p:spPr>
          <a:xfrm>
            <a:off x="1440000" y="2276640"/>
            <a:ext cx="3916080" cy="2741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0" name="Obrázek 3" descr=""/>
          <p:cNvPicPr/>
          <p:nvPr/>
        </p:nvPicPr>
        <p:blipFill>
          <a:blip r:embed="rId2"/>
          <a:stretch/>
        </p:blipFill>
        <p:spPr>
          <a:xfrm>
            <a:off x="5570640" y="2276640"/>
            <a:ext cx="4006800" cy="271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3) JAK SE ŠUM PROJEVUJE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TextovéPole 8"/>
          <p:cNvSpPr/>
          <p:nvPr/>
        </p:nvSpPr>
        <p:spPr>
          <a:xfrm>
            <a:off x="8877240" y="5659560"/>
            <a:ext cx="17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1,3 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4753080" y="576576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1/8 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TextovéPole 4"/>
          <p:cNvSpPr/>
          <p:nvPr/>
        </p:nvSpPr>
        <p:spPr>
          <a:xfrm>
            <a:off x="431640" y="1265400"/>
            <a:ext cx="10149120" cy="2775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  <a:ea typeface="Calibri"/>
              </a:rPr>
              <a:t>SAMOSTATNÝ ÚKOL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Vyfotografujte dva stejné snímky (např. zeď, obličej, oblohu) – poprvé s nízkou hladinou šumu a podruhé s hladinou nejvyššího šumu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POZNÁMKA: Míru šumu na Vašem fotoaparátu aktivujete tak, že v 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  <a:ea typeface="Calibri"/>
              </a:rPr>
              <a:t>nastavení ISO 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poprvé zvolíte nejnižší hladinu (80-100) a poté nejvyšší (např. 1600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3) JAK SE ŠUM PROJEVUJE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TextovéPole 8"/>
          <p:cNvSpPr/>
          <p:nvPr/>
        </p:nvSpPr>
        <p:spPr>
          <a:xfrm>
            <a:off x="8877240" y="5659560"/>
            <a:ext cx="17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1,3 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TextovéPole 9"/>
          <p:cNvSpPr/>
          <p:nvPr/>
        </p:nvSpPr>
        <p:spPr>
          <a:xfrm>
            <a:off x="4753080" y="576576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1/8 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60360" y="3352680"/>
            <a:ext cx="5329080" cy="2668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9" name="Obdélník 19"/>
          <p:cNvSpPr/>
          <p:nvPr/>
        </p:nvSpPr>
        <p:spPr>
          <a:xfrm>
            <a:off x="1190520" y="6407280"/>
            <a:ext cx="863604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en.wikipedia.org/wiki/File:Noise_Comparison.JPG, http://en.wikipedia.org/wiki/File:Highimgnoise.jp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905440" y="1449360"/>
            <a:ext cx="457200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1" name="TextovéPole 4"/>
          <p:cNvSpPr/>
          <p:nvPr/>
        </p:nvSpPr>
        <p:spPr>
          <a:xfrm>
            <a:off x="360360" y="1484280"/>
            <a:ext cx="5329080" cy="1557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Šum se projevuje barevnými odchylkami, různobarevnými zrny (fialové, zelené atd.), které vždy degradují kvalitu snímku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3) JAK SE ŠUM PROJEVUJE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TextovéPole 8"/>
          <p:cNvSpPr/>
          <p:nvPr/>
        </p:nvSpPr>
        <p:spPr>
          <a:xfrm>
            <a:off x="8877240" y="5659560"/>
            <a:ext cx="17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1,3 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TextovéPole 9"/>
          <p:cNvSpPr/>
          <p:nvPr/>
        </p:nvSpPr>
        <p:spPr>
          <a:xfrm>
            <a:off x="4753080" y="576576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1/8 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81200" y="1197000"/>
            <a:ext cx="2663640" cy="5049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6" name="Picture 2" descr=""/>
          <p:cNvPicPr/>
          <p:nvPr/>
        </p:nvPicPr>
        <p:blipFill>
          <a:blip r:embed="rId2"/>
          <a:srcRect l="0" t="79437" r="0" b="0"/>
          <a:stretch/>
        </p:blipFill>
        <p:spPr>
          <a:xfrm>
            <a:off x="3683160" y="3692520"/>
            <a:ext cx="6500520" cy="253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7" name="Picture 2" descr=""/>
          <p:cNvPicPr/>
          <p:nvPr/>
        </p:nvPicPr>
        <p:blipFill>
          <a:blip r:embed="rId3"/>
          <a:srcRect l="0" t="0" r="0" b="81172"/>
          <a:stretch/>
        </p:blipFill>
        <p:spPr>
          <a:xfrm>
            <a:off x="3668760" y="1197000"/>
            <a:ext cx="6530760" cy="2332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8" name="Obdélník 19"/>
          <p:cNvSpPr/>
          <p:nvPr/>
        </p:nvSpPr>
        <p:spPr>
          <a:xfrm>
            <a:off x="2443320" y="6407280"/>
            <a:ext cx="612612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cs.wikipedia.org/wiki/Soubor:ISO-100-1600.jp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ovéPole 2"/>
          <p:cNvSpPr/>
          <p:nvPr/>
        </p:nvSpPr>
        <p:spPr>
          <a:xfrm>
            <a:off x="2305080" y="46836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4) JAK ZREDUKOVAT ŠUM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TextovéPole 8"/>
          <p:cNvSpPr/>
          <p:nvPr/>
        </p:nvSpPr>
        <p:spPr>
          <a:xfrm>
            <a:off x="8877240" y="5659560"/>
            <a:ext cx="17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1,3 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TextovéPole 9"/>
          <p:cNvSpPr/>
          <p:nvPr/>
        </p:nvSpPr>
        <p:spPr>
          <a:xfrm>
            <a:off x="4753080" y="576576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1/8 s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TextovéPole 4"/>
          <p:cNvSpPr/>
          <p:nvPr/>
        </p:nvSpPr>
        <p:spPr>
          <a:xfrm>
            <a:off x="3009960" y="1052640"/>
            <a:ext cx="4911840" cy="459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a) ISO neboli citlivos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TextovéPole 4"/>
          <p:cNvSpPr/>
          <p:nvPr/>
        </p:nvSpPr>
        <p:spPr>
          <a:xfrm>
            <a:off x="431640" y="1773360"/>
            <a:ext cx="10082520" cy="825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Hodnota ISO udává citlivost snímače na světlo. Čím VYŠŠÍ CITLIVOST nastavíte, tím více snímač uměle zesílí signál a tím ZVÝŠÍ i ŠUM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TextovéPole 4"/>
          <p:cNvSpPr/>
          <p:nvPr/>
        </p:nvSpPr>
        <p:spPr>
          <a:xfrm>
            <a:off x="530280" y="2859120"/>
            <a:ext cx="10050480" cy="2775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  <a:ea typeface="Calibri"/>
              </a:rPr>
              <a:t>SAMOSTATNÝ ÚKOL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Vyfotografujte v interiéru za špatných světelných podmínek stejný objekt dvakrát, pokaždé s rozdílně nastavenou mírou ISO (např. 100 a 800)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Jak se změnila EXPOZICE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Jak se změnila míra rozostření/rozmazání snímku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7:26:03Z</dcterms:created>
  <dc:creator>lazza</dc:creator>
  <dc:description/>
  <dc:language>en-US</dc:language>
  <cp:lastModifiedBy>martin</cp:lastModifiedBy>
  <dcterms:modified xsi:type="dcterms:W3CDTF">2013-01-12T16:28:33Z</dcterms:modified>
  <cp:revision>453</cp:revision>
  <dc:subject/>
  <dc:title>Snímek 1</dc:title>
</cp:coreProperties>
</file>