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F49-5AB9-45C5-A3F2-38C8AC91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07B-8797-45C0-B2FB-2E3DA67E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1DA-E21B-4901-A41A-CB2FD08F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973-D8CD-42D4-8BAC-8A7E9E78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184-E640-442F-AD32-0D0EB3AD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201-F4F1-4F19-9B94-F5264D92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119-4492-482A-A496-D8632F4F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B06-48CE-4C56-9AE9-7A07753B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DE9-6C5D-4281-B4E9-5471D962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8D3-EDF2-44E8-B0DE-9FBA446C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11C-CD75-4094-91B2-2EE912F0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4ED-9401-4448-9A3B-BB81C15A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8DF0-2570-4E83-AF7B-E9943A5B59A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664000" y="5549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JAK FOTIT TECHNICKY SPRÁVNĚ  I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92360" y="1125360"/>
            <a:ext cx="75610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500" spc="-1" strike="noStrike">
                <a:solidFill>
                  <a:srgbClr val="ffffff"/>
                </a:solidFill>
                <a:latin typeface="Georgia"/>
              </a:rPr>
              <a:t>CLONA</a:t>
            </a:r>
            <a:endParaRPr b="0" lang="en-US" sz="11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TextovéPole 1"/>
          <p:cNvSpPr/>
          <p:nvPr/>
        </p:nvSpPr>
        <p:spPr>
          <a:xfrm>
            <a:off x="5761080" y="322200"/>
            <a:ext cx="475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1104_prezentac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3816360" y="6264360"/>
            <a:ext cx="3240000" cy="42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n.wikipedia.org/wiki/File:Aperture_in_Canon_50mm_f1.8_II_lens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1"/>
          <a:stretch/>
        </p:blipFill>
        <p:spPr>
          <a:xfrm>
            <a:off x="4448160" y="3213000"/>
            <a:ext cx="2104920" cy="213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1) CO JE CLONA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ovéPole 4"/>
          <p:cNvSpPr/>
          <p:nvPr/>
        </p:nvSpPr>
        <p:spPr>
          <a:xfrm>
            <a:off x="436680" y="1265400"/>
            <a:ext cx="1014408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Clona je otvor, skrz který proniká světlo (na snímač/film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Obdélník 19"/>
          <p:cNvSpPr/>
          <p:nvPr/>
        </p:nvSpPr>
        <p:spPr>
          <a:xfrm>
            <a:off x="436680" y="6308640"/>
            <a:ext cx="1012320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n.wikipedia.org/wiki/File:Aperures.jpg, http://en.wikipedia.org/wiki/File:16_minolta_50mm.jpg, http://en.wikipedia.org/wiki/File:Aperture_diagram.sv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387360" y="1844640"/>
            <a:ext cx="2565360" cy="4240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103560" y="1959120"/>
            <a:ext cx="2513160" cy="4020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5910120" y="3068640"/>
            <a:ext cx="4687920" cy="18669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52" name="TextovéPole 4"/>
          <p:cNvSpPr/>
          <p:nvPr/>
        </p:nvSpPr>
        <p:spPr>
          <a:xfrm>
            <a:off x="5907240" y="1979640"/>
            <a:ext cx="464796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Clonové číslo (f) udává míru otevření tohoto otvoru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" name="TextovéPole 4"/>
          <p:cNvGrpSpPr/>
          <p:nvPr/>
        </p:nvGrpSpPr>
        <p:grpSpPr>
          <a:xfrm>
            <a:off x="5638680" y="4857840"/>
            <a:ext cx="5267520" cy="1469880"/>
            <a:chOff x="5638680" y="4857840"/>
            <a:chExt cx="5267520" cy="1469880"/>
          </a:xfrm>
        </p:grpSpPr>
        <p:pic>
          <p:nvPicPr>
            <p:cNvPr id="54" name="TextovéPole 4" descr=""/>
            <p:cNvPicPr/>
            <p:nvPr/>
          </p:nvPicPr>
          <p:blipFill>
            <a:blip r:embed="rId4"/>
            <a:stretch/>
          </p:blipFill>
          <p:spPr>
            <a:xfrm>
              <a:off x="5638680" y="4857840"/>
              <a:ext cx="526752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58000" y="5175360"/>
              <a:ext cx="462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Čím MENŠÍ je clonové číslo, tím VÍCE je clona otevřena.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ovéPole 2"/>
          <p:cNvSpPr/>
          <p:nvPr/>
        </p:nvSpPr>
        <p:spPr>
          <a:xfrm>
            <a:off x="2305080" y="385920"/>
            <a:ext cx="640872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PROČ SE POUŽÍVÁ RŮZNÁ CLONA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Obdélník 19"/>
          <p:cNvSpPr/>
          <p:nvPr/>
        </p:nvSpPr>
        <p:spPr>
          <a:xfrm>
            <a:off x="1190520" y="6259680"/>
            <a:ext cx="863604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n.wikipedia.org/wiki/File:WashingtonParkBlossomingTree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673280" y="1174680"/>
            <a:ext cx="7670880" cy="476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9345600" y="4437000"/>
            <a:ext cx="1252440" cy="4986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ovéPole 2"/>
          <p:cNvSpPr/>
          <p:nvPr/>
        </p:nvSpPr>
        <p:spPr>
          <a:xfrm>
            <a:off x="2305080" y="385920"/>
            <a:ext cx="640872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PROČ SE POUŽÍVÁ RŮZNÁ CLONA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Obdélník 19"/>
          <p:cNvSpPr/>
          <p:nvPr/>
        </p:nvSpPr>
        <p:spPr>
          <a:xfrm>
            <a:off x="2160720" y="6389640"/>
            <a:ext cx="658656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bestfreewebresources.com/2010/06/60-beautiful-examples-of-desert.html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655640" y="1163520"/>
            <a:ext cx="7639200" cy="509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9318600" y="5018040"/>
            <a:ext cx="1254240" cy="4986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2) HLOUBKA OSTROST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ovéPole 10"/>
          <p:cNvSpPr/>
          <p:nvPr/>
        </p:nvSpPr>
        <p:spPr>
          <a:xfrm>
            <a:off x="487440" y="1352520"/>
            <a:ext cx="10007640" cy="417708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SAMOSTATNÝ ÚKOL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Vyfotografujte detail předmětu (mobilní telefon, ležící láhev, kětina na louce apod.) tak, aby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alibri"/>
                <a:ea typeface="Calibri"/>
              </a:rPr>
              <a:t>Bylo nastaveno co nejnižší clonové číslo (nejvíc otevřená clona) – např. f: 2,8</a:t>
            </a:r>
            <a:endParaRPr b="0" lang="en-US" sz="2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alibri"/>
                <a:ea typeface="Calibri"/>
              </a:rPr>
              <a:t>Bylo nastaveno co nejvyšší clonové číslo (nejméně otevřená clona) – např. f: 32. V tomto případě budete muset fotoaparát zafixovat/použít stativ. Porovnejte výsledky.</a:t>
            </a:r>
            <a:endParaRPr b="0" lang="en-US" sz="2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alibri"/>
                <a:ea typeface="Calibri"/>
              </a:rPr>
              <a:t>Poznámka: Manuální clonu nastavíte na otočném voliči režimu tak, že zvolíte režim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  <a:ea typeface="Calibri"/>
              </a:rPr>
              <a:t>Av</a:t>
            </a:r>
            <a:r>
              <a:rPr b="0" lang="cs-CZ" sz="2200" spc="-1" strike="noStrike">
                <a:solidFill>
                  <a:srgbClr val="ffffff"/>
                </a:solidFill>
                <a:latin typeface="Calibri"/>
                <a:ea typeface="Calibri"/>
              </a:rPr>
              <a:t> (priorita clony).</a:t>
            </a:r>
            <a:endParaRPr b="0" lang="en-US" sz="2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2) HLOUBKA OSTROST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Obdélník 19"/>
          <p:cNvSpPr/>
          <p:nvPr/>
        </p:nvSpPr>
        <p:spPr>
          <a:xfrm>
            <a:off x="216000" y="6407280"/>
            <a:ext cx="1044072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n.wikipedia.org/wiki/File:Jonquil_flowers_at_f32.jpg,, http://en.wikipedia.org/wiki/File:Jonquil_flowers_at_f5.jpg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51000" y="1341360"/>
            <a:ext cx="4978080" cy="3278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351000" y="1335240"/>
            <a:ext cx="4978080" cy="3279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5587920" y="1320840"/>
            <a:ext cx="4978440" cy="3279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ovéPole 4"/>
          <p:cNvSpPr/>
          <p:nvPr/>
        </p:nvSpPr>
        <p:spPr>
          <a:xfrm>
            <a:off x="351000" y="4797360"/>
            <a:ext cx="4978080" cy="119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a) Nejvíce otevřená clona (f: 5,6) 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- malá hloubka ostrosti, části květiny a pozadí kompletně rozmazáno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ovéPole 4"/>
          <p:cNvSpPr/>
          <p:nvPr/>
        </p:nvSpPr>
        <p:spPr>
          <a:xfrm>
            <a:off x="5581800" y="4797360"/>
            <a:ext cx="4978080" cy="119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b) Nejméně  otevřená clona (f: 32 ) 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– vysoká hloubka ostrosti, květiny zcela ostré, pozadí jen mírně rozostřené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2) HLOUBKA OSTROST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TextovéPole 4"/>
          <p:cNvSpPr/>
          <p:nvPr/>
        </p:nvSpPr>
        <p:spPr>
          <a:xfrm>
            <a:off x="436680" y="1193760"/>
            <a:ext cx="1014408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Udává, jak hluboký prostor se bude jevit lidskému oku jako ostrý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529000" y="1989000"/>
            <a:ext cx="5816520" cy="418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6" name="Obdélník 19"/>
          <p:cNvSpPr/>
          <p:nvPr/>
        </p:nvSpPr>
        <p:spPr>
          <a:xfrm>
            <a:off x="216000" y="6407280"/>
            <a:ext cx="1044072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Russian_honor_guard_at_Tomb_of_the_Unknown_Soldier,_Alexander_Garden_welcomes_Michael_G._Mullen_2009-06-26_2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7200" y="1600200"/>
            <a:ext cx="985068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Obdélník 3"/>
          <p:cNvSpPr/>
          <p:nvPr/>
        </p:nvSpPr>
        <p:spPr>
          <a:xfrm>
            <a:off x="659880" y="4762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Kelby, S, Digitální fotografie, CP 2006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1-12T16:14:40Z</dcterms:modified>
  <cp:revision>400</cp:revision>
  <dc:subject/>
  <dc:title>Snímek 1</dc:title>
</cp:coreProperties>
</file>