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947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679-58EE-479B-95F9-8370EFF0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1C4C-AB0C-4328-B2E2-FBDC429C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31BF-8253-485D-9EC7-08667716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792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0828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720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792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0828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2248-D2F8-4EB1-9586-C145F632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35F-6AF9-4EB0-9BA4-636BB273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46FE-2FA0-466D-8A1E-840668CE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4DA-9433-4A78-8AC5-57623644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EB1-2B20-4122-A1A8-9590178E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7200" y="274320"/>
            <a:ext cx="985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898-2B7B-456C-A4B4-21A44046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437-A867-42DB-A5AD-7CC69946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573-6335-4A90-B1F2-55894BF3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A17-580B-44E6-B9C8-53DABDB1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756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9680" y="6244920"/>
            <a:ext cx="346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368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28ED-6F2D-4B0D-92D3-A3248A1A7E5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371760" y="55497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OBJEKTIV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728720" y="90504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ffff"/>
                </a:solidFill>
                <a:latin typeface="Georgia"/>
              </a:rPr>
              <a:t>OKO FOTOAPARÁTU</a:t>
            </a:r>
            <a:endParaRPr b="0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TextovéPole 1"/>
          <p:cNvSpPr/>
          <p:nvPr/>
        </p:nvSpPr>
        <p:spPr>
          <a:xfrm>
            <a:off x="5761080" y="322200"/>
            <a:ext cx="475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1103_prezentac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Obdélník 9"/>
          <p:cNvSpPr/>
          <p:nvPr/>
        </p:nvSpPr>
        <p:spPr>
          <a:xfrm>
            <a:off x="2232000" y="6264360"/>
            <a:ext cx="6481800" cy="26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cs.wikipedia.org/wiki/Soubor:Muss_ich_haben_-)_Canon_EOS_1D.jpg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1"/>
          <a:stretch/>
        </p:blipFill>
        <p:spPr>
          <a:xfrm>
            <a:off x="3895560" y="3635280"/>
            <a:ext cx="3089520" cy="1738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ovéPole 2"/>
          <p:cNvSpPr/>
          <p:nvPr/>
        </p:nvSpPr>
        <p:spPr>
          <a:xfrm>
            <a:off x="2305080" y="38592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4) SVĚTELNOST OBJEKTIVU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Obdélník 32"/>
          <p:cNvSpPr/>
          <p:nvPr/>
        </p:nvSpPr>
        <p:spPr>
          <a:xfrm>
            <a:off x="473040" y="6381720"/>
            <a:ext cx="10071000" cy="26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en.wikipedia.org/wiki/File:Aperture_diagram.svg, http://en.wikipedia.org/wiki/File:Lensspeed.jp, http://en.wikipedia.org/wiki/File:16_minolta_50mm.jpg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430200" y="1844640"/>
            <a:ext cx="5424480" cy="216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4" name="TextovéPole 5"/>
          <p:cNvSpPr/>
          <p:nvPr/>
        </p:nvSpPr>
        <p:spPr>
          <a:xfrm>
            <a:off x="442800" y="1166760"/>
            <a:ext cx="10071360" cy="459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Určuje, kolik světla dopadne vstupní pupilou (otvorem) na snímač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6121440" y="1844640"/>
            <a:ext cx="4309920" cy="216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865080" y="4192560"/>
            <a:ext cx="3216240" cy="2011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7" name="TextovéPole 8"/>
          <p:cNvSpPr/>
          <p:nvPr/>
        </p:nvSpPr>
        <p:spPr>
          <a:xfrm>
            <a:off x="4321080" y="4222800"/>
            <a:ext cx="6110280" cy="16185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ZODPOVĚZTE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Čím vyšší je světelnost = tím 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nižší/vyšší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clonové číslo  (f)?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Čím vyšší je světelnost = tím 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více/méně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 dopadá světla na snímač?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ovéPole 2"/>
          <p:cNvSpPr/>
          <p:nvPr/>
        </p:nvSpPr>
        <p:spPr>
          <a:xfrm>
            <a:off x="2305080" y="38592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5) CHYBY OBJEKTIVU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3425760" y="1166760"/>
            <a:ext cx="4206960" cy="13136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Chromatická aberace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Vinětace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Sférické zkreslení neboli soudkovitost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00" name="TextovéPole 9"/>
          <p:cNvGrpSpPr/>
          <p:nvPr/>
        </p:nvGrpSpPr>
        <p:grpSpPr>
          <a:xfrm>
            <a:off x="-195120" y="2084400"/>
            <a:ext cx="11333160" cy="5254560"/>
            <a:chOff x="-195120" y="2084400"/>
            <a:chExt cx="11333160" cy="5254560"/>
          </a:xfrm>
        </p:grpSpPr>
        <p:pic>
          <p:nvPicPr>
            <p:cNvPr id="101" name="TextovéPole 9" descr=""/>
            <p:cNvPicPr/>
            <p:nvPr/>
          </p:nvPicPr>
          <p:blipFill>
            <a:blip r:embed="rId1"/>
            <a:stretch/>
          </p:blipFill>
          <p:spPr>
            <a:xfrm>
              <a:off x="-195120" y="2084400"/>
              <a:ext cx="1133316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25520" y="2708280"/>
              <a:ext cx="10080720" cy="39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 u="sng">
                  <a:solidFill>
                    <a:srgbClr val="ff0000"/>
                  </a:solidFill>
                  <a:uFillTx/>
                  <a:latin typeface="Calibri"/>
                  <a:ea typeface="Calibri"/>
                </a:rPr>
                <a:t>SAMOSTATNÝ  (DOMÁCÍ ) ÚKOL: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yfotografujte jakýkoliv objekt proti denní obloze - nejlépe strom, větve apod. Přibližte poté fotografii na počítači na maximum a zjistěte, jaké optické chyby vznikly v místech přechodu tmavých větví a podstatně světlejší oblohy.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yfotografujte barevně kompaktní plochu (např. modrou oblohu, bílou zeď apod.) a poté doma na počítači zjistěte, k jakým chybám došlo v rozích fotografie.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yfotografujte pravidelnou strukturu - cihlovou zeď, dlaždicovou podlahu v koupelně apod. (je třeba fotit naprosto kolmo k motivu – nesmíte stát bokem, fotit z podhledu atd.). Na Vašem počítači poté hledejte, k jakým lineárním deformacím na snímku došlo.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ZNÁMKA: Pokud vůbec netušíte, jaké optické chyby máte sledovat, před samotným fotografováním použijte google a skromně se informujte.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7200" y="1600200"/>
            <a:ext cx="985068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Obdélník 3"/>
          <p:cNvSpPr/>
          <p:nvPr/>
        </p:nvSpPr>
        <p:spPr>
          <a:xfrm>
            <a:off x="659880" y="47628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Kelby, S, Digitální fotografie, CP 2006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2"/>
          <p:cNvSpPr/>
          <p:nvPr/>
        </p:nvSpPr>
        <p:spPr>
          <a:xfrm>
            <a:off x="2305080" y="38592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1) OBJEKTIV (ČOČKA)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TextovéPole 4"/>
          <p:cNvSpPr/>
          <p:nvPr/>
        </p:nvSpPr>
        <p:spPr>
          <a:xfrm>
            <a:off x="436680" y="1265400"/>
            <a:ext cx="10144080" cy="825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Objektiv je čočka nebo soustava čoček, které soustřeďují snímaný obraz na senzor/film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Obdélník 19"/>
          <p:cNvSpPr/>
          <p:nvPr/>
        </p:nvSpPr>
        <p:spPr>
          <a:xfrm>
            <a:off x="1190520" y="6259680"/>
            <a:ext cx="8636040" cy="428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cs.wikipedia.org/wiki/Soubor:Lens_Nikkor_18-70mm.jpg, http://cs.wikipedia.org/wiki/Soubor:SLR_cross_section.svg,  http://en.wikipedia.org/wiki/File:Pinhole-camera.svg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TextovéPole 27"/>
          <p:cNvSpPr/>
          <p:nvPr/>
        </p:nvSpPr>
        <p:spPr>
          <a:xfrm>
            <a:off x="2401920" y="4869000"/>
            <a:ext cx="350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buClr>
                <a:srgbClr val="7030a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030a0"/>
                </a:solidFill>
                <a:latin typeface="Calibri"/>
                <a:ea typeface="Calibri"/>
              </a:rPr>
              <a:t>Objektiv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2) Řez objektivem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2d050"/>
                </a:solidFill>
                <a:latin typeface="Calibri"/>
                <a:ea typeface="Calibri"/>
              </a:rPr>
              <a:t>3) Princip funkce objektivu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5999040" y="2278080"/>
            <a:ext cx="4581720" cy="3127320"/>
          </a:xfrm>
          <a:prstGeom prst="rect">
            <a:avLst/>
          </a:prstGeom>
          <a:ln w="38160">
            <a:solidFill>
              <a:srgbClr val="92d050"/>
            </a:solidFill>
            <a:miter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431640" y="2305080"/>
            <a:ext cx="2252880" cy="1771560"/>
          </a:xfrm>
          <a:prstGeom prst="rect">
            <a:avLst/>
          </a:prstGeom>
          <a:ln w="38160">
            <a:solidFill>
              <a:srgbClr val="7030a0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2881440" y="2278080"/>
            <a:ext cx="292572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ovéPole 2"/>
          <p:cNvSpPr/>
          <p:nvPr/>
        </p:nvSpPr>
        <p:spPr>
          <a:xfrm>
            <a:off x="2305080" y="38592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2) OHNISKOVÁ VZDÁLENOST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TextovéPole 4"/>
          <p:cNvSpPr/>
          <p:nvPr/>
        </p:nvSpPr>
        <p:spPr>
          <a:xfrm>
            <a:off x="436680" y="1265400"/>
            <a:ext cx="10144080" cy="459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Ohnisková vzdálenost určuje, jaké má objektiv zorné pole.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Obdélník 19"/>
          <p:cNvSpPr/>
          <p:nvPr/>
        </p:nvSpPr>
        <p:spPr>
          <a:xfrm>
            <a:off x="436680" y="5597640"/>
            <a:ext cx="3457440" cy="109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cs.wikipedia.org/wiki/Soubor:Angleofview_28mm_f4.jpg, http://cs.wikipedia.org/wiki/Soubor:Angleofview_70mm_f4.jpg,  http://cs.wikipedia.org/wiki/Soubor:Angleofview_210mm_f4.jpg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563400" y="1989000"/>
            <a:ext cx="3092760" cy="2022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3902040" y="2013120"/>
            <a:ext cx="3140280" cy="199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8" name="Picture 10" descr=""/>
          <p:cNvPicPr/>
          <p:nvPr/>
        </p:nvPicPr>
        <p:blipFill>
          <a:blip r:embed="rId3"/>
          <a:stretch/>
        </p:blipFill>
        <p:spPr>
          <a:xfrm>
            <a:off x="7256520" y="1989000"/>
            <a:ext cx="3112920" cy="2022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9" name="TextovéPole 27"/>
          <p:cNvSpPr/>
          <p:nvPr/>
        </p:nvSpPr>
        <p:spPr>
          <a:xfrm>
            <a:off x="563400" y="4108320"/>
            <a:ext cx="1014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Ohnisková vzdálenost 28mm, 70mm, 210 mm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" name="Picture 12" descr=""/>
          <p:cNvPicPr/>
          <p:nvPr/>
        </p:nvPicPr>
        <p:blipFill>
          <a:blip r:embed="rId4"/>
          <a:stretch/>
        </p:blipFill>
        <p:spPr>
          <a:xfrm>
            <a:off x="4048200" y="4581360"/>
            <a:ext cx="3008160" cy="21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Obdélník 32"/>
          <p:cNvSpPr/>
          <p:nvPr/>
        </p:nvSpPr>
        <p:spPr>
          <a:xfrm>
            <a:off x="7256520" y="6284880"/>
            <a:ext cx="3305160" cy="428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en.wikipedia.org/wiki/File:Minolta_Rokkor_Teleobjektive.jpg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ovéPole 2"/>
          <p:cNvSpPr/>
          <p:nvPr/>
        </p:nvSpPr>
        <p:spPr>
          <a:xfrm>
            <a:off x="1800360" y="385920"/>
            <a:ext cx="734508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OHNISKOVÁ VZDÁLENOST V PRAXI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Obdélník 32"/>
          <p:cNvSpPr/>
          <p:nvPr/>
        </p:nvSpPr>
        <p:spPr>
          <a:xfrm>
            <a:off x="1117440" y="6197760"/>
            <a:ext cx="5004000" cy="428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, http://en.wikipedia.org/wiki/File:Foto-wiki-Sigma1020-Sky.jpg, http://en.wikipedia.org/wiki/File:Quarterback_Chance_Harridge.jpg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TextovéPole 10"/>
          <p:cNvSpPr/>
          <p:nvPr/>
        </p:nvSpPr>
        <p:spPr>
          <a:xfrm>
            <a:off x="1155600" y="1265400"/>
            <a:ext cx="4965840" cy="1191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Calibri"/>
                <a:ea typeface="Calibri"/>
              </a:rPr>
              <a:t>a) Širokoúhlý objektiv (18-28mm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b) Standartní objektiv (28-80mm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2d050"/>
                </a:solidFill>
                <a:latin typeface="Calibri"/>
                <a:ea typeface="Calibri"/>
              </a:rPr>
              <a:t>c) Teleobjektiv (80-1200mm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149480" y="2708280"/>
            <a:ext cx="4971960" cy="33130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6408720" y="1265400"/>
            <a:ext cx="3384720" cy="5159160"/>
          </a:xfrm>
          <a:prstGeom prst="rect">
            <a:avLst/>
          </a:prstGeom>
          <a:ln w="38160">
            <a:solidFill>
              <a:srgbClr val="92d050"/>
            </a:solidFill>
            <a:miter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ovéPole 2"/>
          <p:cNvSpPr/>
          <p:nvPr/>
        </p:nvSpPr>
        <p:spPr>
          <a:xfrm>
            <a:off x="2305080" y="38592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3) ZOOM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Obdélník 32"/>
          <p:cNvSpPr/>
          <p:nvPr/>
        </p:nvSpPr>
        <p:spPr>
          <a:xfrm>
            <a:off x="3857760" y="6284880"/>
            <a:ext cx="6703920" cy="428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cs.wikipedia.org/wiki/Soubor:Nikkor_28-200_zoom.jpg, http://en.wikipedia.org/wiki/File:Zoomlens2.svg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" name="TextovéPole 10"/>
          <p:cNvSpPr/>
          <p:nvPr/>
        </p:nvSpPr>
        <p:spPr>
          <a:xfrm>
            <a:off x="436680" y="1265400"/>
            <a:ext cx="10125000" cy="825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Proměnná ohnisková vzdálenost neboli zoom značí schopnost objektivu opticky předměty přibližovat a oddalovat („zoomovat“)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15800" y="2349360"/>
            <a:ext cx="3176640" cy="3000600"/>
          </a:xfrm>
          <a:prstGeom prst="rect">
            <a:avLst/>
          </a:prstGeom>
          <a:ln w="0">
            <a:noFill/>
          </a:ln>
        </p:spPr>
      </p:pic>
      <p:sp>
        <p:nvSpPr>
          <p:cNvPr id="71" name="TextovéPole 7"/>
          <p:cNvSpPr/>
          <p:nvPr/>
        </p:nvSpPr>
        <p:spPr>
          <a:xfrm>
            <a:off x="6481800" y="2322360"/>
            <a:ext cx="4079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Objektiv při 200mm a 28mm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Schematický průřez objektivem s proměnnou ohniskovou vzdáleností (soustava pohyblivých čoček)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Následující slide: ukázka práce se zoomem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3857760" y="2349360"/>
            <a:ext cx="2406600" cy="3038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ovéPole 2"/>
          <p:cNvSpPr/>
          <p:nvPr/>
        </p:nvSpPr>
        <p:spPr>
          <a:xfrm>
            <a:off x="2305080" y="38592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libri"/>
                <a:ea typeface="Calibri"/>
              </a:rPr>
              <a:t>ZOOM</a:t>
            </a: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 V PRAXI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" name="Obdélník 32"/>
          <p:cNvSpPr/>
          <p:nvPr/>
        </p:nvSpPr>
        <p:spPr>
          <a:xfrm>
            <a:off x="6710400" y="4595760"/>
            <a:ext cx="3792600" cy="596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cs.wikipedia.org/wiki/Soubor:Adams_The_Tetons_and_the_Snake_River.jpg, http://www.freephotosbank.com/12106.html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474840" y="1268280"/>
            <a:ext cx="5932440" cy="475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6" name="TextovéPole 11"/>
          <p:cNvSpPr/>
          <p:nvPr/>
        </p:nvSpPr>
        <p:spPr>
          <a:xfrm>
            <a:off x="6675480" y="4005360"/>
            <a:ext cx="37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  <a:ea typeface="Calibri"/>
              </a:rPr>
              <a:t>Anselm Adams: Hadí řeka (1942)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6697800" y="1268280"/>
            <a:ext cx="3792240" cy="252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bdélník 32"/>
          <p:cNvSpPr/>
          <p:nvPr/>
        </p:nvSpPr>
        <p:spPr>
          <a:xfrm>
            <a:off x="3960720" y="6283440"/>
            <a:ext cx="4165560" cy="26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en.wikipedia.org/wiki/File:Digital_zoom_example.png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47640" y="260280"/>
            <a:ext cx="3168720" cy="6316560"/>
          </a:xfrm>
          <a:prstGeom prst="rect">
            <a:avLst/>
          </a:prstGeom>
          <a:ln w="0">
            <a:noFill/>
          </a:ln>
        </p:spPr>
      </p:pic>
      <p:sp>
        <p:nvSpPr>
          <p:cNvPr id="80" name="TextovéPole 8"/>
          <p:cNvSpPr/>
          <p:nvPr/>
        </p:nvSpPr>
        <p:spPr>
          <a:xfrm>
            <a:off x="4078440" y="298440"/>
            <a:ext cx="6348240" cy="52056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libri"/>
                <a:ea typeface="Calibri"/>
              </a:rPr>
              <a:t>DIGITÁLNÍ ZOOM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" name="TextovéPole 9"/>
          <p:cNvSpPr/>
          <p:nvPr/>
        </p:nvSpPr>
        <p:spPr>
          <a:xfrm>
            <a:off x="4092480" y="1046160"/>
            <a:ext cx="6284880" cy="1191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Je elektronické/softwarové přibližení obrazu; obraz se sice zvětšuje, ale s ním se zvětšují i jeho jednotlivé pixely – dochází tak k pixelizaci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" name="TextovéPole 10"/>
          <p:cNvSpPr/>
          <p:nvPr/>
        </p:nvSpPr>
        <p:spPr>
          <a:xfrm>
            <a:off x="4078440" y="3467160"/>
            <a:ext cx="6298920" cy="253188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SAMOSTATNÝ ÚKOL: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Přibližte a vyfotografujte objekt nejdříve optickým zoomem a poté i zoomem digitálním. Oba snímky srovnejte z hlediska kvality a použitelnosti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ovéPole 3"/>
          <p:cNvSpPr/>
          <p:nvPr/>
        </p:nvSpPr>
        <p:spPr>
          <a:xfrm>
            <a:off x="396720" y="549360"/>
            <a:ext cx="10080720" cy="436068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SAMOSTATNÝ ÚKOL: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Vyfotografujte stejný objekt nejprve se širokoúhlým objektivem a posléze s teleobjektivem (používejte namísto výměny objektivů „zoomování“). Poté zjistět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a) V kterém případě je fotografie jakoby „zploštěná“, tj. předměty se </a:t>
            </a: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opticky přiblížily více k sobě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b) Ve kterém případě je fotografie více rozoostřená v důsledku </a:t>
            </a: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roztřesení?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c) Nyní vyfotografujte předmět metodou tzv. </a:t>
            </a:r>
            <a:r>
              <a:rPr b="0" lang="cs-CZ" sz="2400" spc="-1" strike="noStrike">
                <a:solidFill>
                  <a:srgbClr val="c00000"/>
                </a:solidFill>
                <a:latin typeface="Calibri"/>
                <a:ea typeface="Calibri"/>
              </a:rPr>
              <a:t>„zoom-burst“ </a:t>
            </a: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(pouze u </a:t>
            </a: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fotoaparátu s manuálním zoomem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8094600" y="4981680"/>
            <a:ext cx="2340000" cy="155736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sp>
        <p:nvSpPr>
          <p:cNvPr id="85" name="Obdélník 21"/>
          <p:cNvSpPr/>
          <p:nvPr/>
        </p:nvSpPr>
        <p:spPr>
          <a:xfrm>
            <a:off x="4257720" y="6264360"/>
            <a:ext cx="3792600" cy="26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cs.wikipedia.org/wiki/Soubor:Zoom_effect.jpg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ovéPole 2"/>
          <p:cNvSpPr/>
          <p:nvPr/>
        </p:nvSpPr>
        <p:spPr>
          <a:xfrm>
            <a:off x="2305080" y="38592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3) OPTICKÁ STABILIZACE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Obdélník 32"/>
          <p:cNvSpPr/>
          <p:nvPr/>
        </p:nvSpPr>
        <p:spPr>
          <a:xfrm>
            <a:off x="1735200" y="6335640"/>
            <a:ext cx="7697880" cy="26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cs.wikipedia.org/wiki/Soubor:ISComparison.png, http://en.wikipedia.org/wiki/File:Canon_18-55mm_IS.jpg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592280" y="2133720"/>
            <a:ext cx="5165640" cy="410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7078680" y="2133720"/>
            <a:ext cx="2724120" cy="4089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0" name="TextovéPole 6"/>
          <p:cNvSpPr/>
          <p:nvPr/>
        </p:nvSpPr>
        <p:spPr>
          <a:xfrm>
            <a:off x="936720" y="1085760"/>
            <a:ext cx="9072360" cy="825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Je mechanické/optické ustálení obrazu, které vyrovnává otřesy způsobené rukou fotografa a zabraňuje tak rozostření snímku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7:26:03Z</dcterms:created>
  <dc:creator>lazza</dc:creator>
  <dc:description/>
  <dc:language>en-US</dc:language>
  <cp:lastModifiedBy>martin</cp:lastModifiedBy>
  <dcterms:modified xsi:type="dcterms:W3CDTF">2013-01-12T16:14:33Z</dcterms:modified>
  <cp:revision>389</cp:revision>
  <dc:subject/>
  <dc:title>Snímek 1</dc:title>
</cp:coreProperties>
</file>