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444-BC61-46E1-8397-59DD3B4E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102-A832-4332-8803-B43873F1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82F-D6E0-4A10-9B9F-6592EBDF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029-AC61-490A-9123-92ABBD1F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764-7533-49E2-A33E-9F51D06E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A23-03F9-49F9-88F1-C6B1DB97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26E-17BE-4724-9A64-A86B1648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1C7-C6A5-4818-B607-2C8AA3A5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3AF-F15C-4502-9102-E47A8BFC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996-EF50-4733-8881-C1CBDAF0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C52-17B8-4AFB-9E4D-D7FB3FD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963-BF49-4690-80DC-A0E01753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3D96-F9D5-4C96-8FD2-52EE3543C9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14600" y="55497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SENZOR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28720" y="9050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Georgia"/>
              </a:rPr>
              <a:t>SRDCE FOTOAPARÁTU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TextovéPole 1"/>
          <p:cNvSpPr/>
          <p:nvPr/>
        </p:nvSpPr>
        <p:spPr>
          <a:xfrm>
            <a:off x="5761080" y="322200"/>
            <a:ext cx="475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02_prezentac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2016000" y="4797360"/>
            <a:ext cx="23637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Ccd-sensor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4654440" y="3645000"/>
            <a:ext cx="153828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SENZOR/SNÍMAČ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ovéPole 4"/>
          <p:cNvSpPr/>
          <p:nvPr/>
        </p:nvSpPr>
        <p:spPr>
          <a:xfrm>
            <a:off x="4097160" y="1265400"/>
            <a:ext cx="648036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Slouží k zachycení snímaného obrazu a převádí ho prostřednictvím čipu na digitální data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Obdélník 11"/>
          <p:cNvSpPr/>
          <p:nvPr/>
        </p:nvSpPr>
        <p:spPr>
          <a:xfrm>
            <a:off x="2008080" y="3063960"/>
            <a:ext cx="182268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Removed_EOS_350D_IR-blocking_filter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2520" y="1265400"/>
            <a:ext cx="1295280" cy="143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008080" y="1268280"/>
            <a:ext cx="1822680" cy="1584360"/>
          </a:xfrm>
          <a:prstGeom prst="rect">
            <a:avLst/>
          </a:prstGeom>
          <a:ln w="0">
            <a:noFill/>
          </a:ln>
        </p:spPr>
      </p:pic>
      <p:sp>
        <p:nvSpPr>
          <p:cNvPr id="51" name="Obdélník 16"/>
          <p:cNvSpPr/>
          <p:nvPr/>
        </p:nvSpPr>
        <p:spPr>
          <a:xfrm>
            <a:off x="431640" y="2852640"/>
            <a:ext cx="129708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Ccd-sensor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4097160" y="2363760"/>
            <a:ext cx="2543400" cy="16542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19"/>
          <p:cNvSpPr/>
          <p:nvPr/>
        </p:nvSpPr>
        <p:spPr>
          <a:xfrm>
            <a:off x="431640" y="4017960"/>
            <a:ext cx="129708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Bayer_pattern_on_sensor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6832440" y="2363760"/>
            <a:ext cx="357192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Obdélník 21"/>
          <p:cNvSpPr/>
          <p:nvPr/>
        </p:nvSpPr>
        <p:spPr>
          <a:xfrm>
            <a:off x="9280440" y="4869000"/>
            <a:ext cx="1160640" cy="15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Bayer_pattern_on_sensor_profile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5"/>
          <a:stretch/>
        </p:blipFill>
        <p:spPr>
          <a:xfrm>
            <a:off x="2008080" y="4221000"/>
            <a:ext cx="4668840" cy="217044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23"/>
          <p:cNvSpPr/>
          <p:nvPr/>
        </p:nvSpPr>
        <p:spPr>
          <a:xfrm>
            <a:off x="6832440" y="4797360"/>
            <a:ext cx="136872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Absorption-X3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ovéPole 3"/>
          <p:cNvSpPr/>
          <p:nvPr/>
        </p:nvSpPr>
        <p:spPr>
          <a:xfrm>
            <a:off x="396720" y="549360"/>
            <a:ext cx="10080720" cy="362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Na čtverečkovaný/milimetrový papír podle zadání zpracujte následující úkoly. Úkoly mají prakticky simulovat rozlišení snímače/sensoru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Do čtverečkovaného papíru (a5) vytvořte obraz smajlíka. Spočítejte horizontální i vertikální čtverečky papíru a zjistíte jeho „rozlišení“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Do milimetrového papíru zopakujte tentýž úkol. Opět spočítejte „rozlišení“ a porovnejte oba výsledky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376360" y="4508640"/>
            <a:ext cx="6172200" cy="172404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8"/>
          <p:cNvSpPr/>
          <p:nvPr/>
        </p:nvSpPr>
        <p:spPr>
          <a:xfrm>
            <a:off x="865080" y="5278320"/>
            <a:ext cx="135900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Rastervrp.pn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SENZOR/SNÍMAČ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ovéPole 14"/>
          <p:cNvSpPr/>
          <p:nvPr/>
        </p:nvSpPr>
        <p:spPr>
          <a:xfrm>
            <a:off x="431640" y="1382760"/>
            <a:ext cx="102250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VĚTŠÍ ROZLIŠENÍ → VĚTŠÍ FOTOGRAFI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31640" y="2152800"/>
            <a:ext cx="10225080" cy="1726920"/>
          </a:xfrm>
          <a:prstGeom prst="rect">
            <a:avLst/>
          </a:prstGeom>
          <a:ln w="0">
            <a:noFill/>
          </a:ln>
        </p:spPr>
      </p:pic>
      <p:sp>
        <p:nvSpPr>
          <p:cNvPr id="64" name="Obdélník 9"/>
          <p:cNvSpPr/>
          <p:nvPr/>
        </p:nvSpPr>
        <p:spPr>
          <a:xfrm>
            <a:off x="431640" y="3340080"/>
            <a:ext cx="2808360" cy="520200"/>
          </a:xfrm>
          <a:prstGeom prst="rect">
            <a:avLst/>
          </a:prstGeom>
          <a:solidFill>
            <a:srgbClr val="ffffff">
              <a:alpha val="5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Resolution_illustration.png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514600" y="414972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Obdélník 12"/>
          <p:cNvSpPr/>
          <p:nvPr/>
        </p:nvSpPr>
        <p:spPr>
          <a:xfrm>
            <a:off x="576360" y="5297400"/>
            <a:ext cx="183348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quare_200x200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ovéPole 15"/>
          <p:cNvSpPr/>
          <p:nvPr/>
        </p:nvSpPr>
        <p:spPr>
          <a:xfrm>
            <a:off x="4611600" y="4173480"/>
            <a:ext cx="4461120" cy="1923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PŘÍKLADY ROZLIŠENÍ ZOBRAZOVACÍCH ZAŘÍZENÍ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VGA (640:480) =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DVD (720 x 480) =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HD+ (1600:900) =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SENZOR/SNÍMAČ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ovéPole 14"/>
          <p:cNvSpPr/>
          <p:nvPr/>
        </p:nvSpPr>
        <p:spPr>
          <a:xfrm>
            <a:off x="466560" y="1382760"/>
            <a:ext cx="99378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VĚTŠÍ ROZLIŠENÍ → VĚTŠÍ FOTOGRAFI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TextovéPole 8"/>
          <p:cNvSpPr/>
          <p:nvPr/>
        </p:nvSpPr>
        <p:spPr>
          <a:xfrm>
            <a:off x="466560" y="2060640"/>
            <a:ext cx="5185080" cy="2228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PŘÍKLADY ROZLIŠENÍ SNÍMACÍCH ZAŘÍZENÍ/SENZORŮ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NOKIA C1 (640 x 480) =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Calibri"/>
                <a:ea typeface="Calibri"/>
              </a:rPr>
              <a:t>CANON 450D (4272 x 2848) =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  <a:ea typeface="Calibri"/>
              </a:rPr>
              <a:t>HASSELBLAD H4D-200MS (16352 x 12264) =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529080" y="4508640"/>
            <a:ext cx="2122560" cy="20714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72" name="Obdélník 10"/>
          <p:cNvSpPr/>
          <p:nvPr/>
        </p:nvSpPr>
        <p:spPr>
          <a:xfrm>
            <a:off x="1492200" y="5613480"/>
            <a:ext cx="183348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Canon_EOS_450D_Xsi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861160" y="2060640"/>
            <a:ext cx="4543200" cy="3030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4" name="Obdélník 13"/>
          <p:cNvSpPr/>
          <p:nvPr/>
        </p:nvSpPr>
        <p:spPr>
          <a:xfrm>
            <a:off x="5861160" y="5273640"/>
            <a:ext cx="183204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KirstenVisima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SENZOR/SNÍMAČ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ovéPole 14"/>
          <p:cNvSpPr/>
          <p:nvPr/>
        </p:nvSpPr>
        <p:spPr>
          <a:xfrm>
            <a:off x="466560" y="1382760"/>
            <a:ext cx="99378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VĚTŠÍ ROZLIŠENÍ → VĚTŠÍ FOTOGRAFI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655640" y="2011320"/>
            <a:ext cx="4238640" cy="437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0720" y="2008080"/>
            <a:ext cx="1028880" cy="106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Picture 3" descr=""/>
          <p:cNvPicPr/>
          <p:nvPr/>
        </p:nvPicPr>
        <p:blipFill>
          <a:blip r:embed="rId3"/>
          <a:srcRect l="53493" t="32980" r="31095" b="58105"/>
          <a:stretch/>
        </p:blipFill>
        <p:spPr>
          <a:xfrm>
            <a:off x="6048360" y="2011320"/>
            <a:ext cx="4356000" cy="259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0" name="TextovéPole 16"/>
          <p:cNvSpPr/>
          <p:nvPr/>
        </p:nvSpPr>
        <p:spPr>
          <a:xfrm>
            <a:off x="6048360" y="4797360"/>
            <a:ext cx="4392720" cy="1618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NOKIA C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CANON 450D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Zvětšení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Ukázka pixelizace při nadměrném zvětšení fotografie s malým rozlišení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SENZOR/SNÍMAČ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ovéPole 4"/>
          <p:cNvSpPr/>
          <p:nvPr/>
        </p:nvSpPr>
        <p:spPr>
          <a:xfrm>
            <a:off x="5040360" y="2092320"/>
            <a:ext cx="4537080" cy="1618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PŘÍKLADY VELIKOSTI SNÍMAČŮ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f0"/>
                </a:solidFill>
                <a:latin typeface="Calibri"/>
                <a:ea typeface="Calibri"/>
              </a:rPr>
              <a:t>PENTAX Q (1/2,3 = 7,7 x 6,2mm !!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CANON 5D (tzv.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full frame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35 x 24 mm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KODAK KAF 39000 (50,7 x 39 mm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Obdélník 11"/>
          <p:cNvSpPr/>
          <p:nvPr/>
        </p:nvSpPr>
        <p:spPr>
          <a:xfrm>
            <a:off x="5040360" y="6310440"/>
            <a:ext cx="46051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ensorSizes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ovéPole 14"/>
          <p:cNvSpPr/>
          <p:nvPr/>
        </p:nvSpPr>
        <p:spPr>
          <a:xfrm>
            <a:off x="431640" y="1382760"/>
            <a:ext cx="102250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VĚTŠÍ SNÍMAČ →VYŠŠÍ KVALITA FOTOGRAFI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84360" y="2058840"/>
            <a:ext cx="3257640" cy="4559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064120" y="3890880"/>
            <a:ext cx="3378240" cy="224964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87" name="Obdélník 10"/>
          <p:cNvSpPr/>
          <p:nvPr/>
        </p:nvSpPr>
        <p:spPr>
          <a:xfrm>
            <a:off x="8578800" y="5402160"/>
            <a:ext cx="193536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Pentax_Q_01n2000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ovéPole 2"/>
          <p:cNvSpPr/>
          <p:nvPr/>
        </p:nvSpPr>
        <p:spPr>
          <a:xfrm>
            <a:off x="2305080" y="385920"/>
            <a:ext cx="64087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SENZOR/SNÍMAČ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ovéPole 14"/>
          <p:cNvSpPr/>
          <p:nvPr/>
        </p:nvSpPr>
        <p:spPr>
          <a:xfrm>
            <a:off x="431640" y="1382760"/>
            <a:ext cx="460548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MALÝ, LEVNÝ FOTOAPARÁ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MALÝ SNÍMAČ/OBŘÍ ROZLIŠENÍ →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NÍZKÁ KVALITA FOTOGRAFIÍ!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TextovéPole 6"/>
          <p:cNvSpPr/>
          <p:nvPr/>
        </p:nvSpPr>
        <p:spPr>
          <a:xfrm>
            <a:off x="5234040" y="1379520"/>
            <a:ext cx="53244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DRAHÁ DSLR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VELKÝ SNÍMAČ/MALÉ ROZLIŠENÍ →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VYSOKÁ KVALITA FOTOGRAFIÍ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TextovéPole 7"/>
          <p:cNvSpPr/>
          <p:nvPr/>
        </p:nvSpPr>
        <p:spPr>
          <a:xfrm>
            <a:off x="411120" y="3005280"/>
            <a:ext cx="10080720" cy="3141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Najděte v některém z e-shopů fotoaparát s následujícími parametry (cena nesmí přesáhnout 50.000,- Kč) 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Nejvyšším možným rozlišení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Největšími rozměry snímač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Nejlepší kombinací – velikost snímače/rozlišení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7200" y="1600200"/>
            <a:ext cx="98506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3"/>
          <p:cNvSpPr/>
          <p:nvPr/>
        </p:nvSpPr>
        <p:spPr>
          <a:xfrm>
            <a:off x="659880" y="4762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Kelby, S, Digitální fotografie, CP 2006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1-12T15:59:01Z</dcterms:modified>
  <cp:revision>359</cp:revision>
  <dc:subject/>
  <dc:title>Snímek 1</dc:title>
</cp:coreProperties>
</file>