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9474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62EF-0A58-4B5C-89A9-8CBB48F59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985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7200" y="3964320"/>
            <a:ext cx="985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D549-4D5E-4395-B036-807185E6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720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9512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1577-3A6D-4B7F-9B47-01A9CFC7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77920" y="160020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08280" y="160020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7200" y="396432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77920" y="396432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08280" y="396432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BC1D-0E35-4E75-B3C8-228E63435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7200" y="1600200"/>
            <a:ext cx="985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0A8A-2EA2-4A37-B3D9-0D6F87D1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985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4135-63B2-48FA-BC16-B8A82525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D6E9-4836-4AB1-A52F-A14B28E1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757F-5258-43FE-A134-61D0F17F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7200" y="274320"/>
            <a:ext cx="9850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EC70-D35D-40C4-AD61-F18053A8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720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D0ED-8C94-4F25-AA10-6277CE7A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9512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E2E1-69C2-402C-99D2-EBEAA4A7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7200" y="3964320"/>
            <a:ext cx="985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0EC5-2975-42FC-BE07-7B95E398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7200" y="1600200"/>
            <a:ext cx="985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7560" y="6244920"/>
            <a:ext cx="255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9680" y="6244920"/>
            <a:ext cx="346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43680" y="6244920"/>
            <a:ext cx="255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9045-A91F-4081-A4A9-74836421E6F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egapixel.cz/" TargetMode="External"/><Relationship Id="rId2" Type="http://schemas.openxmlformats.org/officeDocument/2006/relationships/hyperlink" Target="http://www.dpreview.com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844720" y="5478480"/>
            <a:ext cx="51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eorgia"/>
              </a:rPr>
              <a:t>Úvod do problematiky klasické i digitální fototechniky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016000" y="90504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7200" spc="-1" strike="noStrike">
                <a:solidFill>
                  <a:srgbClr val="ffffff"/>
                </a:solidFill>
                <a:latin typeface="Georgia"/>
              </a:rPr>
              <a:t>OKO A SRDCE</a:t>
            </a:r>
            <a:endParaRPr b="0" lang="en-US" sz="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" name="TextovéPole 1"/>
          <p:cNvSpPr/>
          <p:nvPr/>
        </p:nvSpPr>
        <p:spPr>
          <a:xfrm>
            <a:off x="5761080" y="322200"/>
            <a:ext cx="4753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_32_INOVACE_1101_prezentace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032360" y="2708280"/>
            <a:ext cx="2881080" cy="2400120"/>
          </a:xfrm>
          <a:prstGeom prst="rect">
            <a:avLst/>
          </a:prstGeom>
          <a:ln w="0">
            <a:noFill/>
          </a:ln>
        </p:spPr>
      </p:pic>
      <p:sp>
        <p:nvSpPr>
          <p:cNvPr id="45" name="Obdélník 9"/>
          <p:cNvSpPr/>
          <p:nvPr/>
        </p:nvSpPr>
        <p:spPr>
          <a:xfrm>
            <a:off x="1440000" y="4370400"/>
            <a:ext cx="2363760" cy="946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Reflex_camera_(description).svg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ovéPole 4"/>
          <p:cNvSpPr/>
          <p:nvPr/>
        </p:nvSpPr>
        <p:spPr>
          <a:xfrm>
            <a:off x="2344680" y="1268280"/>
            <a:ext cx="6369120" cy="22284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a) Typ média (SD/secure digital, microSD, SDXC/secure digital extented capacity, Memory Stick/SONY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b) Kapacita (4-16GB, max.2TB – 2000GB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c) Rychlost zápisu (SD 2-10   zápis/čtení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3" name="Obdélník 8"/>
          <p:cNvSpPr/>
          <p:nvPr/>
        </p:nvSpPr>
        <p:spPr>
          <a:xfrm>
            <a:off x="1008000" y="5342040"/>
            <a:ext cx="1836720" cy="1372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cs.wikipedia.org/wiki/Soubor:Secure_Digital_Kingston_512MB.jpg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4" name="TextovéPole 9"/>
          <p:cNvSpPr/>
          <p:nvPr/>
        </p:nvSpPr>
        <p:spPr>
          <a:xfrm>
            <a:off x="2305080" y="385920"/>
            <a:ext cx="6408720" cy="520560"/>
          </a:xfrm>
          <a:prstGeom prst="rect">
            <a:avLst/>
          </a:prstGeom>
          <a:solidFill>
            <a:srgbClr val="161645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alibri"/>
                <a:ea typeface="Calibri"/>
              </a:rPr>
              <a:t>PAMĚŤOVÁ MÉDIA A BATERIE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500280" y="3933720"/>
            <a:ext cx="1860840" cy="2374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5641920" y="3933720"/>
            <a:ext cx="2033640" cy="2328840"/>
          </a:xfrm>
          <a:prstGeom prst="rect">
            <a:avLst/>
          </a:prstGeom>
          <a:ln w="0">
            <a:noFill/>
          </a:ln>
        </p:spPr>
      </p:pic>
      <p:sp>
        <p:nvSpPr>
          <p:cNvPr id="97" name="Obdélník 10"/>
          <p:cNvSpPr/>
          <p:nvPr/>
        </p:nvSpPr>
        <p:spPr>
          <a:xfrm>
            <a:off x="8353440" y="5307120"/>
            <a:ext cx="1944720" cy="1159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Memory_Stick_Front_and_Back.jpg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wipe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Obdélník 3"/>
          <p:cNvSpPr/>
          <p:nvPr/>
        </p:nvSpPr>
        <p:spPr>
          <a:xfrm>
            <a:off x="659880" y="476280"/>
            <a:ext cx="40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ffffff"/>
                </a:solidFill>
                <a:uFillTx/>
                <a:latin typeface="Arial"/>
              </a:rPr>
              <a:t>Kelby, S, Digitální fotografie, CP 2006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ovéPole 3"/>
          <p:cNvSpPr/>
          <p:nvPr/>
        </p:nvSpPr>
        <p:spPr>
          <a:xfrm>
            <a:off x="396720" y="549360"/>
            <a:ext cx="10080720" cy="3141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SAMOSTATNÝ ÚKOL: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Vyberte na některém z internetových e-shopů fotoaparát do 15.000,- Kč podle Vámi předem stanovených kritérií (např. snímač, velikost/váha, rozlišení, design/barva, objektivy, stabilizace apod.)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1"/>
              </a:rPr>
              <a:t>www.megapixel.cz</a:t>
            </a:r>
            <a:r>
              <a:rPr b="0" lang="cs-CZ" sz="1800" spc="-1" strike="noStrike">
                <a:solidFill>
                  <a:srgbClr val="ffffff"/>
                </a:solidFill>
                <a:latin typeface="Calibri"/>
                <a:ea typeface="Calibri"/>
              </a:rPr>
              <a:t> (e-shop)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www.dpreview.com</a:t>
            </a:r>
            <a:r>
              <a:rPr b="0" lang="cs-CZ" sz="1800" spc="-1" strike="noStrike">
                <a:solidFill>
                  <a:srgbClr val="ffffff"/>
                </a:solidFill>
                <a:latin typeface="Calibri"/>
                <a:ea typeface="Calibri"/>
              </a:rPr>
              <a:t> (nejpodrobnější recenze,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alibri"/>
                <a:ea typeface="Calibri"/>
              </a:rPr>
              <a:t>popis a testy fotoaparátů vůbec, v angličtině)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3"/>
          <a:stretch/>
        </p:blipFill>
        <p:spPr>
          <a:xfrm>
            <a:off x="1728720" y="3952800"/>
            <a:ext cx="1727280" cy="25718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8" name="Obdélník 9"/>
          <p:cNvSpPr/>
          <p:nvPr/>
        </p:nvSpPr>
        <p:spPr>
          <a:xfrm>
            <a:off x="368280" y="3952800"/>
            <a:ext cx="1360440" cy="1798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Canon_PowerShot_A95_-_front_and_back.jpg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" name="Obdélník 10"/>
          <p:cNvSpPr/>
          <p:nvPr/>
        </p:nvSpPr>
        <p:spPr>
          <a:xfrm>
            <a:off x="3719520" y="6073920"/>
            <a:ext cx="282096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Sony_DSC-H2_01.jpg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4"/>
          <a:stretch/>
        </p:blipFill>
        <p:spPr>
          <a:xfrm>
            <a:off x="3711600" y="3952800"/>
            <a:ext cx="2828880" cy="2121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1" name="Picture 4" descr=""/>
          <p:cNvPicPr/>
          <p:nvPr/>
        </p:nvPicPr>
        <p:blipFill>
          <a:blip r:embed="rId5"/>
          <a:stretch/>
        </p:blipFill>
        <p:spPr>
          <a:xfrm>
            <a:off x="6769080" y="3952800"/>
            <a:ext cx="2644920" cy="2644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52" name="Obdélník 15"/>
          <p:cNvSpPr/>
          <p:nvPr/>
        </p:nvSpPr>
        <p:spPr>
          <a:xfrm>
            <a:off x="9414000" y="3952800"/>
            <a:ext cx="1063440" cy="15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Nikon_D3S_img_3543.jpg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bdélník 1"/>
          <p:cNvSpPr/>
          <p:nvPr/>
        </p:nvSpPr>
        <p:spPr>
          <a:xfrm>
            <a:off x="7434360" y="5786280"/>
            <a:ext cx="3079800" cy="946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Samsung_NX100_with_Samsung_i-Function_20-50mm_f3.5-5.6_ED.jpg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" name="TextovéPole 2"/>
          <p:cNvSpPr/>
          <p:nvPr/>
        </p:nvSpPr>
        <p:spPr>
          <a:xfrm>
            <a:off x="2305080" y="385920"/>
            <a:ext cx="6408720" cy="520560"/>
          </a:xfrm>
          <a:prstGeom prst="rect">
            <a:avLst/>
          </a:prstGeom>
          <a:solidFill>
            <a:srgbClr val="161645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alibri"/>
                <a:ea typeface="Calibri"/>
              </a:rPr>
              <a:t>ROZLIŠENÍ PODLE TYPU PŘÍSTROJE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" name="TextovéPole 4"/>
          <p:cNvSpPr/>
          <p:nvPr/>
        </p:nvSpPr>
        <p:spPr>
          <a:xfrm>
            <a:off x="3637080" y="1341360"/>
            <a:ext cx="3600360" cy="28382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  <a:ea typeface="Calibri"/>
              </a:rPr>
              <a:t>Kompaktní přístroje, tzv. „kompakty“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00"/>
                </a:solidFill>
                <a:latin typeface="Calibri"/>
                <a:ea typeface="Calibri"/>
              </a:rPr>
              <a:t>EVF (electronic view finder) přístroje, tzv. „hybridní zrcadlovky“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b05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b050"/>
                </a:solidFill>
                <a:latin typeface="Calibri"/>
                <a:ea typeface="Calibri"/>
              </a:rPr>
              <a:t>DSLR/digital single lens reflex, tzv. „zrcadlovky“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Kompaktní přístroje s výměnným objektivem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060640" y="1317600"/>
            <a:ext cx="1217520" cy="18115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465120" y="3357720"/>
            <a:ext cx="2830680" cy="21207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7632720" y="2654280"/>
            <a:ext cx="2824200" cy="282420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pic>
        <p:nvPicPr>
          <p:cNvPr id="59" name="Picture 2" descr=""/>
          <p:cNvPicPr/>
          <p:nvPr/>
        </p:nvPicPr>
        <p:blipFill>
          <a:blip r:embed="rId4"/>
          <a:stretch/>
        </p:blipFill>
        <p:spPr>
          <a:xfrm>
            <a:off x="4321080" y="4548240"/>
            <a:ext cx="2925720" cy="1954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0" name="Obdélník 9"/>
          <p:cNvSpPr/>
          <p:nvPr/>
        </p:nvSpPr>
        <p:spPr>
          <a:xfrm>
            <a:off x="576360" y="1542960"/>
            <a:ext cx="1358640" cy="1798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Canon_PowerShot_A95_-_front_and_back.jpg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" name="Obdélník 10"/>
          <p:cNvSpPr/>
          <p:nvPr/>
        </p:nvSpPr>
        <p:spPr>
          <a:xfrm>
            <a:off x="431640" y="5641920"/>
            <a:ext cx="286416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Sony_DSC-H2_01.jpg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" name="Obdélník 11"/>
          <p:cNvSpPr/>
          <p:nvPr/>
        </p:nvSpPr>
        <p:spPr>
          <a:xfrm>
            <a:off x="7632720" y="1989000"/>
            <a:ext cx="280836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Nikon_D3S_img_3543.jpg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Obdélník 1"/>
          <p:cNvSpPr/>
          <p:nvPr/>
        </p:nvSpPr>
        <p:spPr>
          <a:xfrm>
            <a:off x="6781680" y="5253120"/>
            <a:ext cx="265140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Canon_Digital_IXUS_850_IS-ar_5to4-fs_PNr°0268b.jpg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" name="TextovéPole 3"/>
          <p:cNvSpPr/>
          <p:nvPr/>
        </p:nvSpPr>
        <p:spPr>
          <a:xfrm>
            <a:off x="2736720" y="385920"/>
            <a:ext cx="540072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Calibri"/>
              </a:rPr>
              <a:t>1) „KOMPAKTY“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" name="TextovéPole 4"/>
          <p:cNvSpPr/>
          <p:nvPr/>
        </p:nvSpPr>
        <p:spPr>
          <a:xfrm>
            <a:off x="6781680" y="1281240"/>
            <a:ext cx="3672000" cy="31431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„</a:t>
            </a: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point-and-shot camera“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Malá velikost a váha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Obrovský LCD displej/často chybí hledáček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Plně automatický/softwarové úpravy barev, doostřování atd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Malý rozsah zoomu/malé přiblížení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Nízká pořizovací cena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47640" y="1268280"/>
            <a:ext cx="5905440" cy="4724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bdélník 1"/>
          <p:cNvSpPr/>
          <p:nvPr/>
        </p:nvSpPr>
        <p:spPr>
          <a:xfrm>
            <a:off x="6480000" y="5797440"/>
            <a:ext cx="265140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Panasonic_Lumix_DMC-FZ50_img_1017.jpg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" name="TextovéPole 3"/>
          <p:cNvSpPr/>
          <p:nvPr/>
        </p:nvSpPr>
        <p:spPr>
          <a:xfrm>
            <a:off x="2736720" y="385920"/>
            <a:ext cx="540072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Calibri"/>
              </a:rPr>
              <a:t>2) EVF/„HYBRIDNÍ ZRCADLOVKY“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481800" y="1281240"/>
            <a:ext cx="3672000" cy="22284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Elektronický hledáček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Velikost i váha se blíží velké DSLR/„zrcadlovce“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Plně manuální ovládání (funkce se blíží DSLR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Obrovský zoom/přiblížení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nevýměnné objektivy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995400" y="1303200"/>
            <a:ext cx="5232240" cy="5234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wipe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Obdélník 1"/>
          <p:cNvSpPr/>
          <p:nvPr/>
        </p:nvSpPr>
        <p:spPr>
          <a:xfrm>
            <a:off x="6649920" y="5391000"/>
            <a:ext cx="265140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Reflex_camera_(description).svg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" name="TextovéPole 3"/>
          <p:cNvSpPr/>
          <p:nvPr/>
        </p:nvSpPr>
        <p:spPr>
          <a:xfrm>
            <a:off x="2736720" y="385920"/>
            <a:ext cx="540072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Calibri"/>
              </a:rPr>
              <a:t>3) DSLR, „ZRCADLOVKY“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" name="TextovéPole 4"/>
          <p:cNvSpPr/>
          <p:nvPr/>
        </p:nvSpPr>
        <p:spPr>
          <a:xfrm>
            <a:off x="6697800" y="1281240"/>
            <a:ext cx="3671640" cy="25333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Zrcátko/promítá se obraz přímo do optického hledáčku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Výměnné objektivy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Plně manuální režim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Velikost snímače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Vysoká hmotnost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Profipřístroje/vysoká cena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601560" y="1281240"/>
            <a:ext cx="5819760" cy="4849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846520" y="37476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eorgia"/>
              </a:rPr>
              <a:t>Jak funguje zrcadlovka?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" name="Obdélník 1"/>
          <p:cNvSpPr/>
          <p:nvPr/>
        </p:nvSpPr>
        <p:spPr>
          <a:xfrm>
            <a:off x="2273400" y="4775040"/>
            <a:ext cx="245412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SLR_cross_section.svg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631800" y="1353960"/>
            <a:ext cx="4105440" cy="3421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5040360" y="1341360"/>
            <a:ext cx="5396040" cy="4319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79" name="Obdélník 5"/>
          <p:cNvSpPr/>
          <p:nvPr/>
        </p:nvSpPr>
        <p:spPr>
          <a:xfrm>
            <a:off x="5040360" y="5684760"/>
            <a:ext cx="245412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SLR_cross_section.svg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ovéPole 3"/>
          <p:cNvSpPr/>
          <p:nvPr/>
        </p:nvSpPr>
        <p:spPr>
          <a:xfrm>
            <a:off x="1584360" y="385920"/>
            <a:ext cx="777708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Calibri"/>
              </a:rPr>
              <a:t>4) „KOMPAKTY“ S VÝMĚNNÝM OBJEKTIVEM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1" name="TextovéPole 4"/>
          <p:cNvSpPr/>
          <p:nvPr/>
        </p:nvSpPr>
        <p:spPr>
          <a:xfrm>
            <a:off x="6840360" y="1268280"/>
            <a:ext cx="3673800" cy="37530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„</a:t>
            </a: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Pen-style camera“ (podle Olympusu modelu PEN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Prolnutí funkcí a výhod malého „kompaktu“ a velké DSLR „zrcadlovky“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Výměnné objektivy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Obrovský snímač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Plně manuální režim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Nízká hmotnost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Poměrně vysoká pořizovací cena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r"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504720" y="1268280"/>
            <a:ext cx="5932440" cy="3961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3" name="Obdélník 6"/>
          <p:cNvSpPr/>
          <p:nvPr/>
        </p:nvSpPr>
        <p:spPr>
          <a:xfrm>
            <a:off x="3359160" y="5418000"/>
            <a:ext cx="3078000" cy="946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Samsung_NX100_with_Samsung_i-Function_20-50mm_f3.5-5.6_ED.jpg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6877080" y="5308560"/>
            <a:ext cx="1216080" cy="1216080"/>
          </a:xfrm>
          <a:prstGeom prst="rect">
            <a:avLst/>
          </a:prstGeom>
          <a:ln w="38160">
            <a:solidFill>
              <a:srgbClr val="00b050"/>
            </a:solidFill>
            <a:miter/>
          </a:ln>
        </p:spPr>
      </p:pic>
      <p:sp>
        <p:nvSpPr>
          <p:cNvPr id="85" name="Obdélník 8"/>
          <p:cNvSpPr/>
          <p:nvPr/>
        </p:nvSpPr>
        <p:spPr>
          <a:xfrm>
            <a:off x="8282160" y="5300640"/>
            <a:ext cx="1834920" cy="1159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Nikon_D3S_img_3543.jpg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wipe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ovéPole 4"/>
          <p:cNvSpPr/>
          <p:nvPr/>
        </p:nvSpPr>
        <p:spPr>
          <a:xfrm>
            <a:off x="2305080" y="1417680"/>
            <a:ext cx="6367320" cy="19234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a) Li-Ion/lithium iontové (pomalé vybíjení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b) NiMh/niklmetal akumulátor („rychlé smrt“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Vybití ovlivňuje: ZOOM, LCD, blesk!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" name="Obdélník 8"/>
          <p:cNvSpPr/>
          <p:nvPr/>
        </p:nvSpPr>
        <p:spPr>
          <a:xfrm>
            <a:off x="289080" y="5283360"/>
            <a:ext cx="1834920" cy="1159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en.wikipedia.org/wiki/File:Nokia_Battery.jpg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TextovéPole 9"/>
          <p:cNvSpPr/>
          <p:nvPr/>
        </p:nvSpPr>
        <p:spPr>
          <a:xfrm>
            <a:off x="2305080" y="385920"/>
            <a:ext cx="6408720" cy="520560"/>
          </a:xfrm>
          <a:prstGeom prst="rect">
            <a:avLst/>
          </a:prstGeom>
          <a:solidFill>
            <a:srgbClr val="161645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alibri"/>
                <a:ea typeface="Calibri"/>
              </a:rPr>
              <a:t>PAMĚŤOVÁ MÉDIA A BATERIE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9" name="Obdélník 10"/>
          <p:cNvSpPr/>
          <p:nvPr/>
        </p:nvSpPr>
        <p:spPr>
          <a:xfrm>
            <a:off x="8856720" y="4970520"/>
            <a:ext cx="1657440" cy="1159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http://cs.wikipedia.org/wiki/Soubor:Akku_AA_LR6_Mignon.jpg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5905440" y="3608280"/>
            <a:ext cx="2808360" cy="228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2"/>
          <a:stretch/>
        </p:blipFill>
        <p:spPr>
          <a:xfrm>
            <a:off x="2305080" y="3608280"/>
            <a:ext cx="3305160" cy="2413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wipe dir="l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7:26:03Z</dcterms:created>
  <dc:creator>lazza</dc:creator>
  <dc:description/>
  <dc:language>en-US</dc:language>
  <cp:lastModifiedBy>martin</cp:lastModifiedBy>
  <dcterms:modified xsi:type="dcterms:W3CDTF">2013-01-12T15:58:24Z</dcterms:modified>
  <cp:revision>334</cp:revision>
  <dc:subject/>
  <dc:title>Snímek 1</dc:title>
</cp:coreProperties>
</file>