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019-3FB9-4553-84A4-DEDE4D51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4F1-E688-485F-BDD1-81B19092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EBB-32C9-4865-96AC-A940A6C1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95D-A9BE-467E-A611-9CA0A9F6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B16-3513-411B-9E1B-B20E5FE3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4C9-CB45-4DB2-B341-1F321173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3D2-E68F-4FEC-86E4-7301609F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803-B488-41F1-832C-095A2C34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297-CCB6-46A6-83E7-70A1E0E9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295-447F-420B-BFAA-0F09A56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E56-295E-402F-97AB-6F30D3D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8E9-6AD2-4472-B0D9-86AB463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BB66-2826-4C47-981A-154985AD5BD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0" y="-360"/>
            <a:ext cx="374508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Due Date"/>
              </a:rPr>
              <a:t>Sunday bloody su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5734080"/>
            <a:ext cx="11161800" cy="581400"/>
          </a:xfrm>
          <a:prstGeom prst="rect">
            <a:avLst/>
          </a:prstGeom>
          <a:solidFill>
            <a:srgbClr val="ff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romosomeLight"/>
              </a:rPr>
              <a:t>SEVERN</a:t>
            </a:r>
            <a:r>
              <a:rPr b="0" lang="cs-CZ" sz="3200" spc="-1" strike="noStrike">
                <a:solidFill>
                  <a:srgbClr val="ffffff"/>
                </a:solidFill>
                <a:latin typeface="ChromosomeLight"/>
              </a:rPr>
              <a:t>I IRSKO A 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ira276"/>
          <p:cNvPicPr/>
          <p:nvPr/>
        </p:nvPicPr>
        <p:blipFill>
          <a:blip r:embed="rId1"/>
          <a:stretch/>
        </p:blipFill>
        <p:spPr>
          <a:xfrm>
            <a:off x="3816360" y="3284640"/>
            <a:ext cx="3274920" cy="1963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4" name="Obdélník 6"/>
          <p:cNvSpPr/>
          <p:nvPr/>
        </p:nvSpPr>
        <p:spPr>
          <a:xfrm>
            <a:off x="8497800" y="3141720"/>
            <a:ext cx="1987560" cy="2770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šechny fotografie a obrázky – není-li výslovně uvedeno jinak – vzhledem k době svého vzniku nepodléhají žádným autorským právům nebo byly  vytvořeny autorem prezentace k účelům prez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1"/>
          <p:cNvSpPr/>
          <p:nvPr/>
        </p:nvSpPr>
        <p:spPr>
          <a:xfrm>
            <a:off x="7091280" y="257040"/>
            <a:ext cx="3403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_32_INOVACE_0719_prezen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0"/>
          <p:cNvSpPr/>
          <p:nvPr/>
        </p:nvSpPr>
        <p:spPr>
          <a:xfrm>
            <a:off x="2952720" y="6021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Rozpad Irska (19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792000" y="2852640"/>
            <a:ext cx="2521080" cy="703800"/>
          </a:xfrm>
          <a:prstGeom prst="rect">
            <a:avLst/>
          </a:prstGeom>
          <a:solidFill>
            <a:srgbClr val="ff9900">
              <a:alpha val="6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Irish Free State (dnešní Irs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561440" y="1341360"/>
            <a:ext cx="2520720" cy="703800"/>
          </a:xfrm>
          <a:prstGeom prst="rect">
            <a:avLst/>
          </a:prstGeom>
          <a:solidFill>
            <a:srgbClr val="808000">
              <a:alpha val="7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Severní Irsko (Uls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92000" y="4221000"/>
            <a:ext cx="2521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Občanská válka (1921-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Republika Irsko (19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7561440" y="2349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Protestant state for a Protestant peopl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3633840" y="1241280"/>
            <a:ext cx="3755880" cy="4484880"/>
          </a:xfrm>
          <a:prstGeom prst="rect">
            <a:avLst/>
          </a:prstGeom>
          <a:ln w="0">
            <a:noFill/>
          </a:ln>
        </p:spPr>
      </p:pic>
      <p:sp>
        <p:nvSpPr>
          <p:cNvPr id="96" name="Obdélník 13"/>
          <p:cNvSpPr/>
          <p:nvPr/>
        </p:nvSpPr>
        <p:spPr>
          <a:xfrm>
            <a:off x="2665440" y="765000"/>
            <a:ext cx="54705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Ireland_physical_large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Ireland map"/>
          <p:cNvPicPr/>
          <p:nvPr/>
        </p:nvPicPr>
        <p:blipFill>
          <a:blip r:embed="rId1"/>
          <a:srcRect l="34618" t="0" r="0" b="57168"/>
          <a:stretch/>
        </p:blipFill>
        <p:spPr>
          <a:xfrm>
            <a:off x="936720" y="692280"/>
            <a:ext cx="2914560" cy="238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8" name="Text Box 5"/>
          <p:cNvSpPr/>
          <p:nvPr/>
        </p:nvSpPr>
        <p:spPr>
          <a:xfrm>
            <a:off x="792000" y="620640"/>
            <a:ext cx="2953080" cy="39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Ulster/Severní Ir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lement_VII"/>
          <p:cNvPicPr/>
          <p:nvPr/>
        </p:nvPicPr>
        <p:blipFill>
          <a:blip r:embed="rId2"/>
          <a:stretch/>
        </p:blipFill>
        <p:spPr>
          <a:xfrm>
            <a:off x="5689440" y="620640"/>
            <a:ext cx="4300560" cy="518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0" name="Picture 9" descr="Jindrich sedmy412px-Hans_Holbein_d"/>
          <p:cNvPicPr/>
          <p:nvPr/>
        </p:nvPicPr>
        <p:blipFill>
          <a:blip r:embed="rId3"/>
          <a:stretch/>
        </p:blipFill>
        <p:spPr>
          <a:xfrm>
            <a:off x="936720" y="620640"/>
            <a:ext cx="3546360" cy="515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1" name="Text Box 12"/>
          <p:cNvSpPr/>
          <p:nvPr/>
        </p:nvSpPr>
        <p:spPr>
          <a:xfrm>
            <a:off x="865080" y="5373720"/>
            <a:ext cx="3598920" cy="39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Anglický král Jindřich V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689440" y="5373720"/>
            <a:ext cx="4318200" cy="39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Papež Kliment V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448000" y="549360"/>
            <a:ext cx="5473800" cy="703800"/>
          </a:xfrm>
          <a:prstGeom prst="rect">
            <a:avLst/>
          </a:prstGeom>
          <a:solidFill>
            <a:srgbClr val="000000">
              <a:alpha val="8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CÍRKEVNÍ ROZKOL – VZNIK ANGLIKÁNSKÉ CÍRKVE (15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4681440" y="220500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eorgi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936720" y="6021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Protest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777080" y="6021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Katol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eorgia"/>
              </a:rPr>
              <a:t>STŘET.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Georgia"/>
              </a:rPr>
              <a:t>VÁLKA CÍRKVÍ VE 20.STOLE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4043520" y="328464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8"/>
          <p:cNvSpPr/>
          <p:nvPr/>
        </p:nvSpPr>
        <p:spPr>
          <a:xfrm>
            <a:off x="2664000" y="580536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VIDEO </a:t>
            </a: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Bloody Sun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eorgia"/>
              </a:rPr>
              <a:t>VE JMÉNU IRA.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Georgia"/>
              </a:rPr>
              <a:t>IRSKÁ  REPUBLIKÁNSKÁ ARMÁ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664000" y="2781360"/>
            <a:ext cx="5609880" cy="309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S"/>
          <p:cNvPicPr/>
          <p:nvPr/>
        </p:nvPicPr>
        <p:blipFill>
          <a:blip r:embed="rId1"/>
          <a:stretch/>
        </p:blipFill>
        <p:spPr>
          <a:xfrm>
            <a:off x="865080" y="765000"/>
            <a:ext cx="6336000" cy="379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Text Box 13"/>
          <p:cNvSpPr/>
          <p:nvPr/>
        </p:nvSpPr>
        <p:spPr>
          <a:xfrm>
            <a:off x="7705800" y="981000"/>
            <a:ext cx="208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Irish Republican Army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1728720" y="566100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Rozdvojení - Provisional IRA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7321680" y="3821040"/>
            <a:ext cx="2857320" cy="2038320"/>
          </a:xfrm>
          <a:prstGeom prst="rect">
            <a:avLst/>
          </a:prstGeom>
          <a:ln w="0">
            <a:noFill/>
          </a:ln>
        </p:spPr>
      </p:pic>
      <p:sp>
        <p:nvSpPr>
          <p:cNvPr id="116" name="Obdélník 1"/>
          <p:cNvSpPr/>
          <p:nvPr/>
        </p:nvSpPr>
        <p:spPr>
          <a:xfrm>
            <a:off x="7321680" y="5904000"/>
            <a:ext cx="28573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Provisional_Irish_Republican_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384720" y="5877000"/>
            <a:ext cx="42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Manchester (červen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835280" y="434880"/>
            <a:ext cx="3571920" cy="2670120"/>
          </a:xfrm>
          <a:prstGeom prst="rect">
            <a:avLst/>
          </a:prstGeom>
          <a:ln w="0">
            <a:noFill/>
          </a:ln>
        </p:spPr>
      </p:pic>
      <p:sp>
        <p:nvSpPr>
          <p:cNvPr id="119" name="Obdélník 2"/>
          <p:cNvSpPr/>
          <p:nvPr/>
        </p:nvSpPr>
        <p:spPr>
          <a:xfrm>
            <a:off x="2736720" y="3105000"/>
            <a:ext cx="54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en.wikipedia.org/wiki/File:Manchesterbomb-devestatio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5510160" y="434880"/>
            <a:ext cx="2308320" cy="5342040"/>
          </a:xfrm>
          <a:prstGeom prst="rect">
            <a:avLst/>
          </a:prstGeom>
          <a:ln w="0">
            <a:noFill/>
          </a:ln>
        </p:spPr>
      </p:pic>
      <p:sp>
        <p:nvSpPr>
          <p:cNvPr id="121" name="Obdélník 5"/>
          <p:cNvSpPr/>
          <p:nvPr/>
        </p:nvSpPr>
        <p:spPr>
          <a:xfrm>
            <a:off x="1442880" y="3228840"/>
            <a:ext cx="392760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Manchester_1996_explosion_still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délník 6"/>
          <p:cNvSpPr/>
          <p:nvPr/>
        </p:nvSpPr>
        <p:spPr>
          <a:xfrm>
            <a:off x="7932600" y="5049720"/>
            <a:ext cx="256860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Manchesterbomb-devestati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2376360" y="522936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Velkopáteční dohoda/Good Friday Agreement (duben 199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3808440" y="1825560"/>
            <a:ext cx="3328920" cy="2664000"/>
          </a:xfrm>
          <a:prstGeom prst="rect">
            <a:avLst/>
          </a:prstGeom>
          <a:ln w="0">
            <a:noFill/>
          </a:ln>
        </p:spPr>
      </p:pic>
      <p:sp>
        <p:nvSpPr>
          <p:cNvPr id="125" name="Obdélník 2"/>
          <p:cNvSpPr/>
          <p:nvPr/>
        </p:nvSpPr>
        <p:spPr>
          <a:xfrm>
            <a:off x="2881440" y="836640"/>
            <a:ext cx="54705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Politicsofnorthernirelandlogo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7200" y="274680"/>
            <a:ext cx="9850680" cy="585144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2"/>
          <p:cNvSpPr/>
          <p:nvPr/>
        </p:nvSpPr>
        <p:spPr>
          <a:xfrm>
            <a:off x="504720" y="260280"/>
            <a:ext cx="54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uklík J, Dějepis pro gymnázia a SŠ 4, SPN Pra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eorgia"/>
              </a:rPr>
              <a:t>LET DIVOKÝCH HUS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Georgia"/>
              </a:rPr>
              <a:t>KOLONIZACE IR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61Cromwell"/>
          <p:cNvPicPr/>
          <p:nvPr/>
        </p:nvPicPr>
        <p:blipFill>
          <a:blip r:embed="rId1"/>
          <a:stretch/>
        </p:blipFill>
        <p:spPr>
          <a:xfrm>
            <a:off x="4321080" y="2708280"/>
            <a:ext cx="2286000" cy="267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enry_II_of_England"/>
          <p:cNvPicPr/>
          <p:nvPr/>
        </p:nvPicPr>
        <p:blipFill>
          <a:blip r:embed="rId1"/>
          <a:stretch/>
        </p:blipFill>
        <p:spPr>
          <a:xfrm>
            <a:off x="792000" y="549360"/>
            <a:ext cx="3311640" cy="482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" name="Picture 11" descr="great-britain-map1"/>
          <p:cNvPicPr/>
          <p:nvPr/>
        </p:nvPicPr>
        <p:blipFill>
          <a:blip r:embed="rId2"/>
          <a:stretch/>
        </p:blipFill>
        <p:spPr>
          <a:xfrm>
            <a:off x="5811840" y="549360"/>
            <a:ext cx="4556160" cy="554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0" name="Picture 14" descr="great-britain-map1 copy"/>
          <p:cNvPicPr/>
          <p:nvPr/>
        </p:nvPicPr>
        <p:blipFill>
          <a:blip r:embed="rId3"/>
          <a:stretch/>
        </p:blipFill>
        <p:spPr>
          <a:xfrm>
            <a:off x="5832360" y="549360"/>
            <a:ext cx="4556160" cy="554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Text Box 17"/>
          <p:cNvSpPr/>
          <p:nvPr/>
        </p:nvSpPr>
        <p:spPr>
          <a:xfrm>
            <a:off x="576360" y="5661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Jindřich II. Plantage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ne</a:t>
            </a: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t (1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643px-Henry_sidney_ireland_detail"/>
          <p:cNvPicPr/>
          <p:nvPr/>
        </p:nvPicPr>
        <p:blipFill>
          <a:blip r:embed="rId1"/>
          <a:stretch/>
        </p:blipFill>
        <p:spPr>
          <a:xfrm>
            <a:off x="647640" y="981000"/>
            <a:ext cx="3600360" cy="3359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" name="Picture 5" descr="Flight of the Earls-11"/>
          <p:cNvPicPr/>
          <p:nvPr/>
        </p:nvPicPr>
        <p:blipFill>
          <a:blip r:embed="rId2"/>
          <a:stretch/>
        </p:blipFill>
        <p:spPr>
          <a:xfrm>
            <a:off x="4753080" y="404640"/>
            <a:ext cx="5761080" cy="559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720720" y="5373720"/>
            <a:ext cx="28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Útěk hrabat (1607).    Let divokých 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great-britain-map1"/>
          <p:cNvPicPr/>
          <p:nvPr/>
        </p:nvPicPr>
        <p:blipFill>
          <a:blip r:embed="rId1"/>
          <a:stretch/>
        </p:blipFill>
        <p:spPr>
          <a:xfrm>
            <a:off x="5977080" y="476280"/>
            <a:ext cx="4557600" cy="554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Text Box 14"/>
          <p:cNvSpPr/>
          <p:nvPr/>
        </p:nvSpPr>
        <p:spPr>
          <a:xfrm>
            <a:off x="576360" y="5300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Georgia"/>
              </a:rPr>
              <a:t>„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Cromwell and his soldiers came</a:t>
            </a:r>
            <a:r>
              <a:rPr b="0" i="1" lang="cs-CZ" sz="2400" spc="-1" strike="noStrike">
                <a:solidFill>
                  <a:srgbClr val="ffffff"/>
                </a:solidFill>
                <a:latin typeface="Georgia"/>
              </a:rPr>
              <a:t> s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arted centuries of shame</a:t>
            </a:r>
            <a:r>
              <a:rPr b="0" i="1" lang="cs-CZ" sz="2400" spc="-1" strike="noStrike">
                <a:solidFill>
                  <a:srgbClr val="ffffff"/>
                </a:solidFill>
                <a:latin typeface="Georgia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Karl_I_av_England,_målning_av_Anthonis_van_Dyck_från_1632"/>
          <p:cNvPicPr/>
          <p:nvPr/>
        </p:nvPicPr>
        <p:blipFill>
          <a:blip r:embed="rId2"/>
          <a:stretch/>
        </p:blipFill>
        <p:spPr>
          <a:xfrm>
            <a:off x="720720" y="476280"/>
            <a:ext cx="2473200" cy="3257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24" descr="charles_execution"/>
          <p:cNvPicPr/>
          <p:nvPr/>
        </p:nvPicPr>
        <p:blipFill>
          <a:blip r:embed="rId3"/>
          <a:stretch/>
        </p:blipFill>
        <p:spPr>
          <a:xfrm>
            <a:off x="720720" y="1268280"/>
            <a:ext cx="4849920" cy="3679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Text Box 28"/>
          <p:cNvSpPr/>
          <p:nvPr/>
        </p:nvSpPr>
        <p:spPr>
          <a:xfrm>
            <a:off x="3384720" y="476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Karel I Stu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rogheda"/>
          <p:cNvPicPr/>
          <p:nvPr/>
        </p:nvPicPr>
        <p:blipFill>
          <a:blip r:embed="rId1"/>
          <a:stretch/>
        </p:blipFill>
        <p:spPr>
          <a:xfrm>
            <a:off x="6337440" y="404640"/>
            <a:ext cx="3771720" cy="511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4" descr="drogheda"/>
          <p:cNvPicPr/>
          <p:nvPr/>
        </p:nvPicPr>
        <p:blipFill>
          <a:blip r:embed="rId2"/>
          <a:stretch/>
        </p:blipFill>
        <p:spPr>
          <a:xfrm>
            <a:off x="936720" y="404640"/>
            <a:ext cx="3522600" cy="576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6" descr="61Cromwell"/>
          <p:cNvPicPr/>
          <p:nvPr/>
        </p:nvPicPr>
        <p:blipFill>
          <a:blip r:embed="rId3"/>
          <a:srcRect l="23454" t="10902" r="17013" b="18170"/>
          <a:stretch/>
        </p:blipFill>
        <p:spPr>
          <a:xfrm>
            <a:off x="938160" y="2781360"/>
            <a:ext cx="2428920" cy="338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3" name="Oval 9"/>
          <p:cNvSpPr/>
          <p:nvPr/>
        </p:nvSpPr>
        <p:spPr>
          <a:xfrm>
            <a:off x="2808360" y="1341360"/>
            <a:ext cx="108108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great-britain-map1 copy"/>
          <p:cNvPicPr/>
          <p:nvPr/>
        </p:nvPicPr>
        <p:blipFill>
          <a:blip r:embed="rId4"/>
          <a:stretch/>
        </p:blipFill>
        <p:spPr>
          <a:xfrm>
            <a:off x="4537080" y="404640"/>
            <a:ext cx="1727280" cy="21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5" name="Text Box 14"/>
          <p:cNvSpPr/>
          <p:nvPr/>
        </p:nvSpPr>
        <p:spPr>
          <a:xfrm>
            <a:off x="4464000" y="573408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Oliver Cromwell: Reconquista Irska (1649-5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337440" y="404640"/>
            <a:ext cx="3743280" cy="3988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asakr Drogheda (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great-britain-map1"/>
          <p:cNvPicPr/>
          <p:nvPr/>
        </p:nvPicPr>
        <p:blipFill>
          <a:blip r:embed="rId1"/>
          <a:stretch/>
        </p:blipFill>
        <p:spPr>
          <a:xfrm>
            <a:off x="3456000" y="549360"/>
            <a:ext cx="4083120" cy="49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8" name="Picture 4" descr="great-britain-map2"/>
          <p:cNvPicPr/>
          <p:nvPr/>
        </p:nvPicPr>
        <p:blipFill>
          <a:blip r:embed="rId2"/>
          <a:stretch/>
        </p:blipFill>
        <p:spPr>
          <a:xfrm>
            <a:off x="3456000" y="549360"/>
            <a:ext cx="4086360" cy="49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5" descr="great-britain-map3"/>
          <p:cNvPicPr/>
          <p:nvPr/>
        </p:nvPicPr>
        <p:blipFill>
          <a:blip r:embed="rId3"/>
          <a:stretch/>
        </p:blipFill>
        <p:spPr>
          <a:xfrm>
            <a:off x="3456000" y="549360"/>
            <a:ext cx="4083120" cy="49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816360" y="5877000"/>
            <a:ext cx="287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960720" y="587700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AKT O UNII (18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great-britain-map4"/>
          <p:cNvPicPr/>
          <p:nvPr/>
        </p:nvPicPr>
        <p:blipFill>
          <a:blip r:embed="rId4"/>
          <a:stretch/>
        </p:blipFill>
        <p:spPr>
          <a:xfrm>
            <a:off x="3456000" y="549360"/>
            <a:ext cx="4083120" cy="496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3" name="Text Box 12"/>
          <p:cNvSpPr/>
          <p:nvPr/>
        </p:nvSpPr>
        <p:spPr>
          <a:xfrm>
            <a:off x="1081080" y="1052640"/>
            <a:ext cx="2305080" cy="398880"/>
          </a:xfrm>
          <a:prstGeom prst="rect">
            <a:avLst/>
          </a:prstGeom>
          <a:solidFill>
            <a:srgbClr val="99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Wales (1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7561440" y="2133720"/>
            <a:ext cx="3024000" cy="1008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Skotsko, vznik Spojeného království Velké Británie (17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584360" y="4941720"/>
            <a:ext cx="180036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Irsko (18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irish famine"/>
          <p:cNvPicPr/>
          <p:nvPr/>
        </p:nvPicPr>
        <p:blipFill>
          <a:blip r:embed="rId1"/>
          <a:stretch/>
        </p:blipFill>
        <p:spPr>
          <a:xfrm>
            <a:off x="1224000" y="549360"/>
            <a:ext cx="3525840" cy="5111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7" name="Picture 7" descr="great-britain-map4"/>
          <p:cNvPicPr/>
          <p:nvPr/>
        </p:nvPicPr>
        <p:blipFill>
          <a:blip r:embed="rId2"/>
          <a:srcRect l="0" t="33768" r="50420" b="16869"/>
          <a:stretch/>
        </p:blipFill>
        <p:spPr>
          <a:xfrm>
            <a:off x="6697800" y="549360"/>
            <a:ext cx="3208320" cy="3887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Line 19"/>
          <p:cNvSpPr/>
          <p:nvPr/>
        </p:nvSpPr>
        <p:spPr>
          <a:xfrm flipH="1">
            <a:off x="6383160" y="3068640"/>
            <a:ext cx="122400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 flipH="1">
            <a:off x="8470440" y="3213000"/>
            <a:ext cx="73080" cy="2087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8975880" y="1557360"/>
            <a:ext cx="1223640" cy="1008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8975880" y="2852640"/>
            <a:ext cx="1368360" cy="1447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8902800" y="3141720"/>
            <a:ext cx="1009440" cy="19429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 flipH="1">
            <a:off x="7319520" y="3284640"/>
            <a:ext cx="792360" cy="20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 flipH="1">
            <a:off x="6527880" y="3284640"/>
            <a:ext cx="1295280" cy="15127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1079640" y="587700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Gorta Mór (Velký hladomor), 1845-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7104240" y="5877000"/>
            <a:ext cx="28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eorgia"/>
              </a:rPr>
              <a:t>Masivní mig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eorgia"/>
              </a:rPr>
              <a:t>ROZPAD IRSKA.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Georgia"/>
              </a:rPr>
              <a:t>FREE IRISH STATE A UL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3900600" y="2276640"/>
            <a:ext cx="3143160" cy="3752640"/>
          </a:xfrm>
          <a:prstGeom prst="rect">
            <a:avLst/>
          </a:prstGeom>
          <a:ln w="0">
            <a:noFill/>
          </a:ln>
        </p:spPr>
      </p:pic>
      <p:sp>
        <p:nvSpPr>
          <p:cNvPr id="89" name="Obdélník 1"/>
          <p:cNvSpPr/>
          <p:nvPr/>
        </p:nvSpPr>
        <p:spPr>
          <a:xfrm>
            <a:off x="2736720" y="6181560"/>
            <a:ext cx="54705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Ireland_physical_large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20:47:58Z</dcterms:created>
  <dc:creator>lazza</dc:creator>
  <dc:description/>
  <dc:language>en-US</dc:language>
  <cp:lastModifiedBy>martin</cp:lastModifiedBy>
  <dcterms:modified xsi:type="dcterms:W3CDTF">2013-01-12T12:32:33Z</dcterms:modified>
  <cp:revision>62</cp:revision>
  <dc:subject/>
  <dc:title>Sunday bloody sunday</dc:title>
</cp:coreProperties>
</file>