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F88-19B0-4B22-B543-CC5F5918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F6C-DA25-4797-B29B-8A464BF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8DD-654C-4AE3-B08D-F6129CC3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AE5-B8BF-4ADF-8A6A-9C13481C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791-A0C9-4953-B53F-7CF60920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22E-13C2-4A40-8A08-C012950A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823-9947-42C0-ADF6-B215495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69E-EC9F-40CF-852A-7F0690C6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608-4FF8-48AB-AE53-AFD3141C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227-C36E-4A32-9285-BA207BB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ECF-1D97-446B-B5ED-2B45874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13A-D191-470C-A398-63D75AA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546C-097F-4F2B-8CFE-359B0DCE7A71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600" y="476280"/>
            <a:ext cx="626112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Georgia"/>
              </a:rPr>
              <a:t>PŘEMYSLOVCI</a:t>
            </a:r>
            <a:br>
              <a:rPr sz="4400"/>
            </a:br>
            <a:r>
              <a:rPr b="1" lang="cs-CZ" sz="4400" spc="-1" strike="noStrike">
                <a:solidFill>
                  <a:srgbClr val="ffffff"/>
                </a:solidFill>
                <a:latin typeface="Georgia"/>
              </a:rPr>
              <a:t>(880-999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Obrázek 1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448000" cy="14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Obdélník 6"/>
          <p:cNvSpPr/>
          <p:nvPr/>
        </p:nvSpPr>
        <p:spPr>
          <a:xfrm>
            <a:off x="6443640" y="4005360"/>
            <a:ext cx="2446200" cy="2040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šechny fotografie a obrázky uvedené v této prezentaci – není-li výslovně uvedeno jinak – nepodléhají vzhledem k době svého vzniku žádným autorským právům; tyto práva již vypršela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4427640" y="336600"/>
            <a:ext cx="457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7_prezenta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ázek 1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147000" cy="606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TextovéPole 2" descr=""/>
          <p:cNvPicPr/>
          <p:nvPr/>
        </p:nvPicPr>
        <p:blipFill>
          <a:blip r:embed="rId2"/>
          <a:stretch/>
        </p:blipFill>
        <p:spPr>
          <a:xfrm>
            <a:off x="4992840" y="182520"/>
            <a:ext cx="398592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5"/>
          <p:cNvSpPr/>
          <p:nvPr/>
        </p:nvSpPr>
        <p:spPr>
          <a:xfrm>
            <a:off x="4764240" y="4149720"/>
            <a:ext cx="4200480" cy="2533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Severní (Balt) a jižní expanze (´Přemyslovci !!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Boleslav Chrabrý: obsazuje Moravu a Čechy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(1003-4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Papežské léno – arcibiskupství ve Hnězdně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(100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Královský titul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(100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826920" y="5856120"/>
            <a:ext cx="2934000" cy="520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Calibri"/>
              </a:rPr>
              <a:t>http://en.wikipedia.org/wiki/File:Polska_992_-_1025.pn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84360" y="295200"/>
            <a:ext cx="4790880" cy="5705640"/>
          </a:xfrm>
          <a:prstGeom prst="rect">
            <a:avLst/>
          </a:prstGeom>
          <a:ln w="0">
            <a:noFill/>
          </a:ln>
        </p:spPr>
      </p:pic>
      <p:pic>
        <p:nvPicPr>
          <p:cNvPr id="67" name="TextovéPole 5" descr=""/>
          <p:cNvPicPr/>
          <p:nvPr/>
        </p:nvPicPr>
        <p:blipFill>
          <a:blip r:embed="rId2"/>
          <a:stretch/>
        </p:blipFill>
        <p:spPr>
          <a:xfrm>
            <a:off x="4992840" y="182520"/>
            <a:ext cx="3985920" cy="93348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6"/>
          <p:cNvSpPr/>
          <p:nvPr/>
        </p:nvSpPr>
        <p:spPr>
          <a:xfrm>
            <a:off x="4067280" y="4749840"/>
            <a:ext cx="4825800" cy="1923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Konflikt o to, komu budou podléhat české země – Polsku nebo Říši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Císař vytlačí Boleslava  Chrabrého a dosadí Jaromí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Georgia"/>
              </a:rPr>
              <a:t>LENNÍ ZÁVAZEK (1004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Obdélník 1"/>
          <p:cNvSpPr/>
          <p:nvPr/>
        </p:nvSpPr>
        <p:spPr>
          <a:xfrm>
            <a:off x="5475240" y="1052640"/>
            <a:ext cx="34178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00000"/>
                </a:solidFill>
                <a:latin typeface="Calibri"/>
              </a:rPr>
              <a:t>http://en.wikipedia.org/wiki/File:Map_of_the_Holy_Roman_Empire_in_the_10th_century.pn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ovéPole 4"/>
          <p:cNvSpPr/>
          <p:nvPr/>
        </p:nvSpPr>
        <p:spPr>
          <a:xfrm>
            <a:off x="4067280" y="5365800"/>
            <a:ext cx="4825800" cy="1008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Arcibiskupství Ostřihom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(1000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Královský titul pro Štěpána I. Uherského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(100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rcRect l="26854" t="18765" r="20026" b="23352"/>
          <a:stretch/>
        </p:blipFill>
        <p:spPr>
          <a:xfrm>
            <a:off x="684360" y="293760"/>
            <a:ext cx="5688000" cy="4951440"/>
          </a:xfrm>
          <a:prstGeom prst="rect">
            <a:avLst/>
          </a:prstGeom>
          <a:ln w="0">
            <a:noFill/>
          </a:ln>
        </p:spPr>
      </p:pic>
      <p:pic>
        <p:nvPicPr>
          <p:cNvPr id="72" name="TextovéPole 5" descr=""/>
          <p:cNvPicPr/>
          <p:nvPr/>
        </p:nvPicPr>
        <p:blipFill>
          <a:blip r:embed="rId2"/>
          <a:stretch/>
        </p:blipFill>
        <p:spPr>
          <a:xfrm>
            <a:off x="4992840" y="182520"/>
            <a:ext cx="3985920" cy="933480"/>
          </a:xfrm>
          <a:prstGeom prst="rect">
            <a:avLst/>
          </a:prstGeom>
          <a:ln w="0">
            <a:noFill/>
          </a:ln>
        </p:spPr>
      </p:pic>
      <p:sp>
        <p:nvSpPr>
          <p:cNvPr id="73" name="Obdélník 1"/>
          <p:cNvSpPr/>
          <p:nvPr/>
        </p:nvSpPr>
        <p:spPr>
          <a:xfrm>
            <a:off x="1403280" y="5372280"/>
            <a:ext cx="25210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Calibri"/>
              </a:rPr>
              <a:t>http://en.wikipedia.org/wiki/File:Europe_1000.jp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9600" y="476280"/>
            <a:ext cx="62611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ff"/>
                </a:solidFill>
                <a:latin typeface="Georgia"/>
              </a:rPr>
              <a:t>VYŘEŠENÍ </a:t>
            </a:r>
            <a:r>
              <a:rPr b="1" lang="cs-CZ" sz="9600" spc="-1" strike="noStrike">
                <a:solidFill>
                  <a:srgbClr val="ffffff"/>
                </a:solidFill>
                <a:latin typeface="Georgia"/>
              </a:rPr>
              <a:t>KRIZE</a:t>
            </a:r>
            <a:r>
              <a:rPr b="1" lang="cs-CZ" sz="6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Georgia"/>
              </a:rPr>
              <a:t>PŘEMYSLOVSKÉHO STÁTU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Obrázek 1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44800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rázek 1" descr=""/>
          <p:cNvPicPr/>
          <p:nvPr/>
        </p:nvPicPr>
        <p:blipFill>
          <a:blip r:embed="rId1"/>
          <a:stretch/>
        </p:blipFill>
        <p:spPr>
          <a:xfrm>
            <a:off x="1719360" y="1268280"/>
            <a:ext cx="570528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" descr=""/>
          <p:cNvPicPr/>
          <p:nvPr/>
        </p:nvPicPr>
        <p:blipFill>
          <a:blip r:embed="rId2"/>
          <a:stretch/>
        </p:blipFill>
        <p:spPr>
          <a:xfrm>
            <a:off x="1706400" y="152280"/>
            <a:ext cx="5731200" cy="1122480"/>
          </a:xfrm>
          <a:prstGeom prst="rect">
            <a:avLst/>
          </a:prstGeom>
          <a:ln w="0">
            <a:noFill/>
          </a:ln>
        </p:spPr>
      </p:pic>
      <p:pic>
        <p:nvPicPr>
          <p:cNvPr id="78" name="TextovéPole 3" descr=""/>
          <p:cNvPicPr/>
          <p:nvPr/>
        </p:nvPicPr>
        <p:blipFill>
          <a:blip r:embed="rId3"/>
          <a:stretch/>
        </p:blipFill>
        <p:spPr>
          <a:xfrm>
            <a:off x="1103400" y="5694480"/>
            <a:ext cx="6937200" cy="931680"/>
          </a:xfrm>
          <a:prstGeom prst="rect">
            <a:avLst/>
          </a:prstGeom>
          <a:ln w="0">
            <a:noFill/>
          </a:ln>
        </p:spPr>
      </p:pic>
      <p:sp>
        <p:nvSpPr>
          <p:cNvPr id="79" name="Obdélník 1"/>
          <p:cNvSpPr/>
          <p:nvPr/>
        </p:nvSpPr>
        <p:spPr>
          <a:xfrm>
            <a:off x="6804000" y="4970520"/>
            <a:ext cx="1944720" cy="73332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Calibri"/>
              </a:rPr>
              <a:t>http://cs.wikipedia.org/wiki/Soubor:Morudely.PN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bdélník 1"/>
          <p:cNvSpPr/>
          <p:nvPr/>
        </p:nvSpPr>
        <p:spPr>
          <a:xfrm>
            <a:off x="719280" y="1341360"/>
            <a:ext cx="7921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alibri"/>
              </a:rPr>
              <a:t>Tedy toto ať jest hlavní mé a první přikázání, aby vaše manželství, jež jste doposud měli jako s lehkými ženami a nepořádná po způsobu hloupých hovad, od té chvíle byla podle církevních ustanovení zákonná, soukromá a nerozlučná, a to tak, aby muž žil maje dosti na jedné ženě a žena majíc dosti na jednom muži. Jestliže by však manželka svým mužem nebo muž manželkou opovrhla a svár mezi nimi vzplanul do roztržky, přeji si, aby ten rušitel manželství, který by se nechtěl vrátiti k předešlému svazku právě uzavřenému, nebyl uváděn podle řádu naší země do otroctví, nýbrž spíše, jak neoblomně káže naše nezměnitelné rozhodnutí, budiž odveden, ať je to jakákoliv osoba, do Uher a nesmí se žádnými penězi vykoupiti nebo do naší země vrátiti, aby se hlízami jedné ovečky nenakazil celý ovčinec Kristův.„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Calibri"/>
              </a:rPr>
              <a:t>Když by však žena prohlásila, že jí muž nesplácí stejnou láskou, nýbrž ji nemilosrdně bije a trýzní, bude rozhodnuto mezi nimi božím soudem, a kdo bude nalezen vinným, ať trpí trestem vinného. Rovněž i stran těch, kdo jsou nařčeni z vraždy: arcikněz ať oznámí jejich jména správci svého hradu a správce ať je povolá na soud, a budou-li se vzpírati, uvrhne je do vězení, až buď učiní vhodné pokání, anebo, budou-li zapírati, buďtež zkoušeni žhavým železem nebo očistnou vodou, zdali je na nich vina. Avšak vrahy bratrů, otců nebo kněží a osoby z podobných hrdelních zločinů obviněné ať arcikněz označí hradskému správci nebo knížeti, a ten je spoutané na rukou a v pase ze země vyhostí, aby, tuláky a uprchlíky jsouce, bloudili jako Kain kolem po světě."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TextovéPole 2" descr=""/>
          <p:cNvPicPr/>
          <p:nvPr/>
        </p:nvPicPr>
        <p:blipFill>
          <a:blip r:embed="rId1"/>
          <a:stretch/>
        </p:blipFill>
        <p:spPr>
          <a:xfrm>
            <a:off x="1103400" y="219240"/>
            <a:ext cx="6937200" cy="93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3"/>
          <p:cNvSpPr/>
          <p:nvPr/>
        </p:nvSpPr>
        <p:spPr>
          <a:xfrm>
            <a:off x="46836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užité zdroje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Čornej P., Čornejová I., Parkan F., Dějepis pro gymnázia a SŠ 2, SPN Prah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ázek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57880" cy="3600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6" name="TextovéPole 4"/>
          <p:cNvSpPr/>
          <p:nvPr/>
        </p:nvSpPr>
        <p:spPr>
          <a:xfrm>
            <a:off x="1403280" y="4941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Křest Bořivoje a Ludmily (asi v roce 88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rázek 1" descr=""/>
          <p:cNvPicPr/>
          <p:nvPr/>
        </p:nvPicPr>
        <p:blipFill>
          <a:blip r:embed="rId1"/>
          <a:stretch/>
        </p:blipFill>
        <p:spPr>
          <a:xfrm>
            <a:off x="768240" y="620640"/>
            <a:ext cx="7620120" cy="43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TextovéPole 2"/>
          <p:cNvSpPr/>
          <p:nvPr/>
        </p:nvSpPr>
        <p:spPr>
          <a:xfrm>
            <a:off x="1403280" y="51418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Zavraždění Ludmily z rozhodnutí Drahomíry (92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7620120" cy="443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TextovéPole 2"/>
          <p:cNvSpPr/>
          <p:nvPr/>
        </p:nvSpPr>
        <p:spPr>
          <a:xfrm>
            <a:off x="1415880" y="530712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Zavraždění knížete Václava (935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ovéPole 3"/>
          <p:cNvSpPr/>
          <p:nvPr/>
        </p:nvSpPr>
        <p:spPr>
          <a:xfrm>
            <a:off x="378000" y="5307120"/>
            <a:ext cx="844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eorgia"/>
              </a:rPr>
              <a:t>Vláda Boleslava I. (tzv. „Ukrutného“)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Rozšíření vlivu Přemyslovců (až do dnešního Polska a na Slovensko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Vytvoření hradní soustav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Zrod české aristokrac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89120" y="836640"/>
            <a:ext cx="761976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1"/>
          <p:cNvSpPr/>
          <p:nvPr/>
        </p:nvSpPr>
        <p:spPr>
          <a:xfrm>
            <a:off x="971640" y="404640"/>
            <a:ext cx="7434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Calibri"/>
              </a:rPr>
              <a:t>http://cs.wikipedia.org/wiki/Soubor:Český_stát_v_X._století_za_Boleslava_I._a_II.jp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ázek 1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141960" cy="396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5" name="TextovéPole 2"/>
          <p:cNvSpPr/>
          <p:nvPr/>
        </p:nvSpPr>
        <p:spPr>
          <a:xfrm>
            <a:off x="378000" y="5084640"/>
            <a:ext cx="844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eorgia"/>
              </a:rPr>
              <a:t>Vláda Boleslava II. (tzv. „Pobožného“)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Založení biskupství v Praze (973) – připraveno otcem Boleslavem I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Sjednocení českého státu – vyvraždění Slavníkovců na Libici (995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9600" y="476280"/>
            <a:ext cx="626112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700" spc="-1" strike="noStrike">
                <a:solidFill>
                  <a:srgbClr val="ffffff"/>
                </a:solidFill>
                <a:latin typeface="Georgia"/>
              </a:rPr>
              <a:t>KRIZE </a:t>
            </a:r>
            <a:r>
              <a:rPr b="1" lang="cs-CZ" sz="2400" spc="-1" strike="noStrike">
                <a:solidFill>
                  <a:srgbClr val="ffffff"/>
                </a:solidFill>
                <a:latin typeface="Georgia"/>
              </a:rPr>
              <a:t>PŘEMYSLOVSKÉHO STÁTU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Georgia"/>
              </a:rPr>
              <a:t>(999-1014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403280" y="386064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Osobnost Boleslava III. (tzv. „Ryšavého“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POLSKO: Nově se rozpínající se so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ŘÍŠE: český kníže jako vazal císař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UHRY: Východní ri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ázek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679840" cy="401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TextovéPole 4"/>
          <p:cNvSpPr/>
          <p:nvPr/>
        </p:nvSpPr>
        <p:spPr>
          <a:xfrm>
            <a:off x="3591000" y="1700280"/>
            <a:ext cx="5040360" cy="2897640"/>
          </a:xfrm>
          <a:prstGeom prst="rect">
            <a:avLst/>
          </a:prstGeom>
          <a:solidFill>
            <a:srgbClr val="c0504d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eorgia"/>
              </a:rPr>
              <a:t>Boleslav III. (999-100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Územní ztráty (Polsk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Opozice (Vršovci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Likvidace konkurentů (sourozenci – Jaromír, Oldřich; matk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ovéPole 5" descr=""/>
          <p:cNvPicPr/>
          <p:nvPr/>
        </p:nvPicPr>
        <p:blipFill>
          <a:blip r:embed="rId1"/>
          <a:stretch/>
        </p:blipFill>
        <p:spPr>
          <a:xfrm>
            <a:off x="2255760" y="189000"/>
            <a:ext cx="5065920" cy="9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689120" y="1125360"/>
            <a:ext cx="6197760" cy="5011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9:28:10Z</dcterms:created>
  <dc:creator>martin</dc:creator>
  <dc:description/>
  <dc:language>en-US</dc:language>
  <cp:lastModifiedBy>martin</cp:lastModifiedBy>
  <dcterms:modified xsi:type="dcterms:W3CDTF">2013-01-12T12:25:32Z</dcterms:modified>
  <cp:revision>29</cp:revision>
  <dc:subject/>
  <dc:title>KRIZE PŘEMYSLOVSKÉHO STÁTU  (999-1014)</dc:title>
</cp:coreProperties>
</file>