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11633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9720" y="685440"/>
            <a:ext cx="5578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0EC1-01FA-4CB7-A421-99A1496A8F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639720" y="685800"/>
            <a:ext cx="55785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49D7-3DC1-4948-919D-8105B9EFEB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74E-BB77-4044-BBF1-4A0BD814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1004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8360" y="3964320"/>
            <a:ext cx="1004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15E-2E60-40CF-8BCA-0A4AFA48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0528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8360" y="396432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05280" y="396432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2F0-DF3F-40E8-926A-AAD944EA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240" y="160020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0120" y="160020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8360" y="396432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240" y="396432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0120" y="3964320"/>
            <a:ext cx="323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108-489F-4834-8C94-15CAEFAE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8360" y="1600200"/>
            <a:ext cx="10044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AD1-9D94-4868-8C83-95A2E60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1004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6FB-326F-417A-BE59-436350A1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490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05280" y="1600200"/>
            <a:ext cx="490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993-B581-4778-AED7-08C28A1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573-28DB-4FB3-B0A1-CEC4B138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8360" y="274320"/>
            <a:ext cx="1004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CFD-D1D6-41EE-AB51-F63D01A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05280" y="1600200"/>
            <a:ext cx="490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8360" y="396432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F4B-F176-4334-AEBD-57B3134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490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0528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05280" y="396432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4F1-7C16-4191-9C0F-EADBB81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36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05280" y="1600200"/>
            <a:ext cx="490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8360" y="3964320"/>
            <a:ext cx="1004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482-D491-42E4-B0E4-BD9AFA0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360" y="1600200"/>
            <a:ext cx="1004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8720" y="6244920"/>
            <a:ext cx="260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1320" y="6244920"/>
            <a:ext cx="3538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9560" y="6244920"/>
            <a:ext cx="260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D5A-50DD-4E3D-BA15-A027C8BFC4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418680"/>
            <a:ext cx="1003140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ffff"/>
                </a:solidFill>
                <a:latin typeface="Georgia"/>
              </a:rPr>
              <a:t>STOLETÁ VÁLK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3852720" y="2421000"/>
            <a:ext cx="3462480" cy="345132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6"/>
          <p:cNvSpPr/>
          <p:nvPr/>
        </p:nvSpPr>
        <p:spPr>
          <a:xfrm>
            <a:off x="8172360" y="4005360"/>
            <a:ext cx="2446560" cy="228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uvedené v této prezentaci – není-li výslovně uvedeno jinak – nepodléhají vzhledem k době svého vzniku žádným autorským právům; tyto práva již vyprše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"/>
          <p:cNvSpPr/>
          <p:nvPr/>
        </p:nvSpPr>
        <p:spPr>
          <a:xfrm>
            <a:off x="6156360" y="293760"/>
            <a:ext cx="457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6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2"/>
          <p:cNvGrpSpPr/>
          <p:nvPr/>
        </p:nvGrpSpPr>
        <p:grpSpPr>
          <a:xfrm>
            <a:off x="353880" y="182520"/>
            <a:ext cx="4980240" cy="658800"/>
            <a:chOff x="353880" y="182520"/>
            <a:chExt cx="4980240" cy="658800"/>
          </a:xfrm>
        </p:grpSpPr>
        <p:pic>
          <p:nvPicPr>
            <p:cNvPr id="53" name="Rectangle 2" descr=""/>
            <p:cNvPicPr/>
            <p:nvPr/>
          </p:nvPicPr>
          <p:blipFill>
            <a:blip r:embed="rId1"/>
            <a:stretch/>
          </p:blipFill>
          <p:spPr>
            <a:xfrm>
              <a:off x="353880" y="182520"/>
              <a:ext cx="4980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60360" y="189000"/>
              <a:ext cx="4967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PŘÍČINY KONFLIKTU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ovéPole 5"/>
          <p:cNvSpPr/>
          <p:nvPr/>
        </p:nvSpPr>
        <p:spPr>
          <a:xfrm>
            <a:off x="539640" y="141300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Územ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ŇATEK Jindřich Plantagenet/ANG + Alienor Aquitánská/FR = nejgeniálnější dynastický sňatek středověku (11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LA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5170320" cy="592128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6"/>
          <p:cNvSpPr/>
          <p:nvPr/>
        </p:nvSpPr>
        <p:spPr>
          <a:xfrm>
            <a:off x="5524560" y="6149880"/>
            <a:ext cx="49528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Angevin_empire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620720" y="3592440"/>
            <a:ext cx="3716280" cy="2865600"/>
          </a:xfrm>
          <a:prstGeom prst="rect">
            <a:avLst/>
          </a:prstGeom>
          <a:ln w="0">
            <a:noFill/>
          </a:ln>
        </p:spPr>
      </p:pic>
      <p:sp>
        <p:nvSpPr>
          <p:cNvPr id="59" name="Obdélník 6"/>
          <p:cNvSpPr/>
          <p:nvPr/>
        </p:nvSpPr>
        <p:spPr>
          <a:xfrm>
            <a:off x="1620720" y="5888160"/>
            <a:ext cx="37195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Flanders_in_Belgium_and_the_European_Union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ectangle 2"/>
          <p:cNvGrpSpPr/>
          <p:nvPr/>
        </p:nvGrpSpPr>
        <p:grpSpPr>
          <a:xfrm>
            <a:off x="244440" y="244440"/>
            <a:ext cx="5338800" cy="657360"/>
            <a:chOff x="244440" y="244440"/>
            <a:chExt cx="5338800" cy="657360"/>
          </a:xfrm>
        </p:grpSpPr>
        <p:pic>
          <p:nvPicPr>
            <p:cNvPr id="61" name="Rectangle 2" descr=""/>
            <p:cNvPicPr/>
            <p:nvPr/>
          </p:nvPicPr>
          <p:blipFill>
            <a:blip r:embed="rId1"/>
            <a:stretch/>
          </p:blipFill>
          <p:spPr>
            <a:xfrm>
              <a:off x="244440" y="244440"/>
              <a:ext cx="53388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360" y="247680"/>
              <a:ext cx="5327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1.FÁZE (1337-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Obrázek 3" descr=""/>
          <p:cNvPicPr/>
          <p:nvPr/>
        </p:nvPicPr>
        <p:blipFill>
          <a:blip r:embed="rId2"/>
          <a:stretch/>
        </p:blipFill>
        <p:spPr>
          <a:xfrm>
            <a:off x="252360" y="1268280"/>
            <a:ext cx="5327640" cy="531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Obrázek 4" descr=""/>
          <p:cNvPicPr/>
          <p:nvPr/>
        </p:nvPicPr>
        <p:blipFill>
          <a:blip r:embed="rId3"/>
          <a:stretch/>
        </p:blipFill>
        <p:spPr>
          <a:xfrm>
            <a:off x="5805360" y="247680"/>
            <a:ext cx="5088240" cy="439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Obrázek 5" descr=""/>
          <p:cNvPicPr/>
          <p:nvPr/>
        </p:nvPicPr>
        <p:blipFill>
          <a:blip r:embed="rId4"/>
          <a:stretch/>
        </p:blipFill>
        <p:spPr>
          <a:xfrm>
            <a:off x="5805360" y="4427640"/>
            <a:ext cx="1851120" cy="2151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ovéPole 6"/>
          <p:cNvSpPr/>
          <p:nvPr/>
        </p:nvSpPr>
        <p:spPr>
          <a:xfrm>
            <a:off x="7813800" y="4797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itva u Kresčaku/Crécy (1346) – porážka francouzských jednotekl a jejich spoje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681440" cy="394200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2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5435640" cy="449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2"/>
          <p:cNvGrpSpPr/>
          <p:nvPr/>
        </p:nvGrpSpPr>
        <p:grpSpPr>
          <a:xfrm>
            <a:off x="244440" y="244440"/>
            <a:ext cx="5338800" cy="657360"/>
            <a:chOff x="244440" y="244440"/>
            <a:chExt cx="5338800" cy="657360"/>
          </a:xfrm>
        </p:grpSpPr>
        <p:pic>
          <p:nvPicPr>
            <p:cNvPr id="70" name="Rectangle 2" descr=""/>
            <p:cNvPicPr/>
            <p:nvPr/>
          </p:nvPicPr>
          <p:blipFill>
            <a:blip r:embed="rId1"/>
            <a:stretch/>
          </p:blipFill>
          <p:spPr>
            <a:xfrm>
              <a:off x="244440" y="244440"/>
              <a:ext cx="53388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2360" y="247680"/>
              <a:ext cx="5327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2.FÁZE (1360-14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Obrázek 4" descr=""/>
          <p:cNvPicPr/>
          <p:nvPr/>
        </p:nvPicPr>
        <p:blipFill>
          <a:blip r:embed="rId2"/>
          <a:stretch/>
        </p:blipFill>
        <p:spPr>
          <a:xfrm>
            <a:off x="5797440" y="247680"/>
            <a:ext cx="4935600" cy="6070680"/>
          </a:xfrm>
          <a:prstGeom prst="rect">
            <a:avLst/>
          </a:prstGeom>
          <a:ln w="0">
            <a:noFill/>
          </a:ln>
        </p:spPr>
      </p:pic>
      <p:pic>
        <p:nvPicPr>
          <p:cNvPr id="73" name="Obrázek 7" descr=""/>
          <p:cNvPicPr/>
          <p:nvPr/>
        </p:nvPicPr>
        <p:blipFill>
          <a:blip r:embed="rId3"/>
          <a:stretch/>
        </p:blipFill>
        <p:spPr>
          <a:xfrm>
            <a:off x="252360" y="1125360"/>
            <a:ext cx="5327640" cy="5256360"/>
          </a:xfrm>
          <a:prstGeom prst="rect">
            <a:avLst/>
          </a:prstGeom>
          <a:ln w="0">
            <a:noFill/>
          </a:ln>
        </p:spPr>
      </p:pic>
      <p:grpSp>
        <p:nvGrpSpPr>
          <p:cNvPr id="74" name="Rectangle 2"/>
          <p:cNvGrpSpPr/>
          <p:nvPr/>
        </p:nvGrpSpPr>
        <p:grpSpPr>
          <a:xfrm>
            <a:off x="6870600" y="5583240"/>
            <a:ext cx="3962520" cy="847800"/>
            <a:chOff x="6870600" y="5583240"/>
            <a:chExt cx="3962520" cy="847800"/>
          </a:xfrm>
        </p:grpSpPr>
        <p:pic>
          <p:nvPicPr>
            <p:cNvPr id="75" name="Rectangle 2" descr=""/>
            <p:cNvPicPr/>
            <p:nvPr/>
          </p:nvPicPr>
          <p:blipFill>
            <a:blip r:embed="rId4"/>
            <a:stretch/>
          </p:blipFill>
          <p:spPr>
            <a:xfrm>
              <a:off x="6870600" y="5583240"/>
              <a:ext cx="3962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77080" y="5589720"/>
              <a:ext cx="3951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VÝSLEDKY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Znovudobytí francouzského územ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Obdélník 6"/>
          <p:cNvSpPr/>
          <p:nvPr/>
        </p:nvSpPr>
        <p:spPr>
          <a:xfrm>
            <a:off x="5797440" y="272880"/>
            <a:ext cx="4930920" cy="30708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Apanages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2"/>
          <p:cNvGrpSpPr/>
          <p:nvPr/>
        </p:nvGrpSpPr>
        <p:grpSpPr>
          <a:xfrm>
            <a:off x="244440" y="244440"/>
            <a:ext cx="4334040" cy="657360"/>
            <a:chOff x="244440" y="244440"/>
            <a:chExt cx="4334040" cy="657360"/>
          </a:xfrm>
        </p:grpSpPr>
        <p:pic>
          <p:nvPicPr>
            <p:cNvPr id="79" name="Rectangle 2" descr=""/>
            <p:cNvPicPr/>
            <p:nvPr/>
          </p:nvPicPr>
          <p:blipFill>
            <a:blip r:embed="rId1"/>
            <a:stretch/>
          </p:blipFill>
          <p:spPr>
            <a:xfrm>
              <a:off x="244440" y="244440"/>
              <a:ext cx="433404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52360" y="247680"/>
              <a:ext cx="4319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3.FÁZE (1415-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Obrázek 2" descr=""/>
          <p:cNvPicPr/>
          <p:nvPr/>
        </p:nvPicPr>
        <p:blipFill>
          <a:blip r:embed="rId2"/>
          <a:stretch/>
        </p:blipFill>
        <p:spPr>
          <a:xfrm>
            <a:off x="4789440" y="247680"/>
            <a:ext cx="5950080" cy="396540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4"/>
          <p:cNvSpPr/>
          <p:nvPr/>
        </p:nvSpPr>
        <p:spPr>
          <a:xfrm>
            <a:off x="4818240" y="424980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Bitva u Azincourtu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1415) – masakr franc.armá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Smlouva z Troy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1420) – vydědění francouzského krále, spojení anglické a francouzské korun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Obléhání Orleán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1428) – Jana z A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Rectangle 2"/>
          <p:cNvGrpSpPr/>
          <p:nvPr/>
        </p:nvGrpSpPr>
        <p:grpSpPr>
          <a:xfrm>
            <a:off x="244440" y="1189080"/>
            <a:ext cx="4394160" cy="3327480"/>
            <a:chOff x="244440" y="1189080"/>
            <a:chExt cx="4394160" cy="3327480"/>
          </a:xfrm>
        </p:grpSpPr>
        <p:pic>
          <p:nvPicPr>
            <p:cNvPr id="84" name="Rectangle 2" descr=""/>
            <p:cNvPicPr/>
            <p:nvPr/>
          </p:nvPicPr>
          <p:blipFill>
            <a:blip r:embed="rId3"/>
            <a:stretch/>
          </p:blipFill>
          <p:spPr>
            <a:xfrm>
              <a:off x="244440" y="1189080"/>
              <a:ext cx="4394160" cy="33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2360" y="1197000"/>
              <a:ext cx="438300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VÝSLEDKY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Konečné znovudobytí francouzského území – sjednocení Franc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Totální ekonomické vyčerpá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3) Noví nepřátelé Franci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Burgund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Španěl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Georgia"/>
                </a:rPr>
                <a:t>Habsburkové (Rakousko, Čechy, Říše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8360" y="274320"/>
            <a:ext cx="1004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2"/>
          <p:cNvSpPr/>
          <p:nvPr/>
        </p:nvSpPr>
        <p:spPr>
          <a:xfrm>
            <a:off x="539640" y="1844640"/>
            <a:ext cx="100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é 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ornej P., Čornejová I., Parkan F., Dějepis pro gymnázia a SŠ 2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9:20:41Z</dcterms:created>
  <dc:creator>lazza</dc:creator>
  <dc:description/>
  <dc:language>en-US</dc:language>
  <cp:lastModifiedBy>martin</cp:lastModifiedBy>
  <dcterms:modified xsi:type="dcterms:W3CDTF">2013-01-12T12:29:24Z</dcterms:modified>
  <cp:revision>96</cp:revision>
  <dc:subject/>
  <dc:title>KRUCIÁTY „VÁLKA SVĚTŮ“</dc:title>
</cp:coreProperties>
</file>