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DD6-7468-4EA7-8E19-F5532F2A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64E2-E656-42DF-94A4-918AEB0A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4FC-BA12-4859-A6F1-A3B8B4B1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8BD6-AAF8-42DA-B57C-B4913CBD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F7D-B2B0-420B-84F3-FC6C2BA2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0C4-E62E-49F9-8A7D-4BEBBA07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108-9760-4C21-9B76-CA02F786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F98-5551-4DBD-92BC-F251684F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195-BE7B-46B6-B798-D53F9CD6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A01-6689-48D6-8D35-79ACBEF4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503-B5C9-4523-B477-1CB4283F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8B9-757C-44C0-A6BB-DC2A9751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9929-D181-4117-8702-BF4D804304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0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1368360" y="476280"/>
            <a:ext cx="8282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800" spc="-1" strike="noStrike">
                <a:solidFill>
                  <a:srgbClr val="ffffff"/>
                </a:solidFill>
                <a:latin typeface="Perpetua Titling MT"/>
              </a:rPr>
              <a:t>SUD PRACHU</a:t>
            </a:r>
            <a:r>
              <a:rPr b="0" lang="en-US" sz="8800" spc="-1" strike="noStrike">
                <a:solidFill>
                  <a:srgbClr val="ffffff"/>
                </a:solidFill>
                <a:latin typeface="Perpetua Titling MT"/>
              </a:rPr>
              <a:t> </a:t>
            </a:r>
            <a:r>
              <a:rPr b="0" lang="cs-CZ" sz="6000" spc="-1" strike="noStrike">
                <a:solidFill>
                  <a:srgbClr val="ffffff"/>
                </a:solidFill>
                <a:latin typeface="Perpetua Titling MT"/>
              </a:rPr>
              <a:t>INSTALA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1406520" y="587700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ějiny  jihoslovanských nepoko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ovéPole 1"/>
          <p:cNvSpPr/>
          <p:nvPr/>
        </p:nvSpPr>
        <p:spPr>
          <a:xfrm>
            <a:off x="5410080" y="257040"/>
            <a:ext cx="508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14_preze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>
            <a:off x="8143920" y="4064040"/>
            <a:ext cx="2541600" cy="2040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šechny fotografie a obrázky – není-li výslovně uvedeno jinak – vzhledem k době svého vzniku nepodléhají žádným autorským právům nebo byly vytvořeny autorem pro účely této prez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4344840" y="3206880"/>
            <a:ext cx="2256120" cy="1500120"/>
          </a:xfrm>
          <a:prstGeom prst="rect">
            <a:avLst/>
          </a:prstGeom>
          <a:ln w="0">
            <a:noFill/>
          </a:ln>
        </p:spPr>
      </p:pic>
      <p:sp>
        <p:nvSpPr>
          <p:cNvPr id="46" name="Obdélník 9"/>
          <p:cNvSpPr/>
          <p:nvPr/>
        </p:nvSpPr>
        <p:spPr>
          <a:xfrm>
            <a:off x="3041640" y="4941720"/>
            <a:ext cx="48070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Srebrenica20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Ustashian_U_with_cross"/>
          <p:cNvPicPr/>
          <p:nvPr/>
        </p:nvPicPr>
        <p:blipFill>
          <a:blip r:embed="rId1"/>
          <a:stretch/>
        </p:blipFill>
        <p:spPr>
          <a:xfrm>
            <a:off x="431640" y="333360"/>
            <a:ext cx="1995480" cy="237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ante pavelić"/>
          <p:cNvPicPr/>
          <p:nvPr/>
        </p:nvPicPr>
        <p:blipFill>
          <a:blip r:embed="rId2"/>
          <a:srcRect l="0" t="3027" r="0" b="0"/>
          <a:stretch/>
        </p:blipFill>
        <p:spPr>
          <a:xfrm>
            <a:off x="3816360" y="476280"/>
            <a:ext cx="3297240" cy="4638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2" name="Picture 4" descr="Ustashian_U_with_cross"/>
          <p:cNvPicPr/>
          <p:nvPr/>
        </p:nvPicPr>
        <p:blipFill>
          <a:blip r:embed="rId3"/>
          <a:stretch/>
        </p:blipFill>
        <p:spPr>
          <a:xfrm>
            <a:off x="8424720" y="333360"/>
            <a:ext cx="1995480" cy="237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Ustashian_U_with_cross"/>
          <p:cNvPicPr/>
          <p:nvPr/>
        </p:nvPicPr>
        <p:blipFill>
          <a:blip r:embed="rId4"/>
          <a:stretch/>
        </p:blipFill>
        <p:spPr>
          <a:xfrm>
            <a:off x="431640" y="4076640"/>
            <a:ext cx="1995480" cy="23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Ustashian_U_with_cross"/>
          <p:cNvPicPr/>
          <p:nvPr/>
        </p:nvPicPr>
        <p:blipFill>
          <a:blip r:embed="rId5"/>
          <a:stretch/>
        </p:blipFill>
        <p:spPr>
          <a:xfrm>
            <a:off x="8424720" y="4005360"/>
            <a:ext cx="1995480" cy="2374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4248000" y="5661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Palatino Linotype"/>
              </a:rPr>
              <a:t>USTAŠ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473800" y="476280"/>
            <a:ext cx="1655640" cy="70380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Palatino Linotype"/>
              </a:rPr>
              <a:t>Ante Pavel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stepinac_ustase"/>
          <p:cNvPicPr/>
          <p:nvPr/>
        </p:nvPicPr>
        <p:blipFill>
          <a:blip r:embed="rId1"/>
          <a:stretch/>
        </p:blipFill>
        <p:spPr>
          <a:xfrm>
            <a:off x="2376360" y="765000"/>
            <a:ext cx="6264360" cy="469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8" name="Text Box 4"/>
          <p:cNvSpPr/>
          <p:nvPr/>
        </p:nvSpPr>
        <p:spPr>
          <a:xfrm>
            <a:off x="3816360" y="566100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Katolický nacion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jasenovac34v"/>
          <p:cNvPicPr/>
          <p:nvPr/>
        </p:nvPicPr>
        <p:blipFill>
          <a:blip r:embed="rId1"/>
          <a:stretch/>
        </p:blipFill>
        <p:spPr>
          <a:xfrm>
            <a:off x="3097080" y="260280"/>
            <a:ext cx="4454640" cy="5472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Text Box 7"/>
          <p:cNvSpPr/>
          <p:nvPr/>
        </p:nvSpPr>
        <p:spPr>
          <a:xfrm>
            <a:off x="2305080" y="59500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Lágr Jasenovac, Chorvat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josip_broz_tito_large"/>
          <p:cNvPicPr/>
          <p:nvPr/>
        </p:nvPicPr>
        <p:blipFill>
          <a:blip r:embed="rId1"/>
          <a:srcRect l="0" t="0" r="12577" b="0"/>
          <a:stretch/>
        </p:blipFill>
        <p:spPr>
          <a:xfrm>
            <a:off x="3456000" y="549360"/>
            <a:ext cx="4056120" cy="4895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Picture 4" descr="cetnici zastava"/>
          <p:cNvPicPr/>
          <p:nvPr/>
        </p:nvPicPr>
        <p:blipFill>
          <a:blip r:embed="rId2"/>
          <a:stretch/>
        </p:blipFill>
        <p:spPr>
          <a:xfrm>
            <a:off x="431640" y="333360"/>
            <a:ext cx="2953080" cy="19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Picture 6" descr="cetnici zastava"/>
          <p:cNvPicPr/>
          <p:nvPr/>
        </p:nvPicPr>
        <p:blipFill>
          <a:blip r:embed="rId3"/>
          <a:stretch/>
        </p:blipFill>
        <p:spPr>
          <a:xfrm>
            <a:off x="431640" y="4533840"/>
            <a:ext cx="2953080" cy="19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Picture 7" descr="cetnici zastava"/>
          <p:cNvPicPr/>
          <p:nvPr/>
        </p:nvPicPr>
        <p:blipFill>
          <a:blip r:embed="rId4"/>
          <a:stretch/>
        </p:blipFill>
        <p:spPr>
          <a:xfrm>
            <a:off x="7561440" y="4533840"/>
            <a:ext cx="2950920" cy="196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5" name="Picture 8" descr="cetnici zastava"/>
          <p:cNvPicPr/>
          <p:nvPr/>
        </p:nvPicPr>
        <p:blipFill>
          <a:blip r:embed="rId5"/>
          <a:stretch/>
        </p:blipFill>
        <p:spPr>
          <a:xfrm>
            <a:off x="7561440" y="333360"/>
            <a:ext cx="3024000" cy="201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6" name="Text Box 9"/>
          <p:cNvSpPr/>
          <p:nvPr/>
        </p:nvSpPr>
        <p:spPr>
          <a:xfrm>
            <a:off x="3384720" y="5734080"/>
            <a:ext cx="4105080" cy="642600"/>
          </a:xfrm>
          <a:prstGeom prst="rect">
            <a:avLst/>
          </a:prstGeom>
          <a:solidFill>
            <a:srgbClr val="3333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Palatino Linotype"/>
              </a:rPr>
              <a:t>JOSIP BROZ T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kragujevac_oktobar_1941"/>
          <p:cNvPicPr/>
          <p:nvPr/>
        </p:nvPicPr>
        <p:blipFill>
          <a:blip r:embed="rId1"/>
          <a:stretch/>
        </p:blipFill>
        <p:spPr>
          <a:xfrm>
            <a:off x="720720" y="476280"/>
            <a:ext cx="3613320" cy="5113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8" name="Text Box 4"/>
          <p:cNvSpPr/>
          <p:nvPr/>
        </p:nvSpPr>
        <p:spPr>
          <a:xfrm>
            <a:off x="720720" y="57340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553080" y="573408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Foča, Goražde, Višeg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himler"/>
          <p:cNvPicPr/>
          <p:nvPr/>
        </p:nvPicPr>
        <p:blipFill>
          <a:blip r:embed="rId2"/>
          <a:stretch/>
        </p:blipFill>
        <p:spPr>
          <a:xfrm>
            <a:off x="3313080" y="4724280"/>
            <a:ext cx="1069920" cy="1366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1" name="Picture 7" descr="josip_broz_tito_large"/>
          <p:cNvPicPr/>
          <p:nvPr/>
        </p:nvPicPr>
        <p:blipFill>
          <a:blip r:embed="rId3"/>
          <a:srcRect l="0" t="0" r="14983" b="0"/>
          <a:stretch/>
        </p:blipFill>
        <p:spPr>
          <a:xfrm>
            <a:off x="4537080" y="4724280"/>
            <a:ext cx="1101600" cy="136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4549680" y="476280"/>
            <a:ext cx="5249880" cy="326700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1"/>
          <p:cNvSpPr/>
          <p:nvPr/>
        </p:nvSpPr>
        <p:spPr>
          <a:xfrm>
            <a:off x="4549680" y="3933720"/>
            <a:ext cx="54705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Foca_Panoram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865080" y="692280"/>
            <a:ext cx="95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Perpetua Titling MT"/>
              </a:rPr>
              <a:t>SUD PRACHU. U</a:t>
            </a:r>
            <a:r>
              <a:rPr b="0" lang="en-US" sz="5400" spc="-1" strike="noStrike">
                <a:solidFill>
                  <a:srgbClr val="ffffff"/>
                </a:solidFill>
                <a:latin typeface="Perpetua Titling MT"/>
              </a:rPr>
              <a:t>DU</a:t>
            </a:r>
            <a:r>
              <a:rPr b="0" lang="cs-CZ" sz="5400" spc="-1" strike="noStrike">
                <a:solidFill>
                  <a:srgbClr val="ffffff"/>
                </a:solidFill>
                <a:latin typeface="Perpetua Titling MT"/>
              </a:rPr>
              <a:t>Še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27480" y="1916280"/>
            <a:ext cx="65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STUDENÁ VÁLKA A TLUMENÍ VÁ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4344840" y="3206880"/>
            <a:ext cx="2256120" cy="15001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7"/>
          <p:cNvSpPr/>
          <p:nvPr/>
        </p:nvSpPr>
        <p:spPr>
          <a:xfrm>
            <a:off x="3041640" y="4941720"/>
            <a:ext cx="48070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Srebrenica20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20080612090754!Cold_war_europe_military_alliances_map_en"/>
          <p:cNvPicPr/>
          <p:nvPr/>
        </p:nvPicPr>
        <p:blipFill>
          <a:blip r:embed="rId1"/>
          <a:stretch/>
        </p:blipFill>
        <p:spPr>
          <a:xfrm>
            <a:off x="2521080" y="260280"/>
            <a:ext cx="6011640" cy="6193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9" name="Picture 6" descr="josip_broz_tito_large"/>
          <p:cNvPicPr/>
          <p:nvPr/>
        </p:nvPicPr>
        <p:blipFill>
          <a:blip r:embed="rId2"/>
          <a:stretch/>
        </p:blipFill>
        <p:spPr>
          <a:xfrm>
            <a:off x="504720" y="4653000"/>
            <a:ext cx="1720800" cy="1817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0" name="Picture 7" descr="stalin"/>
          <p:cNvPicPr/>
          <p:nvPr/>
        </p:nvPicPr>
        <p:blipFill>
          <a:blip r:embed="rId3"/>
          <a:srcRect l="19319" t="2617" r="22930" b="54950"/>
          <a:stretch/>
        </p:blipFill>
        <p:spPr>
          <a:xfrm>
            <a:off x="8856720" y="260280"/>
            <a:ext cx="1622520" cy="1730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1" name="Text Box 8"/>
          <p:cNvSpPr/>
          <p:nvPr/>
        </p:nvSpPr>
        <p:spPr>
          <a:xfrm>
            <a:off x="576360" y="260280"/>
            <a:ext cx="4608360" cy="825480"/>
          </a:xfrm>
          <a:prstGeom prst="rect">
            <a:avLst/>
          </a:prstGeom>
          <a:solidFill>
            <a:srgbClr val="ff5050">
              <a:alpha val="8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Palatino Linotype"/>
              </a:rPr>
              <a:t>NATO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Palatino Linotype"/>
              </a:rPr>
              <a:t>vs.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Var</a:t>
            </a:r>
            <a:r>
              <a:rPr b="1" lang="cs-CZ" sz="2400" spc="-1" strike="noStrike">
                <a:solidFill>
                  <a:srgbClr val="ffffff"/>
                </a:solidFill>
                <a:latin typeface="Palatino Linotype"/>
              </a:rPr>
              <a:t>šavská smlou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4105440" y="3500280"/>
            <a:ext cx="1871640" cy="122400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4248000" y="4365720"/>
            <a:ext cx="1944720" cy="57456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3960720" y="5084280"/>
            <a:ext cx="2303640" cy="7308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 flipV="1">
            <a:off x="5905440" y="5157720"/>
            <a:ext cx="503280" cy="43200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5184720" y="3573360"/>
            <a:ext cx="1008000" cy="122400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689440" y="5950080"/>
            <a:ext cx="4896000" cy="825480"/>
          </a:xfrm>
          <a:prstGeom prst="rect">
            <a:avLst/>
          </a:prstGeom>
          <a:solidFill>
            <a:srgbClr val="6666ff">
              <a:alpha val="8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Palatino Linotype"/>
              </a:rPr>
              <a:t>Josip Broz Tito vs. </a:t>
            </a:r>
            <a:r>
              <a:rPr b="1" lang="cs-CZ" sz="2400" spc="-1" strike="noStrike">
                <a:solidFill>
                  <a:srgbClr val="ff0000"/>
                </a:solidFill>
                <a:latin typeface="Palatino Linotype"/>
              </a:rPr>
              <a:t>Josif V.St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1"/>
          <p:cNvSpPr/>
          <p:nvPr/>
        </p:nvSpPr>
        <p:spPr>
          <a:xfrm>
            <a:off x="593640" y="2708280"/>
            <a:ext cx="171000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Cold_war_europe_military_alliances_map_en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48000" y="620640"/>
            <a:ext cx="604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Perpetua Titling MT"/>
              </a:rPr>
              <a:t>PROLO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512080" y="1844640"/>
            <a:ext cx="58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20.STOLETÍ ZAČÍNÁ SARAJEV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4344840" y="3206880"/>
            <a:ext cx="2256120" cy="1500120"/>
          </a:xfrm>
          <a:prstGeom prst="rect">
            <a:avLst/>
          </a:prstGeom>
          <a:ln w="0">
            <a:noFill/>
          </a:ln>
        </p:spPr>
      </p:pic>
      <p:sp>
        <p:nvSpPr>
          <p:cNvPr id="50" name="Obdélník 1"/>
          <p:cNvSpPr/>
          <p:nvPr/>
        </p:nvSpPr>
        <p:spPr>
          <a:xfrm>
            <a:off x="3041640" y="4941720"/>
            <a:ext cx="48070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Srebrenica20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sarejevo"/>
          <p:cNvPicPr/>
          <p:nvPr/>
        </p:nvPicPr>
        <p:blipFill>
          <a:blip r:embed="rId1"/>
          <a:srcRect l="2962" t="7667" r="1974" b="5076"/>
          <a:stretch/>
        </p:blipFill>
        <p:spPr>
          <a:xfrm>
            <a:off x="5400720" y="333360"/>
            <a:ext cx="5051520" cy="6054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2" name="Text Box 4"/>
          <p:cNvSpPr/>
          <p:nvPr/>
        </p:nvSpPr>
        <p:spPr>
          <a:xfrm>
            <a:off x="647640" y="371628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Bosna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 a Hercegovina</a:t>
            </a: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, červen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isleithanien_Transleithanien"/>
          <p:cNvPicPr/>
          <p:nvPr/>
        </p:nvPicPr>
        <p:blipFill>
          <a:blip r:embed="rId2"/>
          <a:stretch/>
        </p:blipFill>
        <p:spPr>
          <a:xfrm>
            <a:off x="647640" y="260280"/>
            <a:ext cx="4392720" cy="3235320"/>
          </a:xfrm>
          <a:prstGeom prst="rect">
            <a:avLst/>
          </a:prstGeom>
          <a:ln w="0">
            <a:noFill/>
          </a:ln>
        </p:spPr>
      </p:pic>
      <p:sp>
        <p:nvSpPr>
          <p:cNvPr id="54" name="Oval 6"/>
          <p:cNvSpPr/>
          <p:nvPr/>
        </p:nvSpPr>
        <p:spPr>
          <a:xfrm>
            <a:off x="2232000" y="2349360"/>
            <a:ext cx="1081080" cy="1081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865080" y="558972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František Ferdinand d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’Este, Sarajevo, 28.</a:t>
            </a: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června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isleithanien_Transleithanien"/>
          <p:cNvPicPr/>
          <p:nvPr/>
        </p:nvPicPr>
        <p:blipFill>
          <a:blip r:embed="rId1"/>
          <a:stretch/>
        </p:blipFill>
        <p:spPr>
          <a:xfrm>
            <a:off x="2592360" y="907920"/>
            <a:ext cx="5761080" cy="424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Text Box 7"/>
          <p:cNvSpPr/>
          <p:nvPr/>
        </p:nvSpPr>
        <p:spPr>
          <a:xfrm>
            <a:off x="2448000" y="532764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Rakousko-Uherský dualismus (od r.18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Cisleithanien_Transleithanien1"/>
          <p:cNvPicPr/>
          <p:nvPr/>
        </p:nvPicPr>
        <p:blipFill>
          <a:blip r:embed="rId2"/>
          <a:stretch/>
        </p:blipFill>
        <p:spPr>
          <a:xfrm>
            <a:off x="2592360" y="907920"/>
            <a:ext cx="5761080" cy="424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isleithanien_Transleithanien2"/>
          <p:cNvPicPr/>
          <p:nvPr/>
        </p:nvPicPr>
        <p:blipFill>
          <a:blip r:embed="rId3"/>
          <a:stretch/>
        </p:blipFill>
        <p:spPr>
          <a:xfrm>
            <a:off x="2592360" y="907920"/>
            <a:ext cx="5761080" cy="4245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Cisleithanien_Transleithanien3"/>
          <p:cNvPicPr/>
          <p:nvPr/>
        </p:nvPicPr>
        <p:blipFill>
          <a:blip r:embed="rId4"/>
          <a:stretch/>
        </p:blipFill>
        <p:spPr>
          <a:xfrm>
            <a:off x="2592360" y="907920"/>
            <a:ext cx="5761080" cy="4245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4248000" y="5742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Trial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865080" y="692280"/>
            <a:ext cx="95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Perpetua Titling MT"/>
              </a:rPr>
              <a:t>SUD PRACHU. INSTAL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799640" y="177336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1.SVĚTOVÁ VÁLKA A VZNIK JUGOSLÁ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4344840" y="3206880"/>
            <a:ext cx="2256120" cy="15001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7"/>
          <p:cNvSpPr/>
          <p:nvPr/>
        </p:nvSpPr>
        <p:spPr>
          <a:xfrm>
            <a:off x="3041640" y="4941720"/>
            <a:ext cx="48070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Srebrenica20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dalmacia"/>
          <p:cNvPicPr/>
          <p:nvPr/>
        </p:nvPicPr>
        <p:blipFill>
          <a:blip r:embed="rId1"/>
          <a:stretch/>
        </p:blipFill>
        <p:spPr>
          <a:xfrm>
            <a:off x="2376360" y="765000"/>
            <a:ext cx="6264360" cy="4613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6" descr="kransko"/>
          <p:cNvPicPr/>
          <p:nvPr/>
        </p:nvPicPr>
        <p:blipFill>
          <a:blip r:embed="rId2"/>
          <a:stretch/>
        </p:blipFill>
        <p:spPr>
          <a:xfrm>
            <a:off x="2376360" y="765000"/>
            <a:ext cx="6264360" cy="461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uhry"/>
          <p:cNvPicPr/>
          <p:nvPr/>
        </p:nvPicPr>
        <p:blipFill>
          <a:blip r:embed="rId3"/>
          <a:stretch/>
        </p:blipFill>
        <p:spPr>
          <a:xfrm>
            <a:off x="2376360" y="765000"/>
            <a:ext cx="6264360" cy="4615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bosna"/>
          <p:cNvPicPr/>
          <p:nvPr/>
        </p:nvPicPr>
        <p:blipFill>
          <a:blip r:embed="rId4"/>
          <a:stretch/>
        </p:blipFill>
        <p:spPr>
          <a:xfrm>
            <a:off x="2376360" y="765000"/>
            <a:ext cx="6264360" cy="461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srbsko"/>
          <p:cNvPicPr/>
          <p:nvPr/>
        </p:nvPicPr>
        <p:blipFill>
          <a:blip r:embed="rId5"/>
          <a:stretch/>
        </p:blipFill>
        <p:spPr>
          <a:xfrm>
            <a:off x="2376360" y="765000"/>
            <a:ext cx="6264360" cy="4615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3313080" y="765000"/>
            <a:ext cx="4249800" cy="459720"/>
          </a:xfrm>
          <a:prstGeom prst="rect">
            <a:avLst/>
          </a:prstGeom>
          <a:solidFill>
            <a:srgbClr val="ff0000">
              <a:alpha val="8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Palatino Linotype"/>
              </a:rPr>
              <a:t>Historické disprop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736720" y="566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Palatino Linotype"/>
              </a:rPr>
              <a:t>Dalm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0472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cc00"/>
                </a:solidFill>
                <a:latin typeface="Palatino Linotype"/>
              </a:rPr>
              <a:t>Kraň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8929800" y="3933720"/>
            <a:ext cx="25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6600"/>
                </a:solidFill>
                <a:latin typeface="Palatino Linotype"/>
              </a:rPr>
              <a:t>Chorvatsko Slavonie Vojv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040360" y="566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fe901"/>
                </a:solidFill>
                <a:latin typeface="Palatino Linotype"/>
              </a:rPr>
              <a:t>Bo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697800" y="566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Palatino Linotype"/>
              </a:rPr>
              <a:t>Srb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8569440" y="580536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Palatino Linotype"/>
              </a:rPr>
              <a:t>Makedonie, Kos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yugoslav1"/>
          <p:cNvPicPr/>
          <p:nvPr/>
        </p:nvPicPr>
        <p:blipFill>
          <a:blip r:embed="rId1"/>
          <a:stretch/>
        </p:blipFill>
        <p:spPr>
          <a:xfrm>
            <a:off x="2664000" y="330120"/>
            <a:ext cx="5976720" cy="5946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9" name="Picture 3" descr="yugoslav"/>
          <p:cNvPicPr/>
          <p:nvPr/>
        </p:nvPicPr>
        <p:blipFill>
          <a:blip r:embed="rId2"/>
          <a:stretch/>
        </p:blipFill>
        <p:spPr>
          <a:xfrm>
            <a:off x="2664000" y="333360"/>
            <a:ext cx="5976720" cy="5946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0" name="Text Box 4"/>
          <p:cNvSpPr/>
          <p:nvPr/>
        </p:nvSpPr>
        <p:spPr>
          <a:xfrm>
            <a:off x="1224000" y="260280"/>
            <a:ext cx="4032360" cy="825480"/>
          </a:xfrm>
          <a:prstGeom prst="rect">
            <a:avLst/>
          </a:prstGeom>
          <a:solidFill>
            <a:srgbClr val="ff00ff">
              <a:alpha val="8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Palatino Linotype"/>
              </a:rPr>
              <a:t>Etnické, náboženské a ekonomické disprop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1"/>
          <p:cNvSpPr/>
          <p:nvPr/>
        </p:nvSpPr>
        <p:spPr>
          <a:xfrm>
            <a:off x="431640" y="2490840"/>
            <a:ext cx="2060640" cy="410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0000"/>
                </a:solidFill>
                <a:latin typeface="Arial"/>
              </a:rPr>
              <a:t>http://www.google.cz/imgres?imgurl=http://chnm.gmu.edu/1989/files/display/181/fullsize&amp;imgrefurl=http://chnm.gmu.edu/1989/items/show/170&amp;h=704&amp;w=600&amp;sz=68&amp;tbnid=zdCWNi4w7dmZDM:&amp;tbnh=90&amp;tbnw=77&amp;prev=/search%3Fq%3Dyugoslavia%2Bethnic%2Bcomposition%26tbm%3Disch%26tbo%3Du&amp;zoom=1&amp;q=yugoslavia+ethnic+composition&amp;usg=__e-UIQsLfKgML9rGA-_Aat2UyUlw=&amp;docid=8OGUu2kDzy_DdM&amp;hl=cs&amp;sa=X&amp;ei=Tb0sUIeONafE4gTh2YGYCw&amp;ved=0CFwQ9QEwAg&amp;dur=4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865080" y="692280"/>
            <a:ext cx="95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Perpetua Titling MT"/>
              </a:rPr>
              <a:t>SUD PRACHU. </a:t>
            </a:r>
            <a:r>
              <a:rPr b="0" lang="en-US" sz="5400" spc="-1" strike="noStrike">
                <a:solidFill>
                  <a:srgbClr val="ffffff"/>
                </a:solidFill>
                <a:latin typeface="Perpetua Titling MT"/>
              </a:rPr>
              <a:t>PODP</a:t>
            </a:r>
            <a:r>
              <a:rPr b="0" lang="cs-CZ" sz="5400" spc="-1" strike="noStrike">
                <a:solidFill>
                  <a:srgbClr val="ffffff"/>
                </a:solidFill>
                <a:latin typeface="Perpetua Titling MT"/>
              </a:rPr>
              <a:t>á</a:t>
            </a:r>
            <a:r>
              <a:rPr b="0" lang="en-US" sz="5400" spc="-1" strike="noStrike">
                <a:solidFill>
                  <a:srgbClr val="ffffff"/>
                </a:solidFill>
                <a:latin typeface="Perpetua Titling MT"/>
              </a:rPr>
              <a:t>LEN</a:t>
            </a:r>
            <a:r>
              <a:rPr b="0" lang="cs-CZ" sz="5400" spc="-1" strike="noStrike">
                <a:solidFill>
                  <a:srgbClr val="ffffff"/>
                </a:solidFill>
                <a:latin typeface="Perpetua Titling MT"/>
              </a:rPr>
              <a:t>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092320" y="1916280"/>
            <a:ext cx="68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Palatino Linotype"/>
                <a:ea typeface="Arial Unicode MS"/>
              </a:rPr>
              <a:t>2.SVĚTOVÁ VÁLKA A ČTVRCENÍ 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344840" y="3206880"/>
            <a:ext cx="2256120" cy="1500120"/>
          </a:xfrm>
          <a:prstGeom prst="rect">
            <a:avLst/>
          </a:prstGeom>
          <a:ln w="0">
            <a:noFill/>
          </a:ln>
        </p:spPr>
      </p:pic>
      <p:sp>
        <p:nvSpPr>
          <p:cNvPr id="85" name="Obdélník 8"/>
          <p:cNvSpPr/>
          <p:nvPr/>
        </p:nvSpPr>
        <p:spPr>
          <a:xfrm>
            <a:off x="3041640" y="4941720"/>
            <a:ext cx="48070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Srebrenica20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2305080" y="692280"/>
            <a:ext cx="516240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Oval 7"/>
          <p:cNvSpPr/>
          <p:nvPr/>
        </p:nvSpPr>
        <p:spPr>
          <a:xfrm>
            <a:off x="2592360" y="2492280"/>
            <a:ext cx="3024360" cy="302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337440" y="692280"/>
            <a:ext cx="2952720" cy="459720"/>
          </a:xfrm>
          <a:prstGeom prst="rect">
            <a:avLst/>
          </a:prstGeom>
          <a:solidFill>
            <a:srgbClr val="99cc00">
              <a:alpha val="8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Palatino Linotype"/>
              </a:rPr>
              <a:t>Čtvrcení zem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"/>
          <p:cNvSpPr/>
          <p:nvPr/>
        </p:nvSpPr>
        <p:spPr>
          <a:xfrm>
            <a:off x="7813800" y="5659560"/>
            <a:ext cx="28670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Velika_Hrvatska_(Hrvatski_Domobran)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20:48:58Z</dcterms:created>
  <dc:creator>lazza</dc:creator>
  <dc:description/>
  <dc:language>en-US</dc:language>
  <cp:lastModifiedBy>martin</cp:lastModifiedBy>
  <dcterms:modified xsi:type="dcterms:W3CDTF">2012-08-16T09:40:37Z</dcterms:modified>
  <cp:revision>366</cp:revision>
  <dc:subject/>
  <dc:title>VZKÁZÁNÍ ZE DNA NOCI</dc:title>
</cp:coreProperties>
</file>