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9077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EAB-BC1B-42A3-97F8-B626CA3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9823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520" y="3964320"/>
            <a:ext cx="9823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7C9-92D8-4DFF-ADFE-0B828C2D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640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520" y="396432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6400" y="396432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294-4BB9-4689-85FB-A010B02A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3880" y="160020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85600" y="160020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520" y="396432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3880" y="396432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85600" y="3964320"/>
            <a:ext cx="316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732-E0B8-4B7E-8A2D-F673A90F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520" y="1600200"/>
            <a:ext cx="9823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583-4200-4FB7-9613-55DD0A1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982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28E-FDB6-4A08-8166-95D6EA1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479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6400" y="1600200"/>
            <a:ext cx="479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C49-1605-4E97-BB5A-A395F88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85D-9D7E-4769-930E-6CB0478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520" y="274320"/>
            <a:ext cx="982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16F-AAD5-4E78-8EE2-E5E2FB4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6400" y="1600200"/>
            <a:ext cx="479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520" y="396432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ACC-C371-4BEF-BFA6-34AB995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479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640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6400" y="396432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85A-C430-4841-AB3C-716F7A0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52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6400" y="1600200"/>
            <a:ext cx="479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520" y="3964320"/>
            <a:ext cx="9823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6CE-8CA9-40B2-9286-1839664B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66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520" y="274320"/>
            <a:ext cx="98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520" y="1600200"/>
            <a:ext cx="982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6244920"/>
            <a:ext cx="254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26000" y="6244920"/>
            <a:ext cx="345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9560" y="6244920"/>
            <a:ext cx="254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BE86-6499-40BC-BB3B-D316D0A551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85640" y="765000"/>
            <a:ext cx="1000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O</a:t>
            </a:r>
            <a:r>
              <a:rPr b="1" lang="cs-CZ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ĚKÝ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PT</a:t>
            </a:r>
            <a:r>
              <a:rPr b="1" lang="cs-CZ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ŘEBNÍ RITU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up"/>
          <p:cNvPicPr/>
          <p:nvPr/>
        </p:nvPicPr>
        <p:blipFill>
          <a:blip r:embed="rId1"/>
          <a:stretch/>
        </p:blipFill>
        <p:spPr>
          <a:xfrm>
            <a:off x="3294000" y="3213000"/>
            <a:ext cx="4830840" cy="2997360"/>
          </a:xfrm>
          <a:prstGeom prst="rect">
            <a:avLst/>
          </a:prstGeom>
          <a:ln w="0">
            <a:noFill/>
          </a:ln>
        </p:spPr>
      </p:pic>
      <p:sp>
        <p:nvSpPr>
          <p:cNvPr id="43" name="Obdélník 5"/>
          <p:cNvSpPr/>
          <p:nvPr/>
        </p:nvSpPr>
        <p:spPr>
          <a:xfrm>
            <a:off x="8578800" y="3902040"/>
            <a:ext cx="1916280" cy="228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fotografie a obrázky – není-li výslovně uvedeno jinak – vzhledem k době svého vzniku nepodléhají žádným autorským právům; tyto práva již vyprš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410080" y="257040"/>
            <a:ext cx="508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3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amulet skarab"/>
          <p:cNvPicPr/>
          <p:nvPr/>
        </p:nvPicPr>
        <p:blipFill>
          <a:blip r:embed="rId1"/>
          <a:stretch/>
        </p:blipFill>
        <p:spPr>
          <a:xfrm>
            <a:off x="1062000" y="1268280"/>
            <a:ext cx="4392720" cy="385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karabeus-na-barce_3"/>
          <p:cNvPicPr/>
          <p:nvPr/>
        </p:nvPicPr>
        <p:blipFill>
          <a:blip r:embed="rId2"/>
          <a:stretch/>
        </p:blipFill>
        <p:spPr>
          <a:xfrm>
            <a:off x="5886360" y="1197000"/>
            <a:ext cx="4608720" cy="4384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367080" y="587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Skarab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070000" y="620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4) RAK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tut-middle-coffin"/>
          <p:cNvPicPr/>
          <p:nvPr/>
        </p:nvPicPr>
        <p:blipFill>
          <a:blip r:embed="rId1"/>
          <a:stretch/>
        </p:blipFill>
        <p:spPr>
          <a:xfrm>
            <a:off x="6446880" y="3522600"/>
            <a:ext cx="3778200" cy="255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528480" y="1322280"/>
            <a:ext cx="5627880" cy="4513320"/>
          </a:xfrm>
          <a:prstGeom prst="rect">
            <a:avLst/>
          </a:prstGeom>
          <a:ln w="0">
            <a:noFill/>
          </a:ln>
        </p:spPr>
      </p:pic>
      <p:sp>
        <p:nvSpPr>
          <p:cNvPr id="81" name="Obdélník 1"/>
          <p:cNvSpPr/>
          <p:nvPr/>
        </p:nvSpPr>
        <p:spPr>
          <a:xfrm>
            <a:off x="528480" y="1328760"/>
            <a:ext cx="54547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hrinesandsarcophagos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28480" y="5877000"/>
            <a:ext cx="49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Průřez Tutanchamonovým sarkofág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6446880" y="376200"/>
            <a:ext cx="2179440" cy="290844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2"/>
          <p:cNvSpPr/>
          <p:nvPr/>
        </p:nvSpPr>
        <p:spPr>
          <a:xfrm>
            <a:off x="8607600" y="2550960"/>
            <a:ext cx="185076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offin_of_Gu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578800" y="361800"/>
            <a:ext cx="21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Text rak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286000" y="333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5) SARKOF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2406600" y="1143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Obdélník 1"/>
          <p:cNvSpPr/>
          <p:nvPr/>
        </p:nvSpPr>
        <p:spPr>
          <a:xfrm>
            <a:off x="2838600" y="5345280"/>
            <a:ext cx="4560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Egypt.KV8.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717640" y="59500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Faraon Merenptah (13.st. 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délník 1"/>
          <p:cNvSpPr/>
          <p:nvPr/>
        </p:nvSpPr>
        <p:spPr>
          <a:xfrm>
            <a:off x="485640" y="549360"/>
            <a:ext cx="95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užité pramen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álková, V., Popelka, V, Dějepis pro gymnázia a SŠ 1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Bookdead"/>
          <p:cNvPicPr/>
          <p:nvPr/>
        </p:nvPicPr>
        <p:blipFill>
          <a:blip r:embed="rId1"/>
          <a:stretch/>
        </p:blipFill>
        <p:spPr>
          <a:xfrm>
            <a:off x="774720" y="1125360"/>
            <a:ext cx="9577440" cy="4942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2502000" y="404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KNIHA MRTV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41280" y="6165720"/>
            <a:ext cx="10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man Old Style"/>
              </a:rPr>
              <a:t>Najděte: mrtvého krále, soud Bohů, vážení srdcí, zapisovatele hříchů, Velkou požíra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niha mrtvych1"/>
          <p:cNvPicPr/>
          <p:nvPr/>
        </p:nvPicPr>
        <p:blipFill>
          <a:blip r:embed="rId1"/>
          <a:stretch/>
        </p:blipFill>
        <p:spPr>
          <a:xfrm>
            <a:off x="917640" y="1125360"/>
            <a:ext cx="9217080" cy="4453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917640" y="5630760"/>
            <a:ext cx="92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Anubis (průvodce), Váha (duše obtížená hříchy  x pštrosí pero), Thovt (zapisovatel), Amemait (Velká požíra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nubis1"/>
          <p:cNvPicPr/>
          <p:nvPr/>
        </p:nvPicPr>
        <p:blipFill>
          <a:blip r:embed="rId1"/>
          <a:stretch/>
        </p:blipFill>
        <p:spPr>
          <a:xfrm>
            <a:off x="630360" y="476280"/>
            <a:ext cx="2665440" cy="571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thoth"/>
          <p:cNvPicPr/>
          <p:nvPr/>
        </p:nvPicPr>
        <p:blipFill>
          <a:blip r:embed="rId2"/>
          <a:stretch/>
        </p:blipFill>
        <p:spPr>
          <a:xfrm>
            <a:off x="7039080" y="549360"/>
            <a:ext cx="2962080" cy="571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memait"/>
          <p:cNvPicPr/>
          <p:nvPr/>
        </p:nvPicPr>
        <p:blipFill>
          <a:blip r:embed="rId3"/>
          <a:stretch/>
        </p:blipFill>
        <p:spPr>
          <a:xfrm>
            <a:off x="3726000" y="1557360"/>
            <a:ext cx="2962080" cy="41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8360" y="33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Anu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014720" y="981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Amem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8478720" y="33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Tho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orus"/>
          <p:cNvPicPr/>
          <p:nvPr/>
        </p:nvPicPr>
        <p:blipFill>
          <a:blip r:embed="rId1"/>
          <a:stretch/>
        </p:blipFill>
        <p:spPr>
          <a:xfrm>
            <a:off x="7615080" y="476280"/>
            <a:ext cx="2495880" cy="570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orus1"/>
          <p:cNvPicPr/>
          <p:nvPr/>
        </p:nvPicPr>
        <p:blipFill>
          <a:blip r:embed="rId2"/>
          <a:stretch/>
        </p:blipFill>
        <p:spPr>
          <a:xfrm>
            <a:off x="846000" y="549360"/>
            <a:ext cx="2781360" cy="570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orus_3"/>
          <p:cNvPicPr/>
          <p:nvPr/>
        </p:nvPicPr>
        <p:blipFill>
          <a:blip r:embed="rId3"/>
          <a:stretch/>
        </p:blipFill>
        <p:spPr>
          <a:xfrm>
            <a:off x="5454720" y="3213000"/>
            <a:ext cx="2119320" cy="2863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430360" y="40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599080" y="256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a"/>
          <p:cNvPicPr/>
          <p:nvPr/>
        </p:nvPicPr>
        <p:blipFill>
          <a:blip r:embed="rId1"/>
          <a:stretch/>
        </p:blipFill>
        <p:spPr>
          <a:xfrm>
            <a:off x="5094360" y="2349360"/>
            <a:ext cx="4681440" cy="2864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5" descr="ba2"/>
          <p:cNvPicPr/>
          <p:nvPr/>
        </p:nvPicPr>
        <p:blipFill>
          <a:blip r:embed="rId2"/>
          <a:stretch/>
        </p:blipFill>
        <p:spPr>
          <a:xfrm>
            <a:off x="1351080" y="1628640"/>
            <a:ext cx="2933640" cy="3810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326360" y="1484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 a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878360" y="54388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Okřídlená duše a tělo/mumie  člově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nubis"/>
          <p:cNvPicPr/>
          <p:nvPr/>
        </p:nvPicPr>
        <p:blipFill>
          <a:blip r:embed="rId1"/>
          <a:stretch/>
        </p:blipFill>
        <p:spPr>
          <a:xfrm>
            <a:off x="2917800" y="1044720"/>
            <a:ext cx="5634000" cy="45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2286000" y="333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1) MUM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882880" y="5789520"/>
            <a:ext cx="56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Proces mumifikace, lékařsko-náboženský rituál, význam mum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tutanchamon"/>
          <p:cNvPicPr/>
          <p:nvPr/>
        </p:nvPicPr>
        <p:blipFill>
          <a:blip r:embed="rId1"/>
          <a:stretch/>
        </p:blipFill>
        <p:spPr>
          <a:xfrm>
            <a:off x="3510000" y="1052640"/>
            <a:ext cx="3711600" cy="5138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28600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2) M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85640" y="548316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Tutanchamonova maska (14.st. 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86000" y="33336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3) MAGICKÉ FORMULE A AMUL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orus_1"/>
          <p:cNvPicPr/>
          <p:nvPr/>
        </p:nvPicPr>
        <p:blipFill>
          <a:blip r:embed="rId1"/>
          <a:stretch/>
        </p:blipFill>
        <p:spPr>
          <a:xfrm>
            <a:off x="1422360" y="2708280"/>
            <a:ext cx="4032360" cy="284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mulet"/>
          <p:cNvPicPr/>
          <p:nvPr/>
        </p:nvPicPr>
        <p:blipFill>
          <a:blip r:embed="rId2"/>
          <a:stretch/>
        </p:blipFill>
        <p:spPr>
          <a:xfrm>
            <a:off x="5742000" y="2708280"/>
            <a:ext cx="3816360" cy="2779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4375080" y="5734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Horovo 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1:37:25Z</dcterms:created>
  <dc:creator>lazza</dc:creator>
  <dc:description/>
  <dc:language>en-US</dc:language>
  <cp:lastModifiedBy>martin</cp:lastModifiedBy>
  <dcterms:modified xsi:type="dcterms:W3CDTF">2013-01-12T11:46:24Z</dcterms:modified>
  <cp:revision>76</cp:revision>
  <dc:subject/>
  <dc:title>Snímek 1</dc:title>
</cp:coreProperties>
</file>