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68C-E498-489B-8459-94C47649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3DF-435D-4583-97E6-4B105897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930-B954-48FE-9881-E19C1B70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B83-377A-4D30-864B-42203017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294-0759-4ACF-B93B-AE736D33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681-2794-408B-90D0-5B66E8AC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5D0-2B87-4B7A-932F-9DF7174A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B27-569C-472C-9083-3DA41957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ECE-5F36-4DCF-8F9D-7FD4A2E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98E-A013-4CA5-A99C-BEAD8673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BC3-6050-4CDB-92CB-2F10C879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E71-E789-4165-9084-AC4E9C77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6F29-BEA4-4381-B10F-F36B5ED43B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80960" y="853920"/>
            <a:ext cx="84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ffffff"/>
                </a:solidFill>
                <a:latin typeface="Phantomime"/>
              </a:rPr>
              <a:t>ÚTOK NA SSS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6"/>
          <p:cNvSpPr/>
          <p:nvPr/>
        </p:nvSpPr>
        <p:spPr>
          <a:xfrm>
            <a:off x="6443640" y="4005360"/>
            <a:ext cx="2446200" cy="2284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fotografie a obrázky uvedené v této prezentaci – není-li výslovně uvedeno jinak – nepodléhají vzhledem k době svého vzniku žádným autorským právům; tyto práva již vyprše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1"/>
          <p:cNvSpPr/>
          <p:nvPr/>
        </p:nvSpPr>
        <p:spPr>
          <a:xfrm>
            <a:off x="4427640" y="293760"/>
            <a:ext cx="457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12_preze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IMG_2736"/>
          <p:cNvPicPr/>
          <p:nvPr/>
        </p:nvPicPr>
        <p:blipFill>
          <a:blip r:embed="rId1"/>
          <a:stretch/>
        </p:blipFill>
        <p:spPr>
          <a:xfrm>
            <a:off x="3419640" y="2023920"/>
            <a:ext cx="2415960" cy="2660760"/>
          </a:xfrm>
          <a:prstGeom prst="rect">
            <a:avLst/>
          </a:prstGeom>
          <a:ln w="0">
            <a:noFill/>
          </a:ln>
        </p:spPr>
      </p:pic>
      <p:sp>
        <p:nvSpPr>
          <p:cNvPr id="45" name="Obdélník 1"/>
          <p:cNvSpPr/>
          <p:nvPr/>
        </p:nvSpPr>
        <p:spPr>
          <a:xfrm>
            <a:off x="3060720" y="5084640"/>
            <a:ext cx="3095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hantomime"/>
              </a:rPr>
              <a:t>Op</a:t>
            </a:r>
            <a:r>
              <a:rPr b="0" lang="cs-CZ" sz="4000" spc="-1" strike="noStrike">
                <a:solidFill>
                  <a:srgbClr val="ffffff"/>
                </a:solidFill>
                <a:latin typeface="Phantomime"/>
              </a:rPr>
              <a:t>erace Barbarossa </a:t>
            </a:r>
            <a:r>
              <a:rPr b="0" lang="cs-CZ" sz="2400" spc="-1" strike="noStrike">
                <a:solidFill>
                  <a:srgbClr val="ffffff"/>
                </a:solidFill>
                <a:latin typeface="Phantomime"/>
              </a:rPr>
              <a:t>(22.6.19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stalingrad"/>
          <p:cNvPicPr/>
          <p:nvPr/>
        </p:nvPicPr>
        <p:blipFill>
          <a:blip r:embed="rId1"/>
          <a:stretch/>
        </p:blipFill>
        <p:spPr>
          <a:xfrm>
            <a:off x="914400" y="533520"/>
            <a:ext cx="7416720" cy="5479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905120" y="60958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ALINGRAD – pouliční boje (1942 – 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IMG_2677"/>
          <p:cNvPicPr/>
          <p:nvPr/>
        </p:nvPicPr>
        <p:blipFill>
          <a:blip r:embed="rId1"/>
          <a:stretch/>
        </p:blipFill>
        <p:spPr>
          <a:xfrm>
            <a:off x="250920" y="620640"/>
            <a:ext cx="6056280" cy="374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MG_2676"/>
          <p:cNvPicPr/>
          <p:nvPr/>
        </p:nvPicPr>
        <p:blipFill>
          <a:blip r:embed="rId2"/>
          <a:stretch/>
        </p:blipFill>
        <p:spPr>
          <a:xfrm>
            <a:off x="4067280" y="3444840"/>
            <a:ext cx="4721040" cy="2863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50920" y="4414680"/>
            <a:ext cx="37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ALINGRAD – pouliční boje (1942 – 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395280" y="558720"/>
            <a:ext cx="7848720" cy="105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uklík, J.: Dějepis pro gymnázia a SŠ 4 – nejmodernější dějiny, SPN Pra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Operation_Barbarossa_corrected_border"/>
          <p:cNvPicPr/>
          <p:nvPr/>
        </p:nvPicPr>
        <p:blipFill>
          <a:blip r:embed="rId1"/>
          <a:stretch/>
        </p:blipFill>
        <p:spPr>
          <a:xfrm>
            <a:off x="2286000" y="260280"/>
            <a:ext cx="481824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04920" y="380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perace Barbaro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G_2735"/>
          <p:cNvPicPr/>
          <p:nvPr/>
        </p:nvPicPr>
        <p:blipFill>
          <a:blip r:embed="rId1"/>
          <a:stretch/>
        </p:blipFill>
        <p:spPr>
          <a:xfrm>
            <a:off x="1981080" y="1484280"/>
            <a:ext cx="3113280" cy="4151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602080" y="6021360"/>
            <a:ext cx="54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Útok na Pobaltí: osvobození nebo okup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403280" y="380880"/>
            <a:ext cx="2378160" cy="947160"/>
          </a:xfrm>
          <a:prstGeom prst="rect">
            <a:avLst/>
          </a:prstGeom>
          <a:solidFill>
            <a:srgbClr val="00000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SEVER: LENING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G_2736"/>
          <p:cNvPicPr/>
          <p:nvPr/>
        </p:nvPicPr>
        <p:blipFill>
          <a:blip r:embed="rId2"/>
          <a:stretch/>
        </p:blipFill>
        <p:spPr>
          <a:xfrm>
            <a:off x="5186520" y="412920"/>
            <a:ext cx="2736720" cy="301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IMG_2733"/>
          <p:cNvPicPr/>
          <p:nvPr/>
        </p:nvPicPr>
        <p:blipFill>
          <a:blip r:embed="rId3"/>
          <a:stretch/>
        </p:blipFill>
        <p:spPr>
          <a:xfrm>
            <a:off x="5221440" y="3527280"/>
            <a:ext cx="1996920" cy="242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800px-Leningrad_Siege_May_1942_-_January_1943"/>
          <p:cNvPicPr/>
          <p:nvPr/>
        </p:nvPicPr>
        <p:blipFill>
          <a:blip r:embed="rId1"/>
          <a:stretch/>
        </p:blipFill>
        <p:spPr>
          <a:xfrm>
            <a:off x="912960" y="1055520"/>
            <a:ext cx="7316640" cy="4746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195640" y="6021360"/>
            <a:ext cx="54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lokáda Leningr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G_2740"/>
          <p:cNvPicPr/>
          <p:nvPr/>
        </p:nvPicPr>
        <p:blipFill>
          <a:blip r:embed="rId1"/>
          <a:stretch/>
        </p:blipFill>
        <p:spPr>
          <a:xfrm>
            <a:off x="1692360" y="260280"/>
            <a:ext cx="6084720" cy="5935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042920" y="623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INGRAD (září 1941, zásobování přes zamrzlé Ladožské jez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29" descr="IMG_2738"/>
          <p:cNvPicPr/>
          <p:nvPr/>
        </p:nvPicPr>
        <p:blipFill>
          <a:blip r:embed="rId1"/>
          <a:stretch/>
        </p:blipFill>
        <p:spPr>
          <a:xfrm>
            <a:off x="468360" y="260280"/>
            <a:ext cx="3664080" cy="280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IMG_2739"/>
          <p:cNvPicPr/>
          <p:nvPr/>
        </p:nvPicPr>
        <p:blipFill>
          <a:blip r:embed="rId2"/>
          <a:stretch/>
        </p:blipFill>
        <p:spPr>
          <a:xfrm>
            <a:off x="3348000" y="260280"/>
            <a:ext cx="5533920" cy="5997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95280" y="3114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aždodennost v obleženém Leningra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moskva"/>
          <p:cNvPicPr/>
          <p:nvPr/>
        </p:nvPicPr>
        <p:blipFill>
          <a:blip r:embed="rId1"/>
          <a:stretch/>
        </p:blipFill>
        <p:spPr>
          <a:xfrm>
            <a:off x="1638360" y="1484280"/>
            <a:ext cx="5830920" cy="4052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203640" y="5877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SKVA (zima 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916360" y="503280"/>
            <a:ext cx="3274920" cy="520560"/>
          </a:xfrm>
          <a:prstGeom prst="rect">
            <a:avLst/>
          </a:prstGeom>
          <a:solidFill>
            <a:srgbClr val="00000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STŘED: MOSK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arbarossa"/>
          <p:cNvPicPr/>
          <p:nvPr/>
        </p:nvPicPr>
        <p:blipFill>
          <a:blip r:embed="rId1"/>
          <a:stretch/>
        </p:blipFill>
        <p:spPr>
          <a:xfrm>
            <a:off x="1068480" y="765000"/>
            <a:ext cx="3887640" cy="250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IMG_2678"/>
          <p:cNvPicPr/>
          <p:nvPr/>
        </p:nvPicPr>
        <p:blipFill>
          <a:blip r:embed="rId2"/>
          <a:stretch/>
        </p:blipFill>
        <p:spPr>
          <a:xfrm>
            <a:off x="5148360" y="227160"/>
            <a:ext cx="2660400" cy="609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IMG_2754"/>
          <p:cNvPicPr/>
          <p:nvPr/>
        </p:nvPicPr>
        <p:blipFill>
          <a:blip r:embed="rId3"/>
          <a:stretch/>
        </p:blipFill>
        <p:spPr>
          <a:xfrm>
            <a:off x="755640" y="3429000"/>
            <a:ext cx="4213080" cy="2335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55640" y="5875200"/>
            <a:ext cx="42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esta do Moskvy (podzim, zima 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G_2708"/>
          <p:cNvPicPr/>
          <p:nvPr/>
        </p:nvPicPr>
        <p:blipFill>
          <a:blip r:embed="rId1"/>
          <a:stretch/>
        </p:blipFill>
        <p:spPr>
          <a:xfrm>
            <a:off x="539640" y="692280"/>
            <a:ext cx="8101080" cy="5243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826920" y="60199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esta do Stalingradu: obklíčení a zajetí ruské armády - Kyjevský k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52720" y="289080"/>
            <a:ext cx="3274920" cy="520560"/>
          </a:xfrm>
          <a:prstGeom prst="rect">
            <a:avLst/>
          </a:prstGeom>
          <a:solidFill>
            <a:srgbClr val="00000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JIH: STALING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8:27:26Z</dcterms:created>
  <dc:creator>lazza</dc:creator>
  <dc:description/>
  <dc:language>en-US</dc:language>
  <cp:lastModifiedBy>martin</cp:lastModifiedBy>
  <dcterms:modified xsi:type="dcterms:W3CDTF">2013-01-29T10:19:37Z</dcterms:modified>
  <cp:revision>41</cp:revision>
  <dc:subject/>
  <dc:title>Snímek 1</dc:title>
</cp:coreProperties>
</file>