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536-D212-46F4-B4F4-93A0C9C4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D3D-297E-497D-9264-0285F26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90D-B5C7-48F1-8164-920D46A1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20D-3489-4205-B0F1-A4238651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BCC-E342-41EE-B6C4-0D838BC0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79D-CACD-4139-A635-37C36535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DBC-57B9-4DC8-8D59-8B390929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1B8-92A3-4B37-B958-B1415B1E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95F-7986-4A3E-9A2F-B52B009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524-8783-4817-8196-2734032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B9B-3A13-443F-A75E-631467B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883-5613-4E8E-B9C8-5DC4F21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13B-4469-410D-9BD2-052D541C26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92080" y="5105520"/>
            <a:ext cx="7272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Georgia"/>
              </a:rPr>
              <a:t>O SJEDNOCENÍ NĚMECKA </a:t>
            </a: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REKAPITULACE HISTORICKÝCH MILNÍKŮ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85720" y="539640"/>
            <a:ext cx="7991640" cy="1016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9640" y="54936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KRVÍ A ŽELEZEM“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7" descr="480px-Wappen_Deutsches_Reich_-_Reichsadler_1889"/>
          <p:cNvPicPr/>
          <p:nvPr/>
        </p:nvPicPr>
        <p:blipFill>
          <a:blip r:embed="rId1"/>
          <a:stretch/>
        </p:blipFill>
        <p:spPr>
          <a:xfrm>
            <a:off x="3348000" y="1892160"/>
            <a:ext cx="2459160" cy="307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5" name="Obdélník 1"/>
          <p:cNvSpPr/>
          <p:nvPr/>
        </p:nvSpPr>
        <p:spPr>
          <a:xfrm>
            <a:off x="395280" y="4443480"/>
            <a:ext cx="280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Flag_of_Prussia_1892-1918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Obdélník 6"/>
          <p:cNvSpPr/>
          <p:nvPr/>
        </p:nvSpPr>
        <p:spPr>
          <a:xfrm>
            <a:off x="5940360" y="3201840"/>
            <a:ext cx="2766960" cy="1797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uvedené v této prezentaci – není-li výslovně uvedeno jinak – nepodléhají vzhledem k době svého vzniku žádným autorským právům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ovéPole 1"/>
          <p:cNvSpPr/>
          <p:nvPr/>
        </p:nvSpPr>
        <p:spPr>
          <a:xfrm>
            <a:off x="4444920" y="165240"/>
            <a:ext cx="457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1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WilhelmIBenedetti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4311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3" name="Text Box 3"/>
          <p:cNvSpPr/>
          <p:nvPr/>
        </p:nvSpPr>
        <p:spPr>
          <a:xfrm>
            <a:off x="1836720" y="169920"/>
            <a:ext cx="547200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PROVOKACE FRANCIE: EMŽSKÁ DEPEŠE (1870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4" name="Picture 5" descr="Vincent_Benedetti"/>
          <p:cNvPicPr/>
          <p:nvPr/>
        </p:nvPicPr>
        <p:blipFill>
          <a:blip r:embed="rId2"/>
          <a:srcRect l="12213" t="0" r="5124" b="0"/>
          <a:stretch/>
        </p:blipFill>
        <p:spPr>
          <a:xfrm>
            <a:off x="6948360" y="3141720"/>
            <a:ext cx="1944720" cy="2795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95" name="Picture 6" descr="vilem I"/>
          <p:cNvPicPr/>
          <p:nvPr/>
        </p:nvPicPr>
        <p:blipFill>
          <a:blip r:embed="rId3"/>
          <a:srcRect l="0" t="0" r="3799" b="0"/>
          <a:stretch/>
        </p:blipFill>
        <p:spPr>
          <a:xfrm>
            <a:off x="250920" y="3068640"/>
            <a:ext cx="1849320" cy="27860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96" name="Picture 7" descr="bismarck"/>
          <p:cNvPicPr/>
          <p:nvPr/>
        </p:nvPicPr>
        <p:blipFill>
          <a:blip r:embed="rId4"/>
          <a:stretch/>
        </p:blipFill>
        <p:spPr>
          <a:xfrm>
            <a:off x="3348000" y="3573360"/>
            <a:ext cx="2648160" cy="3097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900000" y="519120"/>
            <a:ext cx="7344000" cy="31114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Francouzský diplomat mě oslovil na promenádě s požadavkem, abych ho zplnomocnil k odeslání zprávy, že já, pruský císař Vilém I., nikdy neobnovím hohenzollernskou  kandidaturu na španělský trůn. Sdělil jsem mu, že takovýto typ prohlášení je nejenom politicky nekorektní, ale z hlediska mého mocenského postavení jednoduše nemožný. Nicméně jsem ho ujistil, že já, pruský císař, o tuto věc (kandidaturu) </a:t>
            </a:r>
            <a:r>
              <a:rPr b="0" i="1" lang="cs-CZ" sz="1800" spc="-1" strike="noStrike" u="sng">
                <a:solidFill>
                  <a:srgbClr val="ffffff"/>
                </a:solidFill>
                <a:uFillTx/>
                <a:latin typeface="Georgia"/>
              </a:rPr>
              <a:t>nejevím jakýkoliv další zájem a nehodlám v ní podnikat žádné další kroky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. Vzhledem k výše uvedené shodě není třeba dalších rozhovorů s francouzským diplomatem. Prosím jeho excelenci, aby o tomto rozhodnutí informovala tisk.“ (Pruský císař Vilém I. – dopis Bismarckovi)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900000" y="3803760"/>
            <a:ext cx="7344000" cy="256284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Francouzský diplomat zaútočil dalším neodbytným požadavkem na jeho excelenci pruského císaře Viléma I., kterým nesmlouvavě požadoval, aby císař přislíbil a na věčné časy se zavázal, že Hohenzollernové už nikdy více nepodniknout žádné kroky, které by vedly ke převzetí španělského trůnu. Císař po této rozmluvě razantně </a:t>
            </a:r>
            <a:r>
              <a:rPr b="0" i="1" lang="cs-CZ" sz="1800" spc="-1" strike="noStrike" u="sng">
                <a:solidFill>
                  <a:srgbClr val="ffffff"/>
                </a:solidFill>
                <a:uFillTx/>
                <a:latin typeface="Georgia"/>
              </a:rPr>
              <a:t>odmítl další setkání s francouzským diplomatem ohledně obnovení rozhovorů ke španělské kandidatuře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, o čemž ho informoval prostřednictvím svého tajemníka.“ (Otto von Bismarck v tiskové zprávě německým médiím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union-l"/>
          <p:cNvPicPr/>
          <p:nvPr/>
        </p:nvPicPr>
        <p:blipFill>
          <a:blip r:embed="rId1"/>
          <a:srcRect l="0" t="19367" r="0" b="0"/>
          <a:stretch/>
        </p:blipFill>
        <p:spPr>
          <a:xfrm>
            <a:off x="250920" y="836640"/>
            <a:ext cx="8642160" cy="4728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3490920" y="5716440"/>
            <a:ext cx="2521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Bitva u Sedanu (2.9.1870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vyhlaseni cisarstvi"/>
          <p:cNvPicPr/>
          <p:nvPr/>
        </p:nvPicPr>
        <p:blipFill>
          <a:blip r:embed="rId1"/>
          <a:stretch/>
        </p:blipFill>
        <p:spPr>
          <a:xfrm>
            <a:off x="250920" y="333360"/>
            <a:ext cx="4856040" cy="3521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2" name="Picture 4" descr="bismarck"/>
          <p:cNvPicPr/>
          <p:nvPr/>
        </p:nvPicPr>
        <p:blipFill>
          <a:blip r:embed="rId2"/>
          <a:stretch/>
        </p:blipFill>
        <p:spPr>
          <a:xfrm>
            <a:off x="2895480" y="3933720"/>
            <a:ext cx="2214720" cy="2590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3" name="Picture 5" descr="vilem I"/>
          <p:cNvPicPr/>
          <p:nvPr/>
        </p:nvPicPr>
        <p:blipFill>
          <a:blip r:embed="rId3"/>
          <a:srcRect l="0" t="0" r="5958" b="0"/>
          <a:stretch/>
        </p:blipFill>
        <p:spPr>
          <a:xfrm>
            <a:off x="5219640" y="333360"/>
            <a:ext cx="3708360" cy="571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4" name="Text Box 7"/>
          <p:cNvSpPr/>
          <p:nvPr/>
        </p:nvSpPr>
        <p:spPr>
          <a:xfrm>
            <a:off x="250920" y="4005360"/>
            <a:ext cx="25207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Vyhlášení německého císařství ve Versailles (18.leden 1871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219640" y="5877000"/>
            <a:ext cx="374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Otto von Bismarck, Vilem I. Hohenzoller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eutsches_Reich1 nemecke cisarstvi"/>
          <p:cNvPicPr/>
          <p:nvPr/>
        </p:nvPicPr>
        <p:blipFill>
          <a:blip r:embed="rId1"/>
          <a:stretch/>
        </p:blipFill>
        <p:spPr>
          <a:xfrm>
            <a:off x="1332000" y="189000"/>
            <a:ext cx="6985080" cy="6446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395440" y="5902200"/>
            <a:ext cx="4392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Výsledek: Sjednocení Německa – vznik NĚMECKÉHO CÍSAŘSTVÍ (1871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8" name="Picture 4" descr="severonemecky spoelk"/>
          <p:cNvPicPr/>
          <p:nvPr/>
        </p:nvPicPr>
        <p:blipFill>
          <a:blip r:embed="rId2"/>
          <a:stretch/>
        </p:blipFill>
        <p:spPr>
          <a:xfrm>
            <a:off x="6877080" y="5013360"/>
            <a:ext cx="1800360" cy="1527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9" name="Obdélník 1"/>
          <p:cNvSpPr/>
          <p:nvPr/>
        </p:nvSpPr>
        <p:spPr>
          <a:xfrm>
            <a:off x="5148360" y="204840"/>
            <a:ext cx="3184560" cy="5202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Deutsches_Reich1.p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0"/>
          <p:cNvSpPr/>
          <p:nvPr/>
        </p:nvSpPr>
        <p:spPr>
          <a:xfrm>
            <a:off x="468360" y="75744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ol., České země v evropských dějinách, III.díl, 2006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Hlavačka, Milan, Dějepis pro gymnázia, Novověk, 2006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vata rise 18st"/>
          <p:cNvPicPr/>
          <p:nvPr/>
        </p:nvPicPr>
        <p:blipFill>
          <a:blip r:embed="rId1"/>
          <a:stretch/>
        </p:blipFill>
        <p:spPr>
          <a:xfrm>
            <a:off x="263520" y="1212840"/>
            <a:ext cx="4838760" cy="3944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9" name="Picture 7" descr="Rheinbund_1812"/>
          <p:cNvPicPr/>
          <p:nvPr/>
        </p:nvPicPr>
        <p:blipFill>
          <a:blip r:embed="rId2"/>
          <a:stretch/>
        </p:blipFill>
        <p:spPr>
          <a:xfrm>
            <a:off x="5219640" y="189000"/>
            <a:ext cx="3656160" cy="4176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1390680" y="620640"/>
            <a:ext cx="371628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1) Napoleonské války: Zánik Svaté říše římské (1806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9" descr="napoleon"/>
          <p:cNvPicPr/>
          <p:nvPr/>
        </p:nvPicPr>
        <p:blipFill>
          <a:blip r:embed="rId3"/>
          <a:stretch/>
        </p:blipFill>
        <p:spPr>
          <a:xfrm>
            <a:off x="5265720" y="4483080"/>
            <a:ext cx="1623960" cy="2041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2" name="Text Box 10"/>
          <p:cNvSpPr/>
          <p:nvPr/>
        </p:nvSpPr>
        <p:spPr>
          <a:xfrm>
            <a:off x="1003320" y="5862600"/>
            <a:ext cx="4248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2) Napoleon Bonaparte: Rheinbund/Rýnský spolek (1806-13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263520" y="5202360"/>
            <a:ext cx="457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HRR_1789_EN.p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Obdélník 8"/>
          <p:cNvSpPr/>
          <p:nvPr/>
        </p:nvSpPr>
        <p:spPr>
          <a:xfrm>
            <a:off x="5229360" y="3627360"/>
            <a:ext cx="3627360" cy="733320"/>
          </a:xfrm>
          <a:prstGeom prst="rect">
            <a:avLst/>
          </a:prstGeom>
          <a:solidFill>
            <a:srgbClr val="ffffff">
              <a:alpha val="6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de.wikipedia.org/w/index.php?title=Datei:Rheinbund_1806,_political_map.png&amp;filetimestamp=20110203145311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1" descr="710px-Map-GermanConfederation"/>
          <p:cNvPicPr/>
          <p:nvPr/>
        </p:nvPicPr>
        <p:blipFill>
          <a:blip r:embed="rId1"/>
          <a:srcRect l="873" t="737" r="3141" b="10898"/>
          <a:stretch/>
        </p:blipFill>
        <p:spPr>
          <a:xfrm>
            <a:off x="1332000" y="770040"/>
            <a:ext cx="6534000" cy="5081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56" name="Text Box 22"/>
          <p:cNvSpPr/>
          <p:nvPr/>
        </p:nvSpPr>
        <p:spPr>
          <a:xfrm>
            <a:off x="2700360" y="6067440"/>
            <a:ext cx="6183360" cy="368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2) Německý celní spolek/Zollverein (1818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293760" y="328680"/>
            <a:ext cx="5111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1) Německý spolek/Deutscher Bund (1815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Obdélník 4"/>
          <p:cNvSpPr/>
          <p:nvPr/>
        </p:nvSpPr>
        <p:spPr>
          <a:xfrm>
            <a:off x="293760" y="5851440"/>
            <a:ext cx="24066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Map-GermanConfederation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800px-Nationalversammlung"/>
          <p:cNvPicPr/>
          <p:nvPr/>
        </p:nvPicPr>
        <p:blipFill>
          <a:blip r:embed="rId1"/>
          <a:stretch/>
        </p:blipFill>
        <p:spPr>
          <a:xfrm>
            <a:off x="289080" y="641520"/>
            <a:ext cx="5905440" cy="4384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0" name="Picture 3" descr="447px-FrWIV-Karikatur-1849-Farbe"/>
          <p:cNvPicPr/>
          <p:nvPr/>
        </p:nvPicPr>
        <p:blipFill>
          <a:blip r:embed="rId2"/>
          <a:stretch/>
        </p:blipFill>
        <p:spPr>
          <a:xfrm>
            <a:off x="6338880" y="620640"/>
            <a:ext cx="2577960" cy="3456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1" name="Rectangle 40"/>
          <p:cNvSpPr/>
          <p:nvPr/>
        </p:nvSpPr>
        <p:spPr>
          <a:xfrm>
            <a:off x="611280" y="515772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akkoli ctím vaše snažení, nemohu účastniti se na něm. Já nejsem Němec, aspoň se jím býti necítím. Jsem Čech rodu slovanského i se vším tím nemnohým, co mám i co mohu, oddal jsem se zcela i navždy ve službu svému národu.“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" name="Picture 113" descr="477px-František_Palacký"/>
          <p:cNvPicPr/>
          <p:nvPr/>
        </p:nvPicPr>
        <p:blipFill>
          <a:blip r:embed="rId3"/>
          <a:srcRect l="4322" t="0" r="0" b="0"/>
          <a:stretch/>
        </p:blipFill>
        <p:spPr>
          <a:xfrm>
            <a:off x="6340320" y="4208400"/>
            <a:ext cx="1865520" cy="24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3" name="Text Box 114"/>
          <p:cNvSpPr/>
          <p:nvPr/>
        </p:nvSpPr>
        <p:spPr>
          <a:xfrm>
            <a:off x="1620720" y="150840"/>
            <a:ext cx="5904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rankfurtsk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ý sněm (1848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115"/>
          <p:cNvSpPr/>
          <p:nvPr/>
        </p:nvSpPr>
        <p:spPr>
          <a:xfrm>
            <a:off x="6443640" y="6221520"/>
            <a:ext cx="21258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rant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išek Palacký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00000" y="5805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HLAVNÍ NEPŘÍTEL PRUSKÉ ROZPÍNAVOST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280" y="333360"/>
            <a:ext cx="7921440" cy="2399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9640" y="54936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KREV PRVNÍ: RAKOUSKO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Picture 5" descr="480px-Wappen_Deutsches_Reich_-_Reichsadler_1889"/>
          <p:cNvPicPr/>
          <p:nvPr/>
        </p:nvPicPr>
        <p:blipFill>
          <a:blip r:embed="rId1"/>
          <a:stretch/>
        </p:blipFill>
        <p:spPr>
          <a:xfrm>
            <a:off x="3506760" y="3068640"/>
            <a:ext cx="2073240" cy="259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9" name="Obdélník 1"/>
          <p:cNvSpPr/>
          <p:nvPr/>
        </p:nvSpPr>
        <p:spPr>
          <a:xfrm>
            <a:off x="395280" y="4443480"/>
            <a:ext cx="280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Flag_of_Prussia_1892-1918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28600" y="150840"/>
            <a:ext cx="72741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HABSBURSKÁ ŘÍŠ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4076640"/>
            <a:ext cx="4464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sus Belli: Šlesvicko a Holštýnsk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5305320" y="882720"/>
            <a:ext cx="31622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Obdélník 1"/>
          <p:cNvSpPr/>
          <p:nvPr/>
        </p:nvSpPr>
        <p:spPr>
          <a:xfrm>
            <a:off x="611280" y="5951520"/>
            <a:ext cx="45720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Jutland_Peninsula_map.P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Obdélník 11"/>
          <p:cNvSpPr/>
          <p:nvPr/>
        </p:nvSpPr>
        <p:spPr>
          <a:xfrm>
            <a:off x="603360" y="5300640"/>
            <a:ext cx="457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Ac.prussiamap3.gif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628560" y="1268280"/>
            <a:ext cx="4471920" cy="2654280"/>
          </a:xfrm>
          <a:prstGeom prst="rect">
            <a:avLst/>
          </a:prstGeom>
          <a:ln w="0">
            <a:noFill/>
          </a:ln>
        </p:spPr>
      </p:pic>
      <p:sp>
        <p:nvSpPr>
          <p:cNvPr id="76" name="Oval 9"/>
          <p:cNvSpPr/>
          <p:nvPr/>
        </p:nvSpPr>
        <p:spPr>
          <a:xfrm>
            <a:off x="1476360" y="1339920"/>
            <a:ext cx="863640" cy="863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340000" y="1989000"/>
            <a:ext cx="3384360" cy="935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The_Battle_of_Königgrätz"/>
          <p:cNvPicPr/>
          <p:nvPr/>
        </p:nvPicPr>
        <p:blipFill>
          <a:blip r:embed="rId1"/>
          <a:stretch/>
        </p:blipFill>
        <p:spPr>
          <a:xfrm>
            <a:off x="409680" y="320760"/>
            <a:ext cx="8265960" cy="6194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9" name="Picture 4" descr="valka"/>
          <p:cNvPicPr/>
          <p:nvPr/>
        </p:nvPicPr>
        <p:blipFill>
          <a:blip r:embed="rId2"/>
          <a:stretch/>
        </p:blipFill>
        <p:spPr>
          <a:xfrm>
            <a:off x="407880" y="333360"/>
            <a:ext cx="4464000" cy="4146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2195640" y="6093000"/>
            <a:ext cx="4752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Prusko-rakouská válka: Bitva u Sadové/Hradce Králové (3.7.1866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908000" y="3860640"/>
            <a:ext cx="3311640" cy="368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Rakousko a spojenc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8000" y="404640"/>
            <a:ext cx="3311640" cy="36828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Prusko, Itálie a spojenc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Obdélník 1"/>
          <p:cNvSpPr/>
          <p:nvPr/>
        </p:nvSpPr>
        <p:spPr>
          <a:xfrm>
            <a:off x="4871880" y="442800"/>
            <a:ext cx="3445200" cy="52020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Map-AustroPrussianWar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everonemecky spoelk"/>
          <p:cNvPicPr/>
          <p:nvPr/>
        </p:nvPicPr>
        <p:blipFill>
          <a:blip r:embed="rId1"/>
          <a:stretch/>
        </p:blipFill>
        <p:spPr>
          <a:xfrm>
            <a:off x="1403280" y="304920"/>
            <a:ext cx="6734160" cy="571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2411280" y="6119640"/>
            <a:ext cx="4753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Výsledek: Severoněmecký spolek (1866) a Rakousko-Uhersko (1867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Obdélník 1"/>
          <p:cNvSpPr/>
          <p:nvPr/>
        </p:nvSpPr>
        <p:spPr>
          <a:xfrm>
            <a:off x="1425600" y="326880"/>
            <a:ext cx="4572000" cy="307080"/>
          </a:xfrm>
          <a:prstGeom prst="rect">
            <a:avLst/>
          </a:prstGeom>
          <a:solidFill>
            <a:srgbClr val="ffffff">
              <a:alpha val="7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Map-NDB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052720" y="58053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VERSAILLESKÉ PONÍŽENÍ NAPOLEONA III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11280" y="333360"/>
            <a:ext cx="7921440" cy="2399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9640" y="54936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KREV DRUHÁ: FRANCIE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" name="Picture 5" descr="480px-Wappen_Deutsches_Reich_-_Reichsadler_1889"/>
          <p:cNvPicPr/>
          <p:nvPr/>
        </p:nvPicPr>
        <p:blipFill>
          <a:blip r:embed="rId1"/>
          <a:stretch/>
        </p:blipFill>
        <p:spPr>
          <a:xfrm>
            <a:off x="3506760" y="3068640"/>
            <a:ext cx="2073240" cy="259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1" name="Obdélník 5"/>
          <p:cNvSpPr/>
          <p:nvPr/>
        </p:nvSpPr>
        <p:spPr>
          <a:xfrm>
            <a:off x="395280" y="5105520"/>
            <a:ext cx="280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Flag_of_Prussia_1892-1918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6-24T07:02:40Z</dcterms:modified>
  <cp:revision>76</cp:revision>
  <dc:subject/>
  <dc:title>Snímek 1</dc:title>
</cp:coreProperties>
</file>