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7A4-06C0-4C8B-82F3-786F8775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EC0-92D3-4F01-B426-DA8C8454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8A0-9634-4F0D-B6E5-8CD6D125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EB6-71E0-439D-970B-EB47D5D6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B7B-3D19-4089-B485-03CAC00F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DD2-3208-4CFC-8AE4-92B649AA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E54-2B41-42B9-A59B-021716DA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08D-8427-4E99-8071-1549000A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B58-A5BE-49FC-B723-7E915622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164-9E11-42A2-9B17-9338BB8C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67E-3A78-41D5-9D97-956C52A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76C-70A1-4F6D-B42A-29A72B5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6D81-54C4-4DAC-81AD-2F8BC70BDE2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332000" y="162864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422360" y="811080"/>
            <a:ext cx="640872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rebuchet MS"/>
              </a:rPr>
              <a:t>VYPUKNUTÍ II.SVĚTOVÉ VÁL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6"/>
          <p:cNvSpPr/>
          <p:nvPr/>
        </p:nvSpPr>
        <p:spPr>
          <a:xfrm>
            <a:off x="6443640" y="4005360"/>
            <a:ext cx="2446200" cy="2284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šechny fotografie a obrázky uvedené v této prezentaci – není-li výslovně uvedeno jinak – nepodléhají vzhledem k době svého vzniku žádným autorským právům; tyto práva již vyprše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1"/>
          <p:cNvSpPr/>
          <p:nvPr/>
        </p:nvSpPr>
        <p:spPr>
          <a:xfrm>
            <a:off x="4427640" y="293760"/>
            <a:ext cx="4576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10_preze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MG_2666"/>
          <p:cNvPicPr/>
          <p:nvPr/>
        </p:nvPicPr>
        <p:blipFill>
          <a:blip r:embed="rId1"/>
          <a:stretch/>
        </p:blipFill>
        <p:spPr>
          <a:xfrm>
            <a:off x="3519360" y="2852640"/>
            <a:ext cx="2105280" cy="313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IMG_2670"/>
          <p:cNvPicPr/>
          <p:nvPr/>
        </p:nvPicPr>
        <p:blipFill>
          <a:blip r:embed="rId1"/>
          <a:stretch/>
        </p:blipFill>
        <p:spPr>
          <a:xfrm>
            <a:off x="2124000" y="260280"/>
            <a:ext cx="507204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MG_2674"/>
          <p:cNvPicPr/>
          <p:nvPr/>
        </p:nvPicPr>
        <p:blipFill>
          <a:blip r:embed="rId1"/>
          <a:stretch/>
        </p:blipFill>
        <p:spPr>
          <a:xfrm>
            <a:off x="684360" y="333360"/>
            <a:ext cx="7920000" cy="5921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885960" y="449280"/>
            <a:ext cx="7488000" cy="85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SOVĚTSKÝ SVAZ ÚTOČÍ: zimní válka </a:t>
            </a:r>
            <a:r>
              <a:rPr b="0" lang="cs-CZ" sz="1800" spc="-1" strike="noStrike">
                <a:solidFill>
                  <a:srgbClr val="ffffff"/>
                </a:solidFill>
                <a:latin typeface="Trebuchet MS"/>
              </a:rPr>
              <a:t>(listopad 1939 – březen 19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IMG_2665"/>
          <p:cNvPicPr/>
          <p:nvPr/>
        </p:nvPicPr>
        <p:blipFill>
          <a:blip r:embed="rId1"/>
          <a:stretch/>
        </p:blipFill>
        <p:spPr>
          <a:xfrm>
            <a:off x="539640" y="692280"/>
            <a:ext cx="8136000" cy="504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2616480" cy="621828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1"/>
          <p:cNvSpPr/>
          <p:nvPr/>
        </p:nvSpPr>
        <p:spPr>
          <a:xfrm>
            <a:off x="1547640" y="5877000"/>
            <a:ext cx="457200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Winterwar-december1939-soviet-attacks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709720" y="206280"/>
            <a:ext cx="3384720" cy="39888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Napadení Fin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395280" y="558720"/>
            <a:ext cx="7848720" cy="105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uklík, J.: Dějepis pro gymnázia a SŠ 4 – nejmodernější dějiny, SPN Pra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332000" y="162864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55640" y="549360"/>
            <a:ext cx="8137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NĚMECKÝ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(A SOVĚTSKÝ) ÚTOK NA POLSKO: počátek II.světové války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rebuchet MS"/>
              </a:rPr>
              <a:t>(1.9.19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Ribbentrop-Molotov"/>
          <p:cNvPicPr/>
          <p:nvPr/>
        </p:nvPicPr>
        <p:blipFill>
          <a:blip r:embed="rId1"/>
          <a:stretch/>
        </p:blipFill>
        <p:spPr>
          <a:xfrm>
            <a:off x="324000" y="1884240"/>
            <a:ext cx="5991120" cy="4233960"/>
          </a:xfrm>
          <a:prstGeom prst="rect">
            <a:avLst/>
          </a:prstGeom>
          <a:ln w="0">
            <a:noFill/>
          </a:ln>
        </p:spPr>
      </p:pic>
      <p:sp>
        <p:nvSpPr>
          <p:cNvPr id="49" name="Obdélník 1"/>
          <p:cNvSpPr/>
          <p:nvPr/>
        </p:nvSpPr>
        <p:spPr>
          <a:xfrm>
            <a:off x="468360" y="6297480"/>
            <a:ext cx="45720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Ribbentrop-Molotov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478px-MolotovRibbentropStalin"/>
          <p:cNvPicPr/>
          <p:nvPr/>
        </p:nvPicPr>
        <p:blipFill>
          <a:blip r:embed="rId2"/>
          <a:srcRect l="0" t="29251" r="0" b="0"/>
          <a:stretch/>
        </p:blipFill>
        <p:spPr>
          <a:xfrm>
            <a:off x="6659640" y="2205000"/>
            <a:ext cx="1584360" cy="1403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659640" y="3992400"/>
            <a:ext cx="220824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Ribbentrop-Molotov pa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332000" y="162864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olsko katyn1"/>
          <p:cNvPicPr/>
          <p:nvPr/>
        </p:nvPicPr>
        <p:blipFill>
          <a:blip r:embed="rId1"/>
          <a:stretch/>
        </p:blipFill>
        <p:spPr>
          <a:xfrm>
            <a:off x="4211640" y="2637000"/>
            <a:ext cx="4537080" cy="3814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olsko2"/>
          <p:cNvPicPr/>
          <p:nvPr/>
        </p:nvPicPr>
        <p:blipFill>
          <a:blip r:embed="rId2"/>
          <a:stretch/>
        </p:blipFill>
        <p:spPr>
          <a:xfrm>
            <a:off x="250920" y="549360"/>
            <a:ext cx="3816360" cy="244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lsko4"/>
          <p:cNvPicPr/>
          <p:nvPr/>
        </p:nvPicPr>
        <p:blipFill>
          <a:blip r:embed="rId3"/>
          <a:stretch/>
        </p:blipFill>
        <p:spPr>
          <a:xfrm>
            <a:off x="250920" y="3141720"/>
            <a:ext cx="3744720" cy="271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olsko3"/>
          <p:cNvPicPr/>
          <p:nvPr/>
        </p:nvPicPr>
        <p:blipFill>
          <a:blip r:embed="rId4"/>
          <a:stretch/>
        </p:blipFill>
        <p:spPr>
          <a:xfrm>
            <a:off x="4211640" y="531720"/>
            <a:ext cx="2808360" cy="198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332000" y="162864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32000" y="404640"/>
            <a:ext cx="6769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NĚMECKÝ ÚTOK NA SEVER </a:t>
            </a:r>
            <a:r>
              <a:rPr b="0" lang="cs-CZ" sz="1800" spc="-1" strike="noStrike">
                <a:solidFill>
                  <a:srgbClr val="ffffff"/>
                </a:solidFill>
                <a:latin typeface="Trebuchet MS"/>
              </a:rPr>
              <a:t>(9.4.19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Bundesarchiv_Bild_101I-758-0056-35,_Norwegen,_deutsche_Kriegsschiffe"/>
          <p:cNvPicPr/>
          <p:nvPr/>
        </p:nvPicPr>
        <p:blipFill>
          <a:blip r:embed="rId1"/>
          <a:stretch/>
        </p:blipFill>
        <p:spPr>
          <a:xfrm>
            <a:off x="762120" y="1268280"/>
            <a:ext cx="7619760" cy="491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332000" y="162864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258920" y="333360"/>
            <a:ext cx="6769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NĚMECKÝ ÚTOK NA ZÁPAD </a:t>
            </a:r>
            <a:r>
              <a:rPr b="0" lang="cs-CZ" sz="1800" spc="-1" strike="noStrike">
                <a:solidFill>
                  <a:srgbClr val="ffffff"/>
                </a:solidFill>
                <a:latin typeface="Trebuchet MS"/>
              </a:rPr>
              <a:t>(10.5.19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elb_manstein"/>
          <p:cNvPicPr/>
          <p:nvPr/>
        </p:nvPicPr>
        <p:blipFill>
          <a:blip r:embed="rId1"/>
          <a:stretch/>
        </p:blipFill>
        <p:spPr>
          <a:xfrm>
            <a:off x="250920" y="1268280"/>
            <a:ext cx="3816360" cy="271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793px-Rotterdam"/>
          <p:cNvPicPr/>
          <p:nvPr/>
        </p:nvPicPr>
        <p:blipFill>
          <a:blip r:embed="rId2"/>
          <a:stretch/>
        </p:blipFill>
        <p:spPr>
          <a:xfrm>
            <a:off x="4211640" y="981000"/>
            <a:ext cx="4681440" cy="354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British_troops_lifeboat_dunkerque"/>
          <p:cNvPicPr/>
          <p:nvPr/>
        </p:nvPicPr>
        <p:blipFill>
          <a:blip r:embed="rId3"/>
          <a:stretch/>
        </p:blipFill>
        <p:spPr>
          <a:xfrm>
            <a:off x="3059280" y="4653000"/>
            <a:ext cx="2844720" cy="189540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1468440" y="3983040"/>
            <a:ext cx="25732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Gelb_manstein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47560" y="4700520"/>
            <a:ext cx="2206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Mansteinův pl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G_2666"/>
          <p:cNvPicPr/>
          <p:nvPr/>
        </p:nvPicPr>
        <p:blipFill>
          <a:blip r:embed="rId1"/>
          <a:stretch/>
        </p:blipFill>
        <p:spPr>
          <a:xfrm>
            <a:off x="412920" y="333360"/>
            <a:ext cx="4211640" cy="6264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6215040"/>
            <a:ext cx="5182920" cy="39888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22.Června 1940 kapitulace Fran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632px-France_map_Lambert-93_with_regions_and_departments-occupation"/>
          <p:cNvPicPr/>
          <p:nvPr/>
        </p:nvPicPr>
        <p:blipFill>
          <a:blip r:embed="rId2"/>
          <a:stretch/>
        </p:blipFill>
        <p:spPr>
          <a:xfrm>
            <a:off x="4788000" y="333360"/>
            <a:ext cx="3365280" cy="319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Philippe_Pétain"/>
          <p:cNvPicPr/>
          <p:nvPr/>
        </p:nvPicPr>
        <p:blipFill>
          <a:blip r:embed="rId3"/>
          <a:stretch/>
        </p:blipFill>
        <p:spPr>
          <a:xfrm>
            <a:off x="4802040" y="3648240"/>
            <a:ext cx="1828800" cy="2566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6723000" y="3648240"/>
            <a:ext cx="2170080" cy="15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France_map_Lambert-93_with_regions_and_departments-occupation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890960" y="3127320"/>
            <a:ext cx="3159360" cy="398880"/>
          </a:xfrm>
          <a:prstGeom prst="rect">
            <a:avLst/>
          </a:prstGeom>
          <a:solidFill>
            <a:srgbClr val="00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Vichy-rež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MG_2671"/>
          <p:cNvPicPr/>
          <p:nvPr/>
        </p:nvPicPr>
        <p:blipFill>
          <a:blip r:embed="rId1"/>
          <a:stretch/>
        </p:blipFill>
        <p:spPr>
          <a:xfrm>
            <a:off x="4718160" y="1547640"/>
            <a:ext cx="3190680" cy="4473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2570040" y="333360"/>
            <a:ext cx="4248360" cy="85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BITVA O BRITÁNII </a:t>
            </a:r>
            <a:r>
              <a:rPr b="0" lang="cs-CZ" sz="1800" spc="-1" strike="noStrike">
                <a:solidFill>
                  <a:srgbClr val="ffffff"/>
                </a:solidFill>
                <a:latin typeface="Trebuchet MS"/>
              </a:rPr>
              <a:t>(červenec-říjen 19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792000" y="1557360"/>
            <a:ext cx="3556080" cy="4464000"/>
          </a:xfrm>
          <a:prstGeom prst="rect">
            <a:avLst/>
          </a:prstGeom>
          <a:ln w="0">
            <a:noFill/>
          </a:ln>
        </p:spPr>
      </p:pic>
      <p:sp>
        <p:nvSpPr>
          <p:cNvPr id="76" name="Obdélník 1"/>
          <p:cNvSpPr/>
          <p:nvPr/>
        </p:nvSpPr>
        <p:spPr>
          <a:xfrm>
            <a:off x="1486080" y="6051600"/>
            <a:ext cx="286200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Battle_of_Britain_map.s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MG_2669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08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IMG_2668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9:17:49Z</dcterms:created>
  <dc:creator>lazza</dc:creator>
  <dc:description/>
  <dc:language>en-US</dc:language>
  <cp:lastModifiedBy>martin</cp:lastModifiedBy>
  <dcterms:modified xsi:type="dcterms:W3CDTF">2013-01-29T10:19:34Z</dcterms:modified>
  <cp:revision>38</cp:revision>
  <dc:subject/>
  <dc:title>Snímek 1</dc:title>
</cp:coreProperties>
</file>