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9807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02A3-4BCD-45B4-8016-225CC80A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988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3964320"/>
            <a:ext cx="988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D06-72F4-48FC-9BFF-909F4F38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3120" y="160020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396432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3120" y="396432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F5C-8C4F-4ED4-B410-618367C5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1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0520" y="1600200"/>
            <a:ext cx="31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1680" y="1600200"/>
            <a:ext cx="31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3964320"/>
            <a:ext cx="31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0520" y="3964320"/>
            <a:ext cx="31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1680" y="3964320"/>
            <a:ext cx="31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0F1-5F51-4183-99EF-5BF2D6DC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600200"/>
            <a:ext cx="9882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63E-C740-49B9-A102-F4399050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988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CCF-8E33-4510-891C-E1B464A2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482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3120" y="1600200"/>
            <a:ext cx="482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10E-F351-4883-A109-C64DA045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25E-C569-440B-90D1-E0CBE2A3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274320"/>
            <a:ext cx="988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26F3-4335-480E-9549-4140DD6B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3120" y="1600200"/>
            <a:ext cx="482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396432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C30-69E1-47CE-8295-F62721C3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482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3120" y="160020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3120" y="396432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6671-E182-45C7-B6E6-4AD1B3E0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3120" y="1600200"/>
            <a:ext cx="482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3964320"/>
            <a:ext cx="988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C58-D5EA-411A-A098-1249B74B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00e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274320"/>
            <a:ext cx="98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600200"/>
            <a:ext cx="988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000" y="6244920"/>
            <a:ext cx="2562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51200" y="6244920"/>
            <a:ext cx="3478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8880" y="6244920"/>
            <a:ext cx="2562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DB90-9DA0-42C9-ADB9-9174A232BC9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33640" y="907560"/>
            <a:ext cx="69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  <a:ea typeface="Arial Unicode MS"/>
              </a:rPr>
              <a:t>CESTA PO PRAVĚKÉM SVĚT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2681280" y="2781360"/>
            <a:ext cx="5538960" cy="3287520"/>
          </a:xfrm>
          <a:prstGeom prst="rect">
            <a:avLst/>
          </a:prstGeom>
          <a:ln w="0">
            <a:noFill/>
          </a:ln>
        </p:spPr>
      </p:pic>
      <p:sp>
        <p:nvSpPr>
          <p:cNvPr id="43" name="Obdélník 7"/>
          <p:cNvSpPr/>
          <p:nvPr/>
        </p:nvSpPr>
        <p:spPr>
          <a:xfrm>
            <a:off x="8586720" y="3933720"/>
            <a:ext cx="1916280" cy="2527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šechny fotografie, mapy a obrázky – není-li výslovně uvedeno jinak – byly vytvořeny autorem prezentace a slouží výhradně pro účely této prezent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1"/>
          <p:cNvSpPr/>
          <p:nvPr/>
        </p:nvSpPr>
        <p:spPr>
          <a:xfrm>
            <a:off x="5432400" y="289080"/>
            <a:ext cx="5084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0708_prezen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9"/>
          <p:cNvSpPr/>
          <p:nvPr/>
        </p:nvSpPr>
        <p:spPr>
          <a:xfrm>
            <a:off x="2681280" y="6180120"/>
            <a:ext cx="548964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Mammuthus_trogontherii122DB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33640" y="907560"/>
            <a:ext cx="69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EGAFAUNA VYMÍR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2825640" y="2349360"/>
            <a:ext cx="5537160" cy="3287880"/>
          </a:xfrm>
          <a:prstGeom prst="rect">
            <a:avLst/>
          </a:prstGeom>
          <a:ln w="0">
            <a:noFill/>
          </a:ln>
        </p:spPr>
      </p:pic>
      <p:sp>
        <p:nvSpPr>
          <p:cNvPr id="75" name="Obdélník 2"/>
          <p:cNvSpPr/>
          <p:nvPr/>
        </p:nvSpPr>
        <p:spPr>
          <a:xfrm>
            <a:off x="2873520" y="5805360"/>
            <a:ext cx="54892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Mammuthus_trogontherii122DB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033640" y="476280"/>
            <a:ext cx="695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Teorie první – doba led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world_map"/>
          <p:cNvPicPr/>
          <p:nvPr/>
        </p:nvPicPr>
        <p:blipFill>
          <a:blip r:embed="rId1"/>
          <a:srcRect l="0" t="9136" r="0" b="12422"/>
          <a:stretch/>
        </p:blipFill>
        <p:spPr>
          <a:xfrm>
            <a:off x="2249640" y="2060640"/>
            <a:ext cx="6335640" cy="372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1673280" y="836640"/>
            <a:ext cx="4897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Teorie druhá – lidé (oheň a zbraně/projektilové hro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1290600" y="1774800"/>
            <a:ext cx="5727600" cy="381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7434360" y="476280"/>
            <a:ext cx="2857320" cy="26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7434360" y="3357720"/>
            <a:ext cx="2797200" cy="289872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1"/>
          <p:cNvSpPr/>
          <p:nvPr/>
        </p:nvSpPr>
        <p:spPr>
          <a:xfrm>
            <a:off x="2114280" y="6289560"/>
            <a:ext cx="408060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ProjPointTerm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délník 2"/>
          <p:cNvSpPr/>
          <p:nvPr/>
        </p:nvSpPr>
        <p:spPr>
          <a:xfrm>
            <a:off x="6188040" y="6256440"/>
            <a:ext cx="406404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Projectilepoint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bdélník 3"/>
          <p:cNvSpPr/>
          <p:nvPr/>
        </p:nvSpPr>
        <p:spPr>
          <a:xfrm>
            <a:off x="1296720" y="5592600"/>
            <a:ext cx="404244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Large_bonfir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601640" y="907920"/>
            <a:ext cx="828072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Megafauna: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 obří živočišná říše (mamuti, obří jeleni…) –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velký nadbytek pot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 před 12000 lety záhadně mizí, vymír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Teorie zániku: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a) d.ledová – klimatický výkyv, neschopnost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řežití velkých druhů zvíř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b) člověk (oheň a projektilové hro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25640" y="691920"/>
            <a:ext cx="51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  <a:ea typeface="Arial Unicode MS"/>
              </a:rPr>
              <a:t>NOVÁ KRAJINA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  <a:ea typeface="Arial Unicode MS"/>
              </a:rPr>
              <a:t>JINÝ ČLOVĚK. NEOL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2825640" y="2349360"/>
            <a:ext cx="5537160" cy="3287880"/>
          </a:xfrm>
          <a:prstGeom prst="rect">
            <a:avLst/>
          </a:prstGeom>
          <a:ln w="0">
            <a:noFill/>
          </a:ln>
        </p:spPr>
      </p:pic>
      <p:sp>
        <p:nvSpPr>
          <p:cNvPr id="88" name="Obdélník 8"/>
          <p:cNvSpPr/>
          <p:nvPr/>
        </p:nvSpPr>
        <p:spPr>
          <a:xfrm>
            <a:off x="2873520" y="5805360"/>
            <a:ext cx="54892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Mammuthus_trogontherii122DB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22280" y="836640"/>
            <a:ext cx="10174320" cy="4489560"/>
          </a:xfrm>
          <a:prstGeom prst="rect">
            <a:avLst/>
          </a:prstGeom>
          <a:ln w="0">
            <a:noFill/>
          </a:ln>
        </p:spPr>
      </p:pic>
      <p:sp>
        <p:nvSpPr>
          <p:cNvPr id="90" name="Obdélník 1"/>
          <p:cNvSpPr/>
          <p:nvPr/>
        </p:nvSpPr>
        <p:spPr>
          <a:xfrm>
            <a:off x="2160720" y="343080"/>
            <a:ext cx="669744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Centres_of_origin_and_spread_of_agriculture.s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882720" y="5589720"/>
            <a:ext cx="95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Šíření neolitické revoluce/zemědělství po světě. Centra zeměděls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601640" y="907920"/>
            <a:ext cx="828072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Zeměděl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Teorie vzniku: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a) klimatické změny - nutnost ob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b) populační exploze - přelidnění (otázka přežit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otravinový šok: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a) nedostatek bílkovin, tuků, některých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vitamí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b) nemoci zvířat na lidi: zánět mozkových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blan (myši), vzteklina (pes, kočka), tuber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(skot), malárie (moucha tse-tse) atd.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c) katastrofální obrušování z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601640" y="907920"/>
            <a:ext cx="82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Válková, V., Popelka V., Dějepis pro gymnázia a SŠ 1 – pavěk a starověk, SPN Prah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2394000" y="40464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V</a:t>
            </a:r>
            <a:r>
              <a:rPr b="1" lang="cs-CZ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ĚT D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1679400" y="1341360"/>
            <a:ext cx="7620120" cy="467676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1"/>
          <p:cNvSpPr/>
          <p:nvPr/>
        </p:nvSpPr>
        <p:spPr>
          <a:xfrm>
            <a:off x="2610000" y="6154560"/>
            <a:ext cx="54892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Winkel_triple_projection_SW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394000" y="33336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V</a:t>
            </a:r>
            <a:r>
              <a:rPr b="1" lang="cs-CZ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ĚT PŘED 18 000 L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3833640" y="1341360"/>
            <a:ext cx="4753080" cy="4751640"/>
          </a:xfrm>
          <a:prstGeom prst="rect">
            <a:avLst/>
          </a:prstGeom>
          <a:ln w="0">
            <a:noFill/>
          </a:ln>
        </p:spPr>
      </p:pic>
      <p:sp>
        <p:nvSpPr>
          <p:cNvPr id="51" name="Obdélník 1"/>
          <p:cNvSpPr/>
          <p:nvPr/>
        </p:nvSpPr>
        <p:spPr>
          <a:xfrm>
            <a:off x="3805200" y="6237360"/>
            <a:ext cx="46371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IceAgeEarth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895320" y="1341360"/>
            <a:ext cx="2944800" cy="2160720"/>
          </a:xfrm>
          <a:prstGeom prst="rect">
            <a:avLst/>
          </a:prstGeom>
          <a:ln w="0">
            <a:noFill/>
          </a:ln>
        </p:spPr>
      </p:pic>
      <p:sp>
        <p:nvSpPr>
          <p:cNvPr id="53" name="Obdélník 2"/>
          <p:cNvSpPr/>
          <p:nvPr/>
        </p:nvSpPr>
        <p:spPr>
          <a:xfrm>
            <a:off x="895320" y="3622680"/>
            <a:ext cx="288936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AntarcticaDomeCSnow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world_map"/>
          <p:cNvPicPr/>
          <p:nvPr/>
        </p:nvPicPr>
        <p:blipFill>
          <a:blip r:embed="rId1"/>
          <a:srcRect l="0" t="9136" r="0" b="12422"/>
          <a:stretch/>
        </p:blipFill>
        <p:spPr>
          <a:xfrm>
            <a:off x="1601640" y="981000"/>
            <a:ext cx="8136000" cy="4786560"/>
          </a:xfrm>
          <a:prstGeom prst="rect">
            <a:avLst/>
          </a:prstGeom>
          <a:ln w="0">
            <a:noFill/>
          </a:ln>
        </p:spPr>
      </p:pic>
      <p:sp>
        <p:nvSpPr>
          <p:cNvPr id="55" name="Oval 4"/>
          <p:cNvSpPr/>
          <p:nvPr/>
        </p:nvSpPr>
        <p:spPr>
          <a:xfrm>
            <a:off x="5923080" y="1557360"/>
            <a:ext cx="1295280" cy="1224000"/>
          </a:xfrm>
          <a:prstGeom prst="ellipse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world_map1"/>
          <p:cNvPicPr/>
          <p:nvPr/>
        </p:nvPicPr>
        <p:blipFill>
          <a:blip r:embed="rId1"/>
          <a:stretch/>
        </p:blipFill>
        <p:spPr>
          <a:xfrm>
            <a:off x="1314360" y="1197000"/>
            <a:ext cx="8640720" cy="41162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833640" y="62064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erin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 flipV="1">
            <a:off x="3762360" y="2276280"/>
            <a:ext cx="172872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V="1">
            <a:off x="3186000" y="2133360"/>
            <a:ext cx="2017800" cy="21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 flipV="1">
            <a:off x="1817640" y="2636640"/>
            <a:ext cx="1584360" cy="936360"/>
          </a:xfrm>
          <a:prstGeom prst="line">
            <a:avLst/>
          </a:prstGeom>
          <a:ln w="254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1" descr="world_map3"/>
          <p:cNvPicPr/>
          <p:nvPr/>
        </p:nvPicPr>
        <p:blipFill>
          <a:blip r:embed="rId1"/>
          <a:stretch/>
        </p:blipFill>
        <p:spPr>
          <a:xfrm>
            <a:off x="593640" y="1052640"/>
            <a:ext cx="9702720" cy="4622760"/>
          </a:xfrm>
          <a:prstGeom prst="rect">
            <a:avLst/>
          </a:prstGeom>
          <a:ln w="0">
            <a:noFill/>
          </a:ln>
        </p:spPr>
      </p:pic>
      <p:sp>
        <p:nvSpPr>
          <p:cNvPr id="62" name="Line 4"/>
          <p:cNvSpPr/>
          <p:nvPr/>
        </p:nvSpPr>
        <p:spPr>
          <a:xfrm>
            <a:off x="5634000" y="2349360"/>
            <a:ext cx="43200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6570720" y="2492280"/>
            <a:ext cx="57636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130720" y="2924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rdill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7507440" y="2781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uren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3257640" y="4762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Stalo se před 22 000 l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world_map"/>
          <p:cNvPicPr/>
          <p:nvPr/>
        </p:nvPicPr>
        <p:blipFill>
          <a:blip r:embed="rId1"/>
          <a:srcRect l="0" t="9136" r="0" b="12422"/>
          <a:stretch/>
        </p:blipFill>
        <p:spPr>
          <a:xfrm>
            <a:off x="1601640" y="981000"/>
            <a:ext cx="8136000" cy="4786560"/>
          </a:xfrm>
          <a:prstGeom prst="rect">
            <a:avLst/>
          </a:prstGeom>
          <a:ln w="0">
            <a:noFill/>
          </a:ln>
        </p:spPr>
      </p:pic>
      <p:sp>
        <p:nvSpPr>
          <p:cNvPr id="68" name="Oval 3"/>
          <p:cNvSpPr/>
          <p:nvPr/>
        </p:nvSpPr>
        <p:spPr>
          <a:xfrm>
            <a:off x="4265640" y="3500280"/>
            <a:ext cx="1512720" cy="1386000"/>
          </a:xfrm>
          <a:prstGeom prst="ellipse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6"/>
          <p:cNvSpPr/>
          <p:nvPr/>
        </p:nvSpPr>
        <p:spPr>
          <a:xfrm>
            <a:off x="311472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Stalo se před 30 000 l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austr1"/>
          <p:cNvPicPr/>
          <p:nvPr/>
        </p:nvPicPr>
        <p:blipFill>
          <a:blip r:embed="rId1"/>
          <a:stretch/>
        </p:blipFill>
        <p:spPr>
          <a:xfrm>
            <a:off x="2754360" y="1268280"/>
            <a:ext cx="547380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601640" y="836640"/>
            <a:ext cx="82807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esta do Ameriky: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Amerika v d.ledové spojena s Asií 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„pevninským mostem“ (Bering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pronásledování zv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</a:rPr>
              <a:t>ě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ře, přechod do 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mer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po skončení d.ledové „most“ za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 nutnost cesty na jih (otázka přežití)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601640" y="3357720"/>
            <a:ext cx="8280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esta do Austrálie: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indonéské ostrovy propoj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poslední úsek do Austrálie  překonán 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odí před 30 000 l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8:53:53Z</dcterms:created>
  <dc:creator>lazza</dc:creator>
  <dc:description/>
  <dc:language>en-US</dc:language>
  <cp:lastModifiedBy>martin</cp:lastModifiedBy>
  <dcterms:modified xsi:type="dcterms:W3CDTF">2013-01-12T10:28:11Z</dcterms:modified>
  <cp:revision>21</cp:revision>
  <dc:subject/>
  <dc:title>Snímek 1</dc:title>
</cp:coreProperties>
</file>