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408-B915-4C3E-9FC5-00810CB1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E94-C9FA-46D7-9528-C2CCC53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98A-4834-4849-9F6F-37F856D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173-1FC8-4BC0-9001-29D32B57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204-D87A-47E9-8241-EEAF05C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BA4-218F-4366-9F30-98F1DA7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925-9B4A-4244-83BF-1225DAF6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58E-1C58-4CE4-887C-F6B0716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163-A6CC-49F6-AE6A-0798DAA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5EA-0397-45E0-A27C-41B8D24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904-1445-481B-AD53-168F9E3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209-6079-4ACC-B6CC-7D4BDCF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3D7-A383-4CE8-8ECE-51A4FCB0D0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file:///../../../../../../../wiki/Soubor:Victims_of_the_1932-33_famine_in_Ukraine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549360"/>
            <a:ext cx="7272360" cy="192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971640" y="998640"/>
            <a:ext cx="7200720" cy="320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ffffff"/>
                </a:solidFill>
                <a:latin typeface="Tom Violence"/>
              </a:rPr>
              <a:t>SMUTNÉ STOLETÍ </a:t>
            </a:r>
            <a:r>
              <a:rPr b="0" lang="cs-CZ" sz="4400" spc="-1" strike="noStrike">
                <a:solidFill>
                  <a:srgbClr val="ffffff"/>
                </a:solidFill>
                <a:latin typeface="Tom Violence"/>
              </a:rPr>
              <a:t>JOSIFA VISSARIONOVICE </a:t>
            </a:r>
            <a:endParaRPr b="0" lang="en-US" sz="44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1979640" y="5300640"/>
            <a:ext cx="5400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om Violence"/>
              </a:rPr>
              <a:t>Utopie v praxi</a:t>
            </a:r>
            <a:endParaRPr b="0" lang="en-US" sz="40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44" name="Track No06.mp3" descr=""/>
          <p:cNvPicPr/>
          <p:nvPr/>
        </p:nvPicPr>
        <p:blipFill>
          <a:blip r:embed="rId1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stalin"/>
          <p:cNvPicPr/>
          <p:nvPr/>
        </p:nvPicPr>
        <p:blipFill>
          <a:blip r:embed="rId2"/>
          <a:srcRect l="3069" t="2617" r="1264" b="7663"/>
          <a:stretch/>
        </p:blipFill>
        <p:spPr>
          <a:xfrm>
            <a:off x="3995640" y="335772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6" name="Obdélník 7"/>
          <p:cNvSpPr/>
          <p:nvPr/>
        </p:nvSpPr>
        <p:spPr>
          <a:xfrm>
            <a:off x="6443640" y="4581360"/>
            <a:ext cx="2305080" cy="1797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– není-li výslovně uvedeno jinak – vzhledem k době svého vzniku nepodléhají žádným autorským právům.</a:t>
            </a:r>
            <a:endParaRPr b="0" lang="en-US" sz="16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47" name="TextovéPole 1"/>
          <p:cNvSpPr/>
          <p:nvPr/>
        </p:nvSpPr>
        <p:spPr>
          <a:xfrm>
            <a:off x="3780000" y="477720"/>
            <a:ext cx="508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07_prezentace</a:t>
            </a: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 advTm="5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kona"/>
          <p:cNvPicPr/>
          <p:nvPr/>
        </p:nvPicPr>
        <p:blipFill>
          <a:blip r:embed="rId1"/>
          <a:stretch/>
        </p:blipFill>
        <p:spPr>
          <a:xfrm>
            <a:off x="2556000" y="620640"/>
            <a:ext cx="3967200" cy="5329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6"/>
          <p:cNvSpPr/>
          <p:nvPr/>
        </p:nvSpPr>
        <p:spPr>
          <a:xfrm>
            <a:off x="1700280" y="614664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ÚTOK PROTI CÍRKVI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800280"/>
            <a:ext cx="813744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om Violence"/>
              </a:rPr>
              <a:t>3) CÍLENÁ GENOCIDA: HLADOMOR</a:t>
            </a:r>
            <a:endParaRPr b="0" lang="en-US" sz="72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74" name="Picture 3" descr="stalin"/>
          <p:cNvPicPr/>
          <p:nvPr/>
        </p:nvPicPr>
        <p:blipFill>
          <a:blip r:embed="rId1"/>
          <a:srcRect l="3069" t="2617" r="1264" b="7663"/>
          <a:stretch/>
        </p:blipFill>
        <p:spPr>
          <a:xfrm>
            <a:off x="3995640" y="335772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2533680" y="55897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Smrt jednoho je tragédie.  Smrt milionů je statistika.“</a:t>
            </a:r>
            <a:endParaRPr b="0" lang="en-US" sz="2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kolektivizace-v-sssr-2"/>
          <p:cNvPicPr/>
          <p:nvPr/>
        </p:nvPicPr>
        <p:blipFill>
          <a:blip r:embed="rId1"/>
          <a:stretch/>
        </p:blipFill>
        <p:spPr>
          <a:xfrm>
            <a:off x="378000" y="757080"/>
            <a:ext cx="4554360" cy="352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2484360" y="60087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KOLEKTIVIZACE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78" name="Picture 5" descr="kolektivizace"/>
          <p:cNvPicPr/>
          <p:nvPr/>
        </p:nvPicPr>
        <p:blipFill>
          <a:blip r:embed="rId2"/>
          <a:stretch/>
        </p:blipFill>
        <p:spPr>
          <a:xfrm>
            <a:off x="4932360" y="2637000"/>
            <a:ext cx="3700440" cy="30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kollektivizaciya29-67"/>
          <p:cNvPicPr/>
          <p:nvPr/>
        </p:nvPicPr>
        <p:blipFill>
          <a:blip r:embed="rId1"/>
          <a:stretch/>
        </p:blipFill>
        <p:spPr>
          <a:xfrm>
            <a:off x="324000" y="333360"/>
            <a:ext cx="5111640" cy="30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ollektivizaciya33-67"/>
          <p:cNvPicPr/>
          <p:nvPr/>
        </p:nvPicPr>
        <p:blipFill>
          <a:blip r:embed="rId2"/>
          <a:srcRect l="1099" t="9945" r="2199" b="7792"/>
          <a:stretch/>
        </p:blipFill>
        <p:spPr>
          <a:xfrm>
            <a:off x="3995640" y="3422520"/>
            <a:ext cx="4710240" cy="3070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1" name="Text Box 7"/>
          <p:cNvSpPr/>
          <p:nvPr/>
        </p:nvSpPr>
        <p:spPr>
          <a:xfrm>
            <a:off x="314280" y="3573360"/>
            <a:ext cx="353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Propaganda: ruská vesnice za carského režimu a po nástupu bolševiků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ymovye-truby-51"/>
          <p:cNvPicPr/>
          <p:nvPr/>
        </p:nvPicPr>
        <p:blipFill>
          <a:blip r:embed="rId1"/>
          <a:stretch/>
        </p:blipFill>
        <p:spPr>
          <a:xfrm>
            <a:off x="1187280" y="1052640"/>
            <a:ext cx="6729480" cy="4584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700360" y="5877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Propaganda: Industrializace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olektivizace haldomor"/>
          <p:cNvPicPr/>
          <p:nvPr/>
        </p:nvPicPr>
        <p:blipFill>
          <a:blip r:embed="rId1"/>
          <a:stretch/>
        </p:blipFill>
        <p:spPr>
          <a:xfrm>
            <a:off x="468360" y="404640"/>
            <a:ext cx="2952720" cy="30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Picture 6" descr="hladomor2"/>
          <p:cNvPicPr/>
          <p:nvPr/>
        </p:nvPicPr>
        <p:blipFill>
          <a:blip r:embed="rId2"/>
          <a:stretch/>
        </p:blipFill>
        <p:spPr>
          <a:xfrm>
            <a:off x="3635280" y="2133720"/>
            <a:ext cx="5040360" cy="409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Picture 7" descr="Oběti hladomoru na Ukrajině v letech 1932-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645000"/>
            <a:ext cx="2664000" cy="187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Text Box 5"/>
          <p:cNvSpPr/>
          <p:nvPr/>
        </p:nvSpPr>
        <p:spPr>
          <a:xfrm>
            <a:off x="3629160" y="901800"/>
            <a:ext cx="468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Hrůzné důsledky experimentu: hladomor na Ukrajině (Kyjev)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258920" y="476280"/>
            <a:ext cx="67690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om Violence"/>
              </a:rPr>
              <a:t>4) KULT OSOBNOSTI</a:t>
            </a:r>
            <a:endParaRPr b="0" lang="en-US" sz="72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89" name="Picture 3" descr="stalin"/>
          <p:cNvPicPr/>
          <p:nvPr/>
        </p:nvPicPr>
        <p:blipFill>
          <a:blip r:embed="rId1"/>
          <a:srcRect l="3069" t="2617" r="1264" b="7663"/>
          <a:stretch/>
        </p:blipFill>
        <p:spPr>
          <a:xfrm>
            <a:off x="3995640" y="292428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0" name="Text Box 4"/>
          <p:cNvSpPr/>
          <p:nvPr/>
        </p:nvSpPr>
        <p:spPr>
          <a:xfrm>
            <a:off x="2700360" y="5300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Volby nerozhodují voliči, ale ti, co sčítají hlasy.“</a:t>
            </a:r>
            <a:endParaRPr b="0" lang="en-US" sz="2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talin"/>
          <p:cNvPicPr/>
          <p:nvPr/>
        </p:nvPicPr>
        <p:blipFill>
          <a:blip r:embed="rId1"/>
          <a:stretch/>
        </p:blipFill>
        <p:spPr>
          <a:xfrm>
            <a:off x="468360" y="539640"/>
            <a:ext cx="3987720" cy="5778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lensta1"/>
          <p:cNvPicPr/>
          <p:nvPr/>
        </p:nvPicPr>
        <p:blipFill>
          <a:blip r:embed="rId2"/>
          <a:stretch/>
        </p:blipFill>
        <p:spPr>
          <a:xfrm>
            <a:off x="4456080" y="765000"/>
            <a:ext cx="3884760" cy="2749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3" name="Text Box 5"/>
          <p:cNvSpPr/>
          <p:nvPr/>
        </p:nvSpPr>
        <p:spPr>
          <a:xfrm>
            <a:off x="4535640" y="3645000"/>
            <a:ext cx="3673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Propaganda: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J.V.Stalin jako vzdělaný vůdce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Palatino Linotyp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J.V.Stalin jako přítel a spolupracovník Lenina (ve skutečnosti Lenin vůči Stalinovi velmi ostražitý až nepřátelský)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1"/>
          <p:cNvSpPr/>
          <p:nvPr/>
        </p:nvSpPr>
        <p:spPr>
          <a:xfrm>
            <a:off x="2286000" y="6021360"/>
            <a:ext cx="4572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SimSun"/>
              </a:rPr>
              <a:t>http://cs.wikipedia.org/wiki/Soubor:Letna_stalin_sousosi.jpg</a:t>
            </a: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431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Stalinův pomník  na Letné (nedlouho po dokončení odstřelen)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58920" y="476280"/>
            <a:ext cx="676908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om Violence"/>
              </a:rPr>
              <a:t>5) SOUOSTROVÍ GULAG</a:t>
            </a:r>
            <a:endParaRPr b="0" lang="en-US" sz="72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98" name="Picture 3" descr="stalin"/>
          <p:cNvPicPr/>
          <p:nvPr/>
        </p:nvPicPr>
        <p:blipFill>
          <a:blip r:embed="rId1"/>
          <a:srcRect l="3069" t="2617" r="1264" b="7663"/>
          <a:stretch/>
        </p:blipFill>
        <p:spPr>
          <a:xfrm>
            <a:off x="3995640" y="321300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Text Box 4"/>
          <p:cNvSpPr/>
          <p:nvPr/>
        </p:nvSpPr>
        <p:spPr>
          <a:xfrm>
            <a:off x="2556000" y="537372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Smrt řeší všechny problémy. Není člověk, není problém.“</a:t>
            </a:r>
            <a:endParaRPr b="0" lang="en-US" sz="2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20640"/>
            <a:ext cx="7704360" cy="411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ffff"/>
                </a:solidFill>
                <a:latin typeface="Tom Violence"/>
              </a:rPr>
              <a:t>1) SKORO 60 LET PO SMRTI...</a:t>
            </a:r>
            <a:endParaRPr b="0" lang="en-US" sz="88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49" name="Picture 3" descr="stalin"/>
          <p:cNvPicPr/>
          <p:nvPr/>
        </p:nvPicPr>
        <p:blipFill>
          <a:blip r:embed="rId1"/>
          <a:srcRect l="3069" t="2617" r="1264" b="7663"/>
          <a:stretch/>
        </p:blipFill>
        <p:spPr>
          <a:xfrm>
            <a:off x="3995640" y="335772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1476360" y="5445000"/>
            <a:ext cx="6049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om Violence"/>
              </a:rPr>
              <a:t>...a stále</a:t>
            </a:r>
            <a:r>
              <a:rPr b="0" lang="en-US" sz="3600" spc="-1" strike="noStrike">
                <a:solidFill>
                  <a:srgbClr val="ffffff"/>
                </a:solidFill>
                <a:latin typeface="Tom Violence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om Violence"/>
              </a:rPr>
              <a:t>ž</a:t>
            </a:r>
            <a:r>
              <a:rPr b="0" lang="cs-CZ" sz="3600" spc="-1" strike="noStrike">
                <a:solidFill>
                  <a:srgbClr val="ffffff"/>
                </a:solidFill>
                <a:latin typeface="Tom Violence"/>
              </a:rPr>
              <a:t>ivý</a:t>
            </a:r>
            <a:endParaRPr b="0" lang="en-US" sz="36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274760" y="1143000"/>
            <a:ext cx="6780240" cy="464508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1"/>
          <p:cNvSpPr/>
          <p:nvPr/>
        </p:nvSpPr>
        <p:spPr>
          <a:xfrm>
            <a:off x="2050920" y="5943600"/>
            <a:ext cx="52578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SimSun"/>
              </a:rPr>
              <a:t>http://en.wikipedia.org/wiki/File:Gulag_Location_Map.png</a:t>
            </a:r>
            <a:endParaRPr b="0" lang="en-US" sz="14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340000" y="5634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GULAG – mapa táborů v SSSR</a:t>
            </a:r>
            <a:endParaRPr b="0" lang="en-US" sz="2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699px-White_Sea_Canal_map"/>
          <p:cNvPicPr/>
          <p:nvPr/>
        </p:nvPicPr>
        <p:blipFill>
          <a:blip r:embed="rId1"/>
          <a:stretch/>
        </p:blipFill>
        <p:spPr>
          <a:xfrm>
            <a:off x="2340000" y="1413000"/>
            <a:ext cx="5200560" cy="4464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Obdélník 2"/>
          <p:cNvSpPr/>
          <p:nvPr/>
        </p:nvSpPr>
        <p:spPr>
          <a:xfrm>
            <a:off x="2771640" y="5877000"/>
            <a:ext cx="4176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SimSun"/>
              </a:rPr>
              <a:t>http://en.wikipedia.org/wiki/File:White_Sea_Canal_map.png</a:t>
            </a:r>
            <a:endParaRPr b="0" lang="en-US" sz="14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0000" y="563400"/>
            <a:ext cx="52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Baltský kanál – po dokončení nevyužíván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6004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Obdélník 1"/>
          <p:cNvSpPr/>
          <p:nvPr/>
        </p:nvSpPr>
        <p:spPr>
          <a:xfrm>
            <a:off x="250920" y="4941720"/>
            <a:ext cx="4176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SimSun"/>
              </a:rPr>
              <a:t>http://en.wikipedia.org/wiki/File:Kolyma_road00.jpg</a:t>
            </a:r>
            <a:endParaRPr b="0" lang="en-US" sz="14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572000" y="2581200"/>
            <a:ext cx="4307040" cy="3500640"/>
          </a:xfrm>
          <a:prstGeom prst="rect">
            <a:avLst/>
          </a:prstGeom>
          <a:ln w="0">
            <a:noFill/>
          </a:ln>
        </p:spPr>
      </p:pic>
      <p:sp>
        <p:nvSpPr>
          <p:cNvPr id="109" name="Obdélník 5"/>
          <p:cNvSpPr/>
          <p:nvPr/>
        </p:nvSpPr>
        <p:spPr>
          <a:xfrm>
            <a:off x="260280" y="5770440"/>
            <a:ext cx="4176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SimSun"/>
              </a:rPr>
              <a:t>http://en.wikipedia.org/wiki/File:Canal_Mer_Blanche.jpg</a:t>
            </a:r>
            <a:endParaRPr b="0" lang="en-US" sz="1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95280" y="558720"/>
            <a:ext cx="734544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_1690"/>
          <p:cNvPicPr/>
          <p:nvPr/>
        </p:nvPicPr>
        <p:blipFill>
          <a:blip r:embed="rId1"/>
          <a:srcRect l="0" t="14349" r="0" b="0"/>
          <a:stretch/>
        </p:blipFill>
        <p:spPr>
          <a:xfrm>
            <a:off x="270000" y="260280"/>
            <a:ext cx="4140000" cy="4727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" name="Obdélník 2"/>
          <p:cNvSpPr/>
          <p:nvPr/>
        </p:nvSpPr>
        <p:spPr>
          <a:xfrm>
            <a:off x="2320920" y="5157720"/>
            <a:ext cx="20890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Fotografie jsou majetkem autora prezentace a slouží výhradně pro účely prezentace.</a:t>
            </a:r>
            <a:endParaRPr b="0" lang="en-US" sz="16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53" name="Picture 4" descr="IMG_1705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43280" y="231840"/>
            <a:ext cx="4262760" cy="319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P1000627"/>
          <p:cNvPicPr/>
          <p:nvPr/>
        </p:nvPicPr>
        <p:blipFill>
          <a:blip r:embed="rId3"/>
          <a:srcRect l="0" t="7861" r="0" b="0"/>
          <a:stretch/>
        </p:blipFill>
        <p:spPr>
          <a:xfrm>
            <a:off x="4641840" y="3641760"/>
            <a:ext cx="3835440" cy="2362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1709"/>
          <p:cNvPicPr/>
          <p:nvPr/>
        </p:nvPicPr>
        <p:blipFill>
          <a:blip r:embed="rId1"/>
          <a:stretch/>
        </p:blipFill>
        <p:spPr>
          <a:xfrm>
            <a:off x="1476360" y="476280"/>
            <a:ext cx="6697800" cy="502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bdélník 2"/>
          <p:cNvSpPr/>
          <p:nvPr/>
        </p:nvSpPr>
        <p:spPr>
          <a:xfrm>
            <a:off x="2409840" y="5688000"/>
            <a:ext cx="44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Fotografie je majetkem autora prezentace a slouží výhradně pro účely prezentace.</a:t>
            </a:r>
            <a:endParaRPr b="0" lang="en-US" sz="16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887400" y="620640"/>
            <a:ext cx="7488360" cy="27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ffff"/>
                </a:solidFill>
                <a:latin typeface="Tom Violence"/>
              </a:rPr>
              <a:t>2) PROTI VŠEM</a:t>
            </a:r>
            <a:endParaRPr b="0" lang="en-US" sz="8800" spc="-1" strike="noStrike">
              <a:solidFill>
                <a:srgbClr val="000000"/>
              </a:solidFill>
              <a:latin typeface="SimSun"/>
            </a:endParaRPr>
          </a:p>
        </p:txBody>
      </p:sp>
      <p:pic>
        <p:nvPicPr>
          <p:cNvPr id="58" name="Picture 4" descr="stalin"/>
          <p:cNvPicPr/>
          <p:nvPr/>
        </p:nvPicPr>
        <p:blipFill>
          <a:blip r:embed="rId1"/>
          <a:srcRect l="3069" t="2617" r="1264" b="7663"/>
          <a:stretch/>
        </p:blipFill>
        <p:spPr>
          <a:xfrm>
            <a:off x="3995640" y="3213000"/>
            <a:ext cx="127152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2700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Vděčnost je nemoc, kterou trpí psi“</a:t>
            </a:r>
            <a:endParaRPr b="0" lang="en-US" sz="24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alin s Leninem v březnu 1919"/>
          <p:cNvPicPr/>
          <p:nvPr/>
        </p:nvPicPr>
        <p:blipFill>
          <a:blip r:embed="rId1"/>
          <a:stretch/>
        </p:blipFill>
        <p:spPr>
          <a:xfrm>
            <a:off x="1692360" y="1197000"/>
            <a:ext cx="6119640" cy="39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Text Box 5"/>
          <p:cNvSpPr/>
          <p:nvPr/>
        </p:nvSpPr>
        <p:spPr>
          <a:xfrm>
            <a:off x="1258920" y="537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J.V.Stalin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443640" y="5373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V.I.Lenin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195640" y="1125360"/>
            <a:ext cx="54007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SimSun"/>
              </a:rPr>
              <a:t>Soudruh Stalin soustředil ve svých rukou obrovskou moc a já si nejsem jist,že jí dokáže vždy obezřetně používat...</a:t>
            </a:r>
            <a:endParaRPr b="0" lang="en-US" sz="36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050920" y="981000"/>
            <a:ext cx="5400720" cy="393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SimSun"/>
              </a:rPr>
              <a:t>...Soudruh Stalin je příliš hrubý. Tato jeho vada je nepřijatelná ve funkci generálního tajemníka. Proto ho navrhuji z této funkce odvolat.</a:t>
            </a:r>
            <a:endParaRPr b="0" lang="en-US" sz="36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686920" y="558972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SimSun"/>
              </a:rPr>
              <a:t>Závěť V.I.Lenina</a:t>
            </a:r>
            <a:endParaRPr b="0" lang="en-US" sz="28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Tukhachevsky-mikhail-2"/>
          <p:cNvPicPr/>
          <p:nvPr/>
        </p:nvPicPr>
        <p:blipFill>
          <a:blip r:embed="rId1"/>
          <a:stretch/>
        </p:blipFill>
        <p:spPr>
          <a:xfrm>
            <a:off x="5505480" y="476280"/>
            <a:ext cx="291924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5" descr="trockij"/>
          <p:cNvPicPr/>
          <p:nvPr/>
        </p:nvPicPr>
        <p:blipFill>
          <a:blip r:embed="rId2"/>
          <a:stretch/>
        </p:blipFill>
        <p:spPr>
          <a:xfrm>
            <a:off x="611280" y="476280"/>
            <a:ext cx="428148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539640" y="537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Lev Trockij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372360" y="5373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Tuchačevskij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692360" y="59482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바탕"/>
              </a:rPr>
              <a:t>LIKVIDACE NEPOHODLNÝCH KONKURENTŮ</a:t>
            </a:r>
            <a:endParaRPr b="0" lang="en-US" sz="2000" spc="-1" strike="noStrike">
              <a:solidFill>
                <a:srgbClr val="000000"/>
              </a:solidFill>
              <a:latin typeface="SimSu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22:20Z</dcterms:created>
  <dc:creator>lazza</dc:creator>
  <dc:description/>
  <dc:language>en-US</dc:language>
  <cp:lastModifiedBy>martin</cp:lastModifiedBy>
  <dcterms:modified xsi:type="dcterms:W3CDTF">2013-01-12T10:17:41Z</dcterms:modified>
  <cp:revision>77</cp:revision>
  <dc:subject/>
  <dc:title>Snímek 1</dc:title>
</cp:coreProperties>
</file>