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FEA-880F-402C-AB8E-3E72A9E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8EA-3DF1-4D8F-A1F7-708BA811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4D1-D1C9-4DF2-BA2B-3B82DACB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76E-F935-4B21-AEAB-0F55AA48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600-45F1-4DD5-AD4C-B2793882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956-0505-4703-9814-529D81BD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08D-C978-4DDE-8B87-15E7818E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DA7-8205-45AD-A4D4-FA0735CD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E33-0436-4FCC-AAB4-5F3F98D2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78C-2751-4C80-BB60-FB185F8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81F-7CBD-4A6A-8056-8098D50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3BE-2A66-42FF-A4A6-E12E57D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b14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51F8-2DD4-4F39-83BD-840764D4D9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57px-28"/>
          <p:cNvPicPr/>
          <p:nvPr/>
        </p:nvPicPr>
        <p:blipFill>
          <a:blip r:embed="rId1"/>
          <a:stretch/>
        </p:blipFill>
        <p:spPr>
          <a:xfrm>
            <a:off x="3889440" y="2852640"/>
            <a:ext cx="312876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1008000" y="83664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Engravers MT"/>
              </a:rPr>
              <a:t>ČESKOSLOVENSK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8144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OKOLNOSTI VZNIKU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4"/>
          <p:cNvSpPr/>
          <p:nvPr/>
        </p:nvSpPr>
        <p:spPr>
          <a:xfrm>
            <a:off x="7777080" y="4530600"/>
            <a:ext cx="2768760" cy="1797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uvedené v této prezentaci – není-li výslovně uvedeno jinak – nepodléhají vzhledem k době svého vzniku žádným autorským právů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"/>
          <p:cNvSpPr/>
          <p:nvPr/>
        </p:nvSpPr>
        <p:spPr>
          <a:xfrm>
            <a:off x="5905440" y="271440"/>
            <a:ext cx="4579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06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undesarchiv_Bild_183-1987-0922-500,_Wien,_Heldenplatz,_Rede_Adolf_Hitler"/>
          <p:cNvPicPr/>
          <p:nvPr/>
        </p:nvPicPr>
        <p:blipFill>
          <a:blip r:embed="rId1"/>
          <a:srcRect l="0" t="0" r="0" b="5453"/>
          <a:stretch/>
        </p:blipFill>
        <p:spPr>
          <a:xfrm>
            <a:off x="647640" y="836640"/>
            <a:ext cx="5467320" cy="3594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9" name="Picture 3" descr="hitheldclose"/>
          <p:cNvPicPr/>
          <p:nvPr/>
        </p:nvPicPr>
        <p:blipFill>
          <a:blip r:embed="rId2"/>
          <a:stretch/>
        </p:blipFill>
        <p:spPr>
          <a:xfrm>
            <a:off x="6337440" y="2349360"/>
            <a:ext cx="3960720" cy="3225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647640" y="4508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Anšlus (připojení) Rakouska: Hitler řeční na Náměstí Hrdinů ve Vídni 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csr8"/>
          <p:cNvPicPr/>
          <p:nvPr/>
        </p:nvPicPr>
        <p:blipFill>
          <a:blip r:embed="rId3"/>
          <a:stretch/>
        </p:blipFill>
        <p:spPr>
          <a:xfrm>
            <a:off x="431640" y="765000"/>
            <a:ext cx="10226880" cy="491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2" name="Picture 12" descr="csr2"/>
          <p:cNvPicPr/>
          <p:nvPr/>
        </p:nvPicPr>
        <p:blipFill>
          <a:blip r:embed="rId4"/>
          <a:stretch/>
        </p:blipFill>
        <p:spPr>
          <a:xfrm>
            <a:off x="431640" y="765000"/>
            <a:ext cx="10228320" cy="4910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bdélník 6"/>
          <p:cNvSpPr/>
          <p:nvPr/>
        </p:nvSpPr>
        <p:spPr>
          <a:xfrm>
            <a:off x="4464000" y="5675400"/>
            <a:ext cx="244800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sk.wikipedia.org/wiki/Súbor:Czechoslovakia_1930_linguistic_map_-_created_2008-10-30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24360" y="333360"/>
            <a:ext cx="4897440" cy="459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NÁRAZNÍK: MALÁ DOH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Little_Entente"/>
          <p:cNvPicPr/>
          <p:nvPr/>
        </p:nvPicPr>
        <p:blipFill>
          <a:blip r:embed="rId1"/>
          <a:stretch/>
        </p:blipFill>
        <p:spPr>
          <a:xfrm>
            <a:off x="2592360" y="1197000"/>
            <a:ext cx="5761080" cy="471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Text Box 5"/>
          <p:cNvSpPr/>
          <p:nvPr/>
        </p:nvSpPr>
        <p:spPr>
          <a:xfrm>
            <a:off x="2592360" y="6093000"/>
            <a:ext cx="576108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Malá Dohoda: ČSR, Rumunsko, Jugoslávie (1921-39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Little_Entente1"/>
          <p:cNvPicPr/>
          <p:nvPr/>
        </p:nvPicPr>
        <p:blipFill>
          <a:blip r:embed="rId2"/>
          <a:stretch/>
        </p:blipFill>
        <p:spPr>
          <a:xfrm>
            <a:off x="2592360" y="1197000"/>
            <a:ext cx="5761080" cy="471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8" name="Picture 16" descr="Little_Entente2"/>
          <p:cNvPicPr/>
          <p:nvPr/>
        </p:nvPicPr>
        <p:blipFill>
          <a:blip r:embed="rId3"/>
          <a:stretch/>
        </p:blipFill>
        <p:spPr>
          <a:xfrm>
            <a:off x="2592360" y="1197000"/>
            <a:ext cx="5761080" cy="471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Little_Entente3"/>
          <p:cNvPicPr/>
          <p:nvPr/>
        </p:nvPicPr>
        <p:blipFill>
          <a:blip r:embed="rId4"/>
          <a:stretch/>
        </p:blipFill>
        <p:spPr>
          <a:xfrm>
            <a:off x="2592360" y="1197000"/>
            <a:ext cx="5761080" cy="4716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1"/>
          <p:cNvSpPr/>
          <p:nvPr/>
        </p:nvSpPr>
        <p:spPr>
          <a:xfrm>
            <a:off x="1655640" y="1341360"/>
            <a:ext cx="4969080" cy="398880"/>
          </a:xfrm>
          <a:prstGeom prst="rect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Nárazník proti Německu a SS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297080" y="4941720"/>
            <a:ext cx="4248000" cy="703800"/>
          </a:xfrm>
          <a:prstGeom prst="rect">
            <a:avLst/>
          </a:prstGeom>
          <a:solidFill>
            <a:srgbClr val="00008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Francouzský „Cordon sanitaire“ (dosl.Ochranné zdravotní pás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264360" y="4437000"/>
            <a:ext cx="3744720" cy="703800"/>
          </a:xfrm>
          <a:prstGeom prst="rect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Bariéra proti obnovení Rakouska-Uhe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10"/>
          <p:cNvSpPr/>
          <p:nvPr/>
        </p:nvSpPr>
        <p:spPr>
          <a:xfrm>
            <a:off x="217440" y="2852640"/>
            <a:ext cx="237492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Tato mapa je vytvořena autorem prezentace výhradně pro tuto prezenta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395280" y="558720"/>
            <a:ext cx="734544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92360" y="260280"/>
            <a:ext cx="5761080" cy="459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PŘED VYHLÁŠENÍM REPUBLIK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31640" y="5805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Karel I Habsburský (1916-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Kaiser_franz"/>
          <p:cNvPicPr/>
          <p:nvPr/>
        </p:nvPicPr>
        <p:blipFill>
          <a:blip r:embed="rId1"/>
          <a:stretch/>
        </p:blipFill>
        <p:spPr>
          <a:xfrm>
            <a:off x="431640" y="1268280"/>
            <a:ext cx="2567160" cy="4465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Picture 9" descr="Karl_of_Austria"/>
          <p:cNvPicPr/>
          <p:nvPr/>
        </p:nvPicPr>
        <p:blipFill>
          <a:blip r:embed="rId2"/>
          <a:stretch/>
        </p:blipFill>
        <p:spPr>
          <a:xfrm>
            <a:off x="431640" y="1268280"/>
            <a:ext cx="4008600" cy="4465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" name="Text Box 11"/>
          <p:cNvSpPr/>
          <p:nvPr/>
        </p:nvSpPr>
        <p:spPr>
          <a:xfrm>
            <a:off x="4824360" y="580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Slib národní autonomie: hrozba rozbití historického jádra Zemí Koruny če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4653000" y="2671920"/>
            <a:ext cx="5929200" cy="311940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9"/>
          <p:cNvSpPr/>
          <p:nvPr/>
        </p:nvSpPr>
        <p:spPr>
          <a:xfrm>
            <a:off x="5703840" y="2106720"/>
            <a:ext cx="4878360" cy="52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en.wikipedia.org/wiki/File:Der_Aufbau_der_Republik_Deutschösterreich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92360" y="260280"/>
            <a:ext cx="5761080" cy="459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A PO VYHLÁŠENÍ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Karl_of_Austria"/>
          <p:cNvPicPr/>
          <p:nvPr/>
        </p:nvPicPr>
        <p:blipFill>
          <a:blip r:embed="rId1"/>
          <a:stretch/>
        </p:blipFill>
        <p:spPr>
          <a:xfrm>
            <a:off x="1081080" y="981000"/>
            <a:ext cx="2198520" cy="24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Picture 10" descr="Kratky,_Frantisek_-_Kolin,_postovni_schranka_(28"/>
          <p:cNvPicPr/>
          <p:nvPr/>
        </p:nvPicPr>
        <p:blipFill>
          <a:blip r:embed="rId2"/>
          <a:srcRect l="5343" t="0" r="14495" b="0"/>
          <a:stretch/>
        </p:blipFill>
        <p:spPr>
          <a:xfrm>
            <a:off x="1081080" y="3645000"/>
            <a:ext cx="295128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12" descr="TGM_Tabor_21"/>
          <p:cNvPicPr/>
          <p:nvPr/>
        </p:nvPicPr>
        <p:blipFill>
          <a:blip r:embed="rId3"/>
          <a:stretch/>
        </p:blipFill>
        <p:spPr>
          <a:xfrm>
            <a:off x="4321080" y="3645000"/>
            <a:ext cx="3440160" cy="245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3" descr="Karel_Kramář"/>
          <p:cNvPicPr/>
          <p:nvPr/>
        </p:nvPicPr>
        <p:blipFill>
          <a:blip r:embed="rId4"/>
          <a:stretch/>
        </p:blipFill>
        <p:spPr>
          <a:xfrm>
            <a:off x="7993080" y="3645000"/>
            <a:ext cx="1785960" cy="24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Line 15"/>
          <p:cNvSpPr/>
          <p:nvPr/>
        </p:nvSpPr>
        <p:spPr>
          <a:xfrm>
            <a:off x="1081080" y="981000"/>
            <a:ext cx="215892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1081080" y="981000"/>
            <a:ext cx="223200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2232000" y="4365720"/>
            <a:ext cx="64944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2231640" y="4365720"/>
            <a:ext cx="57636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224000" y="2781360"/>
            <a:ext cx="1944720" cy="642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Detronizace Habsbu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464000" y="5734080"/>
            <a:ext cx="3168720" cy="36828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TGM zvolen prezid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8064360" y="5445000"/>
            <a:ext cx="1657440" cy="91692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Karel Kramář premié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"/>
          <p:cNvPicPr/>
          <p:nvPr/>
        </p:nvPicPr>
        <p:blipFill>
          <a:blip r:embed="rId5"/>
          <a:stretch/>
        </p:blipFill>
        <p:spPr>
          <a:xfrm>
            <a:off x="3414600" y="954000"/>
            <a:ext cx="4649760" cy="2481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0"/>
          <p:cNvSpPr/>
          <p:nvPr/>
        </p:nvSpPr>
        <p:spPr>
          <a:xfrm>
            <a:off x="3816360" y="3068640"/>
            <a:ext cx="5689440" cy="368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Vyhlášena republika (28.10.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1"/>
          <p:cNvSpPr/>
          <p:nvPr/>
        </p:nvSpPr>
        <p:spPr>
          <a:xfrm>
            <a:off x="8064360" y="961920"/>
            <a:ext cx="259236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cs.wikipedia.org/wiki/Soubor:Czechoslovaki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13080" y="333360"/>
            <a:ext cx="4319640" cy="82548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PROČ PRÁVĚ ČESKOSLOVENS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"/>
          <a:stretch/>
        </p:blipFill>
        <p:spPr>
          <a:xfrm>
            <a:off x="1130400" y="1380960"/>
            <a:ext cx="8972280" cy="478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792000" y="3429000"/>
            <a:ext cx="2521080" cy="703800"/>
          </a:xfrm>
          <a:prstGeom prst="rect">
            <a:avLst/>
          </a:prstGeom>
          <a:solidFill>
            <a:srgbClr val="333399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Německé oblasti (3,1m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691080" y="2717640"/>
            <a:ext cx="3024000" cy="703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esky hovořící oblast (6,8m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360360" y="1916280"/>
            <a:ext cx="3529080" cy="398880"/>
          </a:xfrm>
          <a:prstGeom prst="rect">
            <a:avLst/>
          </a:prstGeom>
          <a:solidFill>
            <a:srgbClr val="333399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Německé oblasti (3,1m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022560" y="3440160"/>
            <a:ext cx="3673440" cy="100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eskoslovenský národ (8,7mil., původně jen 6,8m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616720" y="4797360"/>
            <a:ext cx="3528720" cy="398880"/>
          </a:xfrm>
          <a:prstGeom prst="rect">
            <a:avLst/>
          </a:prstGeom>
          <a:solidFill>
            <a:srgbClr val="0099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Maďaři (750ti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7272360" y="3789360"/>
            <a:ext cx="3240000" cy="39888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usíni (460ti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17"/>
          <p:cNvSpPr/>
          <p:nvPr/>
        </p:nvSpPr>
        <p:spPr>
          <a:xfrm>
            <a:off x="7943760" y="642960"/>
            <a:ext cx="215892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cs.wikipedia.org/wiki/Soubor:Czechoslovaki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657px-28"/>
          <p:cNvPicPr/>
          <p:nvPr/>
        </p:nvPicPr>
        <p:blipFill>
          <a:blip r:embed="rId1"/>
          <a:stretch/>
        </p:blipFill>
        <p:spPr>
          <a:xfrm>
            <a:off x="3889440" y="2852640"/>
            <a:ext cx="312876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3"/>
          <p:cNvSpPr/>
          <p:nvPr/>
        </p:nvSpPr>
        <p:spPr>
          <a:xfrm>
            <a:off x="1873080" y="549360"/>
            <a:ext cx="719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Engravers MT"/>
              </a:rPr>
              <a:t>NOVÁ ZEMĚ STARÉ VÁŠN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92360" y="595008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O SPORECH, SRÁŽKÁCH A OTEVŘENÉ VÁLCE S NOVÝMI (I STARÝMI) SOUS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13080" y="333360"/>
            <a:ext cx="4319640" cy="459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ČEŠTÍ NĚ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sudety"/>
          <p:cNvPicPr/>
          <p:nvPr/>
        </p:nvPicPr>
        <p:blipFill>
          <a:blip r:embed="rId1"/>
          <a:stretch/>
        </p:blipFill>
        <p:spPr>
          <a:xfrm>
            <a:off x="4248000" y="1197000"/>
            <a:ext cx="6048360" cy="340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7345440" y="4653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Němci k Němcům: snaha připojení k Německu nebo Rakous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Untitled-1"/>
          <p:cNvPicPr/>
          <p:nvPr/>
        </p:nvPicPr>
        <p:blipFill>
          <a:blip r:embed="rId2"/>
          <a:stretch/>
        </p:blipFill>
        <p:spPr>
          <a:xfrm>
            <a:off x="4248000" y="1197000"/>
            <a:ext cx="6048360" cy="340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krusne hory4"/>
          <p:cNvPicPr/>
          <p:nvPr/>
        </p:nvPicPr>
        <p:blipFill>
          <a:blip r:embed="rId3"/>
          <a:stretch/>
        </p:blipFill>
        <p:spPr>
          <a:xfrm>
            <a:off x="720720" y="1197000"/>
            <a:ext cx="3311640" cy="2236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Picture 12" descr="doupov1"/>
          <p:cNvPicPr/>
          <p:nvPr/>
        </p:nvPicPr>
        <p:blipFill>
          <a:blip r:embed="rId4"/>
          <a:stretch/>
        </p:blipFill>
        <p:spPr>
          <a:xfrm>
            <a:off x="720720" y="1197000"/>
            <a:ext cx="33130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Picture 13" descr="odsun3"/>
          <p:cNvPicPr/>
          <p:nvPr/>
        </p:nvPicPr>
        <p:blipFill>
          <a:blip r:embed="rId5"/>
          <a:stretch/>
        </p:blipFill>
        <p:spPr>
          <a:xfrm>
            <a:off x="936720" y="3645000"/>
            <a:ext cx="2879640" cy="2136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15" descr="csr6"/>
          <p:cNvPicPr/>
          <p:nvPr/>
        </p:nvPicPr>
        <p:blipFill>
          <a:blip r:embed="rId6"/>
          <a:stretch/>
        </p:blipFill>
        <p:spPr>
          <a:xfrm>
            <a:off x="4248000" y="4797360"/>
            <a:ext cx="3168720" cy="152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Obdélník 1"/>
          <p:cNvSpPr/>
          <p:nvPr/>
        </p:nvSpPr>
        <p:spPr>
          <a:xfrm>
            <a:off x="7416720" y="5799240"/>
            <a:ext cx="3097440" cy="73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sk.wikipedia.org/wiki/Súbor:Czechoslovakia_1930_linguistic_map_-_created_2008-10-30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24360" y="333360"/>
            <a:ext cx="4897440" cy="459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SOUSEDS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800px-Czechoslovakia_1930_linguistic_map_-_created_2008-10-30-cz"/>
          <p:cNvPicPr/>
          <p:nvPr/>
        </p:nvPicPr>
        <p:blipFill>
          <a:blip r:embed="rId1"/>
          <a:srcRect l="1181" t="11144" r="383" b="14970"/>
          <a:stretch/>
        </p:blipFill>
        <p:spPr>
          <a:xfrm>
            <a:off x="2879640" y="1270080"/>
            <a:ext cx="5256360" cy="2395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1" name="Picture 4" descr="800px-Czechoslovakia_1930_linguistic_map_-_created_2008-10-30-cz"/>
          <p:cNvPicPr/>
          <p:nvPr/>
        </p:nvPicPr>
        <p:blipFill>
          <a:blip r:embed="rId2"/>
          <a:srcRect l="46081" t="11144" r="26371" b="42212"/>
          <a:stretch/>
        </p:blipFill>
        <p:spPr>
          <a:xfrm>
            <a:off x="5824440" y="1268280"/>
            <a:ext cx="2311560" cy="2376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2" name="Oval 6"/>
          <p:cNvSpPr/>
          <p:nvPr/>
        </p:nvSpPr>
        <p:spPr>
          <a:xfrm>
            <a:off x="5327640" y="2060640"/>
            <a:ext cx="54144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192720" y="1341360"/>
            <a:ext cx="1817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POL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736720" y="371628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Sedmidenní válka s Polskem o Těšínsko (leden 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800px-Legionáři_z_Francie_v_bojích_o_Těšínsko"/>
          <p:cNvPicPr/>
          <p:nvPr/>
        </p:nvPicPr>
        <p:blipFill>
          <a:blip r:embed="rId3"/>
          <a:stretch/>
        </p:blipFill>
        <p:spPr>
          <a:xfrm>
            <a:off x="3205080" y="4255920"/>
            <a:ext cx="4608720" cy="224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Picture 11" descr="ceskoslovensko"/>
          <p:cNvPicPr/>
          <p:nvPr/>
        </p:nvPicPr>
        <p:blipFill>
          <a:blip r:embed="rId4"/>
          <a:stretch/>
        </p:blipFill>
        <p:spPr>
          <a:xfrm>
            <a:off x="878040" y="1916280"/>
            <a:ext cx="185868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2" descr="polsko16764velka"/>
          <p:cNvPicPr/>
          <p:nvPr/>
        </p:nvPicPr>
        <p:blipFill>
          <a:blip r:embed="rId5"/>
          <a:srcRect l="0" t="6118" r="0" b="0"/>
          <a:stretch/>
        </p:blipFill>
        <p:spPr>
          <a:xfrm>
            <a:off x="8426520" y="1557360"/>
            <a:ext cx="1871640" cy="116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Obdélník 12"/>
          <p:cNvSpPr/>
          <p:nvPr/>
        </p:nvSpPr>
        <p:spPr>
          <a:xfrm>
            <a:off x="372960" y="3267000"/>
            <a:ext cx="244656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sk.wikipedia.org/wiki/Súbor:Czechoslovakia_1930_linguistic_map_-_created_2008-10-30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3"/>
          <p:cNvSpPr/>
          <p:nvPr/>
        </p:nvSpPr>
        <p:spPr>
          <a:xfrm>
            <a:off x="90360" y="316080"/>
            <a:ext cx="2646360" cy="15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lajky: Tento soubor nemůže být předmětem autorských práv, a je tedy volným dílem, protože sestává výhradně z informací, jež jsou veřejným vlastnictvím, a neobsahuje žádné autorské dí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6"/>
          <p:cNvSpPr/>
          <p:nvPr/>
        </p:nvSpPr>
        <p:spPr>
          <a:xfrm>
            <a:off x="1873080" y="4840200"/>
            <a:ext cx="9072720" cy="2037240"/>
          </a:xfrm>
          <a:prstGeom prst="rect">
            <a:avLst/>
          </a:prstGeom>
          <a:solidFill>
            <a:srgbClr val="0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7272360" y="4869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Invaze československých legií na Slovensko: Maďarsko pod tlakem vyklíz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0" y="0"/>
            <a:ext cx="8353440" cy="454068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7" descr="412px-Č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545080" y="4149720"/>
            <a:ext cx="1552680" cy="225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38" descr="800px-1"/>
          <p:cNvPicPr/>
          <p:nvPr/>
        </p:nvPicPr>
        <p:blipFill>
          <a:blip r:embed="rId2"/>
          <a:stretch/>
        </p:blipFill>
        <p:spPr>
          <a:xfrm>
            <a:off x="1081080" y="3645000"/>
            <a:ext cx="4249800" cy="277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5" name="Text Box 39"/>
          <p:cNvSpPr/>
          <p:nvPr/>
        </p:nvSpPr>
        <p:spPr>
          <a:xfrm>
            <a:off x="431640" y="227664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Béla Ku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Maďarská republika rad (březen-srpen 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0" descr="416px-Bela-kun--outlawsdiary00tormuoft"/>
          <p:cNvPicPr/>
          <p:nvPr/>
        </p:nvPicPr>
        <p:blipFill>
          <a:blip r:embed="rId3"/>
          <a:stretch/>
        </p:blipFill>
        <p:spPr>
          <a:xfrm>
            <a:off x="2016000" y="549360"/>
            <a:ext cx="1436760" cy="207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7" name="Text Box 45"/>
          <p:cNvSpPr/>
          <p:nvPr/>
        </p:nvSpPr>
        <p:spPr>
          <a:xfrm>
            <a:off x="5329080" y="33638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Okupace Slovenska: Slovenská republika rad (červen-červenec 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1" descr="csr7"/>
          <p:cNvPicPr/>
          <p:nvPr/>
        </p:nvPicPr>
        <p:blipFill>
          <a:blip r:embed="rId4"/>
          <a:stretch/>
        </p:blipFill>
        <p:spPr>
          <a:xfrm>
            <a:off x="3673440" y="549360"/>
            <a:ext cx="5759640" cy="2763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Oval 52"/>
          <p:cNvSpPr/>
          <p:nvPr/>
        </p:nvSpPr>
        <p:spPr>
          <a:xfrm>
            <a:off x="5618160" y="2276640"/>
            <a:ext cx="3384720" cy="1009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8064360" y="2852640"/>
            <a:ext cx="21783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MAĎA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délník 12"/>
          <p:cNvSpPr/>
          <p:nvPr/>
        </p:nvSpPr>
        <p:spPr>
          <a:xfrm>
            <a:off x="7993080" y="333360"/>
            <a:ext cx="244800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sk.wikipedia.org/wiki/Súbor:Czechoslovakia_1930_linguistic_map_-_created_2008-10-30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0" descr="kafka3"/>
          <p:cNvPicPr/>
          <p:nvPr/>
        </p:nvPicPr>
        <p:blipFill>
          <a:blip r:embed="rId1"/>
          <a:stretch/>
        </p:blipFill>
        <p:spPr>
          <a:xfrm>
            <a:off x="3529080" y="2708280"/>
            <a:ext cx="3960720" cy="256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Text Box 14"/>
          <p:cNvSpPr/>
          <p:nvPr/>
        </p:nvSpPr>
        <p:spPr>
          <a:xfrm>
            <a:off x="3457440" y="537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Vitorazsko: České Velenice/Cmunt (původně Gm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ü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nd Bahnh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csr8"/>
          <p:cNvPicPr/>
          <p:nvPr/>
        </p:nvPicPr>
        <p:blipFill>
          <a:blip r:embed="rId2"/>
          <a:stretch/>
        </p:blipFill>
        <p:spPr>
          <a:xfrm>
            <a:off x="3529080" y="582480"/>
            <a:ext cx="3960720" cy="1903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Oval 17"/>
          <p:cNvSpPr/>
          <p:nvPr/>
        </p:nvSpPr>
        <p:spPr>
          <a:xfrm>
            <a:off x="3889440" y="1557360"/>
            <a:ext cx="1104840" cy="433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313080" y="2349360"/>
            <a:ext cx="18734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RAKOU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11"/>
          <p:cNvSpPr/>
          <p:nvPr/>
        </p:nvSpPr>
        <p:spPr>
          <a:xfrm>
            <a:off x="8064360" y="579600"/>
            <a:ext cx="2446560" cy="94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http://sk.wikipedia.org/wiki/Súbor:Czechoslovakia_1930_linguistic_map_-_created_2008-10-30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47:53Z</dcterms:created>
  <dc:creator>lazza</dc:creator>
  <dc:description/>
  <dc:language>en-US</dc:language>
  <cp:lastModifiedBy>martin</cp:lastModifiedBy>
  <dcterms:modified xsi:type="dcterms:W3CDTF">2013-01-12T10:13:08Z</dcterms:modified>
  <cp:revision>55</cp:revision>
  <dc:subject/>
  <dc:title>Snímek 1</dc:title>
</cp:coreProperties>
</file>