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5E6-3607-46D9-A7B8-8A60C5DF9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DC74-AE22-4B83-BD23-D34B023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51F17-860F-4C18-8703-574EDDB1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8E034-3955-4827-95BE-783D61D1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8AC5F-2F28-4884-AA51-F306CA6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790C-3979-4966-8824-2D7658A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41975-F864-41D9-B31A-BA4C331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C2252-B654-4349-9193-69D645A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2EFBB-40C3-4847-BCE4-F8CB6E1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F7D00-EB36-4C0A-A1F5-0278FC64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C172A-DB15-4EDB-8E2E-58B434AA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E6C0B-D852-4505-B032-1EE8D91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240-69C3-4766-B5C0-69DDE190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83CFA-A47E-46D9-BD4D-5A4115D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DCE2B-0746-40B4-9EA7-B12599D9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2E154-4812-45B8-AA81-D68D835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528EC-0C9F-4DD5-A140-776BE6C8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F1E85-4C41-4F4F-A7D7-6BE92AA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D544F-85B7-457C-9F7D-B76FF40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2605C-4EAE-4C66-B202-B833D77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718D2-1065-451E-A216-36AAB12E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AECC9-8AF6-4222-B635-8E19BA3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97793-07AB-4DED-A2B7-471BA063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FF09-884C-44E8-ABC6-2DD075E9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6ED04-074C-4DA2-ABD5-B63B7E35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1EC85-E2B7-48B4-A1FD-719BA7FE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D37F1-C1D7-46A2-AB2A-D81E151B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EE72B-EFD7-4ED8-8E9E-6C308158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98284-766C-437D-A627-5C367597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6B4D6-3BEF-410E-85F3-8B9547DF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954F4-B6C1-4CEC-AC71-EC0492F4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453E8-9CD6-4C96-BFFF-3EA25A3F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EF7A0-A4A6-4C03-B520-A39A6002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5B460-91B0-41DA-B215-67543E0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8D55-CF0A-45AF-A343-38882B7E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86CDA-AD48-4425-91F4-8DCF2523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F7EC4-C83A-4395-B4D9-AC5FF31BC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6F8A8-05B9-4749-A4F7-C0D470AA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49DA9-6D6A-49C9-9F1E-7E664C23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27079-1AC9-4779-A598-B20BAEE8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015ED-A3E3-492E-89F2-FDF31C5F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A75A10-47E7-49D7-B633-BBBF62FB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A1865-175F-442C-B448-17D8A474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FD5960-23B3-4866-BF08-F9D443D2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98849-048A-421B-B93B-5C67F550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8A5D-3B8F-4B3D-8F05-F6F9C26C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4D33B-C08A-441C-A68C-C3DBD7B8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BCA55-2E05-4566-890E-7F1F8B76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3C3F8C-A327-46D7-AE81-A863692C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D3048-4110-448C-AB08-65B6C064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813B1-7AFD-439E-8443-BC02FCBC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88C6A-D436-4FBD-8724-BB76E7335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961EF-D043-41B4-88A6-D22F9F6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B5919-75D6-418D-83F2-59171CA0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48B07-DDDF-4B79-B9A8-6BD22E0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C64A5-43D1-4BC2-AF01-03EC843F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BB2E-BB37-47B8-8CA7-9A3CBD6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7886E-112A-4992-B105-80D6BAEA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F7CA2E-0A69-4CD2-95B4-7D487F6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69D9EA-6D5D-4EB4-93E6-5A3F32FB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84C8A-B3F1-4016-B883-CD6D0CC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CBCF1-311C-445E-B004-24047BA2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90A8F-418B-4292-93B5-2A08A846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DF957-4718-4B24-8DA3-0FC37207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796AF-7E13-4E1F-B9EF-F8DE0C93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71DC9-D250-4D85-8D15-51DB852E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B2585-6188-4043-9557-0DA9DE6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D395-9552-4DD6-A52D-E09CD046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F4DD1-4A58-45FC-B381-6DB90238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9A39B5-62C8-407A-8E5A-1BF752C6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F22DE-14AD-4731-94C7-E303C3575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8A480-074D-4F5A-B671-5CF162C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74835-D37A-47E8-AE4E-A2B2D0DC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1E5A6-361E-4B43-A7E2-FF33885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8035C-D590-44FA-A37A-F684F85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491DE-0A6C-4170-A3C2-52154F0C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6CC37-0B3D-49FF-9256-98BBBA24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FDDC-6AB6-4F0A-BC82-C8E312BD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5D0-6BDB-4046-BAC4-B83BB1E8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1EB3-46C5-4737-AB00-B6251B34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DE8-2051-47D2-81BC-0B97F235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7581-870D-4BC8-BE7B-1E143B3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C244-0A44-4392-B6AE-69897BE3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A757-28F8-40D6-956A-39DDC95E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182B-950D-4BD3-A9A3-DB64A1A1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B721-449A-45A3-AD07-7E6FEB98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611A9-153F-4439-9EB9-0ADD54A6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BEDF-4360-4AD6-9BA3-7C4E9C63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7860-850A-4EC0-B828-A5D385A1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C709E-2ED4-4D4F-A655-E1BCB518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2CE0-6A83-4A0C-B667-F3A2D6E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0A4-B7D0-4589-B3EB-59D8F08B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5A64F-C2BB-44AA-8371-D06B34E9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6A704-6125-419E-B03B-CF77FC8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B52C1-3B50-4923-8444-711ECAC4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EE145-46DB-40CE-B657-78A66C5E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93540-527B-4AAD-ACCD-D1A7CA05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8817-CF31-4159-A8E6-311407CA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0840-8533-4753-87E2-14A6900F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B8F9-D049-4D63-BABE-37B3023E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835C4-6923-49A7-94FA-D30D6F5A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EBC1A-8B63-453D-BFC3-01C6E27A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FE5-D126-4868-AB9E-E77D2CE9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D3CFA-A0CE-4869-BCF7-8FEB3416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F441B-7DBA-463A-AA72-656BAA1D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35B12-52F7-446E-876A-D552E1C7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B74EC-2329-413A-AC45-B5385D09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16BFF-12E4-4053-8466-339572B4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A0FE6-C23F-4A48-BBF3-2EF81F49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327CA-30B7-4EE1-BD71-819B1195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28F8-DE90-491D-8F34-8F0ACD784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D445-C479-4E68-9156-AFD499C8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4B00-9C89-453B-8D5A-2F7E7467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2208-BA12-47C7-A6FD-47A48FD4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EC3C-4881-46B0-BA7E-8229A917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65ACE-F9BA-4AAF-8FEE-26055416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29B1D-BD1C-476C-AD64-4710A677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9E4F7-AB9E-418E-AEE0-7E310C5B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57960-3F86-4BBB-930D-7738734A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22B7C-969C-4441-B72B-33C83426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008A-1B74-40B3-A61B-D7A2E44C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AC561-22BD-47BF-BE9B-B265BE41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97D22-A810-4B11-BB3D-27D45A7D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B5701-EA40-40AA-B3DF-2F60CD6B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663-49E7-42D1-8385-B323418E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4BDC1-B5C1-4DB2-A77C-78A639CE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94E32-692E-4E81-8585-44FC45AB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8AB28-9E76-418B-BB65-8CD0C173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C6D77-4DD8-48BB-B7C9-C22408D8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5E77B-09FA-4FFC-A41C-07FE2449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7042B-EF8F-4E81-B143-D8D95556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8B52-B9F6-4B79-9743-30EE1B6A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41047-A38D-4F1E-871B-77B995CF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D085F-F473-4F8E-9C23-1E8469C1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3C029-25E2-4069-9325-F8CAFFE5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54FF-439B-447A-86B0-4646D955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A699-1B0E-4BAE-91E5-039969F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83DA6-A63E-4953-A21A-1710F5F8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B8D00-FC61-4604-9DA9-3637038D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2A44-0417-4A36-9F0D-7AC45BF2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F760-7328-4715-9A9B-95F57B8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81D6F-3289-4C45-91E6-47FA5A18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5155C-1B9C-4EDF-B607-AE33C5FB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E3FD6-73CB-460E-B37C-83D3F600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77753-B04C-4174-B7AC-C6249CA4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0B4DC-C685-4F1E-9F9C-6690AF5D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3B3-C4AD-4539-857A-9E1BA379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00A78-B40A-4A1D-8CEE-7B606721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73FA-30F0-4803-BCDC-0C3A198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A623-A401-4BD4-AA7A-795B6C63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640D-6E2F-48DA-AD6F-1B57846D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0C22E-64D7-47C9-828C-FC8FDB52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A713-14C6-41F7-923D-204EA5B1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43503-15C4-47FE-8523-94E4F5CB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581ED-A13D-41F0-ADDF-DA847DE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E1954-8125-48BC-BBA1-7DF6FB63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0EACB-7EF2-469B-B031-A1A778A7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E7CA-D6C8-459F-9E4D-0AF80465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CA5F4-C975-416D-93F6-B9B4674D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78CDE-39EF-4E39-84AE-1527AA76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A9246-79DD-4AA4-B735-511326A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D08EC-D09C-4BFF-9910-E2629BF6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9222-8F1F-4BB4-94F9-FFE12E3A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EE8FE-4259-4B00-824C-E46201A8F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BF7DF-937D-494A-BC49-CC425F77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F66B8D-08D3-4574-9037-887F04E8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DA69A-1A9F-4185-B72C-5A61DA16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ED2A7-04BA-4822-8AF8-9FEF2047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F4C3-C2AA-472B-AABE-83D2ADF644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30F8-943B-4A3D-A7AA-FB7E78CB0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553D-5B57-4E4D-B922-31E4871E9A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95E0-A008-42C3-BE25-AFF2CCFC73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6275-3561-40A2-A476-5C9011D5CD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579B-8A41-4CA3-9329-40A00F353B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9333-78D5-4D08-90F3-2BB5FAC7B9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F159-55CC-4444-9D35-9908755E23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2D39-3A5C-41E1-B0D9-5842DC6F99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D327-ABB4-4ED4-AF86-896A7C5E7A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7042-27E6-416A-ADC1-B539814B42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ACFC-2C91-4FC2-867D-1BA07DDEE6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33F-6067-45FB-A636-FDFD70E58F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B7EF-A653-4070-9C0B-F339B4C016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331560"/>
            <a:ext cx="782316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fffff"/>
                </a:solidFill>
                <a:latin typeface="1942 report"/>
              </a:rPr>
              <a:t>VZESTUP</a:t>
            </a:r>
            <a:r>
              <a:rPr b="1" lang="en-US" sz="8000" spc="-1" strike="noStrike">
                <a:solidFill>
                  <a:srgbClr val="ffffff"/>
                </a:solidFill>
                <a:latin typeface="1942 report"/>
              </a:rPr>
              <a:t> ZLA</a:t>
            </a:r>
            <a:r>
              <a:rPr b="1" lang="cs-CZ" sz="8000" spc="-1" strike="noStrike">
                <a:solidFill>
                  <a:srgbClr val="ffffff"/>
                </a:solidFill>
                <a:latin typeface="1942 report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1942 report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268360" y="5292720"/>
            <a:ext cx="461016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SimSun"/>
              </a:rPr>
              <a:t>JAK ZAJISTIT ZÍSK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SimSun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SimSun"/>
              </a:rPr>
              <a:t>A UMLČET NESPOKOJENÉ</a:t>
            </a:r>
            <a:r>
              <a:rPr b="1" lang="cs-CZ" sz="2400" spc="-1" strike="noStrike">
                <a:solidFill>
                  <a:srgbClr val="ffffff"/>
                </a:solidFill>
                <a:latin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IMG_2666"/>
          <p:cNvPicPr/>
          <p:nvPr/>
        </p:nvPicPr>
        <p:blipFill>
          <a:blip r:embed="rId1"/>
          <a:stretch/>
        </p:blipFill>
        <p:spPr>
          <a:xfrm>
            <a:off x="3679920" y="2546280"/>
            <a:ext cx="1755720" cy="2611440"/>
          </a:xfrm>
          <a:prstGeom prst="rect">
            <a:avLst/>
          </a:prstGeom>
          <a:ln w="0">
            <a:noFill/>
          </a:ln>
        </p:spPr>
      </p:pic>
      <p:sp>
        <p:nvSpPr>
          <p:cNvPr id="577" name="Obdélník 4"/>
          <p:cNvSpPr/>
          <p:nvPr/>
        </p:nvSpPr>
        <p:spPr>
          <a:xfrm>
            <a:off x="6948360" y="3933720"/>
            <a:ext cx="1916280" cy="2284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Všechny fotografie a obrázky – není-li výslovně uvedeno jinak – vzhledem k době svého vzniku nepodléhají žádným autorským právům; tyto práva již vyprše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ovéPole 1"/>
          <p:cNvSpPr/>
          <p:nvPr/>
        </p:nvSpPr>
        <p:spPr>
          <a:xfrm>
            <a:off x="3780000" y="289080"/>
            <a:ext cx="5084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0704_prez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1258920" y="836280"/>
            <a:ext cx="741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1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Zajistit si pořá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2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Zlikvidovat konkure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3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Krýt si z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6"/>
          <p:cNvSpPr/>
          <p:nvPr/>
        </p:nvSpPr>
        <p:spPr>
          <a:xfrm>
            <a:off x="1332000" y="55166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c dlouhých nožů/Nacht der langen Messer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.7.1934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) – vyhlazení konkurenční skupiny S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7" descr="night of long knives"/>
          <p:cNvPicPr/>
          <p:nvPr/>
        </p:nvPicPr>
        <p:blipFill>
          <a:blip r:embed="rId1"/>
          <a:stretch/>
        </p:blipFill>
        <p:spPr>
          <a:xfrm>
            <a:off x="971640" y="620640"/>
            <a:ext cx="7343640" cy="4686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4" descr="hitler1"/>
          <p:cNvPicPr/>
          <p:nvPr/>
        </p:nvPicPr>
        <p:blipFill>
          <a:blip r:embed="rId1"/>
          <a:stretch/>
        </p:blipFill>
        <p:spPr>
          <a:xfrm>
            <a:off x="1835280" y="98100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4" descr="EINSATZGRUPPEN"/>
          <p:cNvPicPr/>
          <p:nvPr/>
        </p:nvPicPr>
        <p:blipFill>
          <a:blip r:embed="rId1"/>
          <a:stretch/>
        </p:blipFill>
        <p:spPr>
          <a:xfrm>
            <a:off x="2700360" y="549360"/>
            <a:ext cx="3637080" cy="5256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goebbels"/>
          <p:cNvPicPr/>
          <p:nvPr/>
        </p:nvPicPr>
        <p:blipFill>
          <a:blip r:embed="rId1"/>
          <a:srcRect l="0" t="4362" r="0" b="0"/>
          <a:stretch/>
        </p:blipFill>
        <p:spPr>
          <a:xfrm>
            <a:off x="2771640" y="476280"/>
            <a:ext cx="4154760" cy="55450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1332000" y="404640"/>
            <a:ext cx="655164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Josef Goebbels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, původně bankovní úředník, novinář, autor nikdy nerealizovaných divadelních her stál po Hitlerově boku jako ministr propagandy. Když do Berlína vstoupili Rusové, neváhal a společně se svou ženou Magdou otrávili všech šest svých dětí. Krátce poté i oni spáchali sebevražd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children4"/>
          <p:cNvPicPr/>
          <p:nvPr/>
        </p:nvPicPr>
        <p:blipFill>
          <a:blip r:embed="rId1"/>
          <a:stretch/>
        </p:blipFill>
        <p:spPr>
          <a:xfrm>
            <a:off x="2556000" y="549360"/>
            <a:ext cx="421632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4" descr="hess"/>
          <p:cNvPicPr/>
          <p:nvPr/>
        </p:nvPicPr>
        <p:blipFill>
          <a:blip r:embed="rId1"/>
          <a:stretch/>
        </p:blipFill>
        <p:spPr>
          <a:xfrm>
            <a:off x="1908000" y="692280"/>
            <a:ext cx="5472360" cy="53164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6"/>
          <p:cNvSpPr/>
          <p:nvPr/>
        </p:nvSpPr>
        <p:spPr>
          <a:xfrm>
            <a:off x="1619280" y="765000"/>
            <a:ext cx="597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Rudolf Hess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, původně pilot, za nacistů státní ministr, v roce </a:t>
            </a: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1941 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tajně odletěl do Skotska, kde se pokusil sjednat se Spojenci mír. Byl zatčen a při Norimberských procesech odsouzen na doživotí. Po čtyřiceti šesti letech vězení, ve věku </a:t>
            </a: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93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 let spáchal za nejasných okolností sebevražd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4" descr="art3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07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goring"/>
          <p:cNvPicPr/>
          <p:nvPr/>
        </p:nvPicPr>
        <p:blipFill>
          <a:blip r:embed="rId1"/>
          <a:stretch/>
        </p:blipFill>
        <p:spPr>
          <a:xfrm>
            <a:off x="2627280" y="476280"/>
            <a:ext cx="4408560" cy="59054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1692360" y="836640"/>
            <a:ext cx="612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Herman G</a:t>
            </a:r>
            <a:r>
              <a:rPr b="1" lang="en-US" sz="3200" spc="-1" strike="noStrike">
                <a:solidFill>
                  <a:srgbClr val="ffffff"/>
                </a:solidFill>
                <a:latin typeface="SimSun"/>
                <a:ea typeface="Arial"/>
              </a:rPr>
              <a:t>őring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  <a:ea typeface="Arial"/>
              </a:rPr>
              <a:t>, šéf Luftwaffe, patřil v první světové válce mezi letecká esa Německa. V posledních dnech války se pokusil sjedna mír, ale byl zatčen. Soudním tribunálem odsouzen k trestu smrti, avšak zvolil raději sebevražd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mauthausen4"/>
          <p:cNvPicPr/>
          <p:nvPr/>
        </p:nvPicPr>
        <p:blipFill>
          <a:blip r:embed="rId1"/>
          <a:stretch/>
        </p:blipFill>
        <p:spPr>
          <a:xfrm>
            <a:off x="1692360" y="836640"/>
            <a:ext cx="5761080" cy="4844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1258920" y="691920"/>
            <a:ext cx="7416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1]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Zajistit si pořá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2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Zlikvidovat konkure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3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Krýt si z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heydrich"/>
          <p:cNvPicPr/>
          <p:nvPr/>
        </p:nvPicPr>
        <p:blipFill>
          <a:blip r:embed="rId1"/>
          <a:stretch/>
        </p:blipFill>
        <p:spPr>
          <a:xfrm>
            <a:off x="1908000" y="549360"/>
            <a:ext cx="5470560" cy="5688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1763640" y="1052640"/>
            <a:ext cx="576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Reinhard Heydrich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, propuštěn od námořnictva, posléze šéf gestapa a říšský protektor Čech a Moravy. Zemřel na následky atentátu, který na něj spáchali českoslovenští výsadkář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ghetto5"/>
          <p:cNvPicPr/>
          <p:nvPr/>
        </p:nvPicPr>
        <p:blipFill>
          <a:blip r:embed="rId1"/>
          <a:stretch/>
        </p:blipFill>
        <p:spPr>
          <a:xfrm>
            <a:off x="900000" y="549360"/>
            <a:ext cx="7489800" cy="53150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himler"/>
          <p:cNvPicPr/>
          <p:nvPr/>
        </p:nvPicPr>
        <p:blipFill>
          <a:blip r:embed="rId1"/>
          <a:srcRect l="0" t="2607" r="0" b="0"/>
          <a:stretch/>
        </p:blipFill>
        <p:spPr>
          <a:xfrm>
            <a:off x="2411280" y="549360"/>
            <a:ext cx="4626000" cy="575928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1332000" y="119700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Heinrich </a:t>
            </a: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Himmler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, hlavní velitel SS, přímo zodpovědný za vyhlazovací operace proti židům a jiným skupinám, autor projektu Lebesborn. Na poslední chvíli se snažil s Brity sjednat mír, byl však zatčen. Ve vězení spáchal sebevražd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mord"/>
          <p:cNvPicPr/>
          <p:nvPr/>
        </p:nvPicPr>
        <p:blipFill>
          <a:blip r:embed="rId1"/>
          <a:stretch/>
        </p:blipFill>
        <p:spPr>
          <a:xfrm>
            <a:off x="971640" y="1052640"/>
            <a:ext cx="7380360" cy="3808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eichmann"/>
          <p:cNvPicPr/>
          <p:nvPr/>
        </p:nvPicPr>
        <p:blipFill>
          <a:blip r:embed="rId1"/>
          <a:stretch/>
        </p:blipFill>
        <p:spPr>
          <a:xfrm>
            <a:off x="2556000" y="333360"/>
            <a:ext cx="3851280" cy="60483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3"/>
          <p:cNvSpPr/>
          <p:nvPr/>
        </p:nvSpPr>
        <p:spPr>
          <a:xfrm>
            <a:off x="684360" y="981000"/>
            <a:ext cx="76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Adolf Eichmann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, hlavní koordinátor holocaustu, v roce </a:t>
            </a: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1946 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uprchl ze zajetí do Argentiny. Zde ho po čtrnácti letech vystopovali agenti izraelské tajné služby Mossad a unesli do Izraele. Izraelský soud Adolfa Eichmanna odsoudil k trestu smrti oběšením, který byl vykonán celých dvacet jedna let po skončení válk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itler1"/>
          <p:cNvPicPr/>
          <p:nvPr/>
        </p:nvPicPr>
        <p:blipFill>
          <a:blip r:embed="rId1"/>
          <a:stretch/>
        </p:blipFill>
        <p:spPr>
          <a:xfrm>
            <a:off x="1835280" y="98100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5"/>
          <p:cNvSpPr/>
          <p:nvPr/>
        </p:nvSpPr>
        <p:spPr>
          <a:xfrm>
            <a:off x="395280" y="558720"/>
            <a:ext cx="7345440" cy="105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uklík, J.: Dějepis pro gymnázia a SŠ 4 – nejmodernější dějiny, SPN Prah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4" descr="ss sa"/>
          <p:cNvPicPr/>
          <p:nvPr/>
        </p:nvPicPr>
        <p:blipFill>
          <a:blip r:embed="rId1"/>
          <a:stretch/>
        </p:blipFill>
        <p:spPr>
          <a:xfrm>
            <a:off x="2268360" y="549360"/>
            <a:ext cx="4461120" cy="54720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5"/>
          <p:cNvSpPr/>
          <p:nvPr/>
        </p:nvSpPr>
        <p:spPr>
          <a:xfrm>
            <a:off x="468360" y="537372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S Schutzstaff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948360" y="53737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A Sturmabtei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5" descr="sa"/>
          <p:cNvPicPr/>
          <p:nvPr/>
        </p:nvPicPr>
        <p:blipFill>
          <a:blip r:embed="rId1"/>
          <a:stretch/>
        </p:blipFill>
        <p:spPr>
          <a:xfrm>
            <a:off x="4572000" y="476280"/>
            <a:ext cx="4013280" cy="36417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6" descr="rohm"/>
          <p:cNvPicPr/>
          <p:nvPr/>
        </p:nvPicPr>
        <p:blipFill>
          <a:blip r:embed="rId2"/>
          <a:stretch/>
        </p:blipFill>
        <p:spPr>
          <a:xfrm>
            <a:off x="684360" y="476280"/>
            <a:ext cx="3706560" cy="56167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7"/>
          <p:cNvSpPr/>
          <p:nvPr/>
        </p:nvSpPr>
        <p:spPr>
          <a:xfrm>
            <a:off x="6659640" y="58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A - Ernst 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ő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h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6"/>
          <p:cNvSpPr/>
          <p:nvPr/>
        </p:nvSpPr>
        <p:spPr>
          <a:xfrm>
            <a:off x="2556000" y="5661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Gestapo - Geheime Staatspolizei (Reinhard Heydri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7" descr="gestapo"/>
          <p:cNvPicPr/>
          <p:nvPr/>
        </p:nvPicPr>
        <p:blipFill>
          <a:blip r:embed="rId1"/>
          <a:stretch/>
        </p:blipFill>
        <p:spPr>
          <a:xfrm>
            <a:off x="4788000" y="981000"/>
            <a:ext cx="3754440" cy="2787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8" descr="gestapo1"/>
          <p:cNvPicPr/>
          <p:nvPr/>
        </p:nvPicPr>
        <p:blipFill>
          <a:blip r:embed="rId2"/>
          <a:stretch/>
        </p:blipFill>
        <p:spPr>
          <a:xfrm>
            <a:off x="755640" y="981000"/>
            <a:ext cx="3745080" cy="27892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9" descr="heydrich"/>
          <p:cNvPicPr/>
          <p:nvPr/>
        </p:nvPicPr>
        <p:blipFill>
          <a:blip r:embed="rId3"/>
          <a:stretch/>
        </p:blipFill>
        <p:spPr>
          <a:xfrm>
            <a:off x="3995640" y="3933720"/>
            <a:ext cx="1386000" cy="1441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sd"/>
          <p:cNvPicPr/>
          <p:nvPr/>
        </p:nvPicPr>
        <p:blipFill>
          <a:blip r:embed="rId1"/>
          <a:stretch/>
        </p:blipFill>
        <p:spPr>
          <a:xfrm>
            <a:off x="2771640" y="476280"/>
            <a:ext cx="3490920" cy="48243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3203640" y="558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D - Sicherheitsdien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1258920" y="836280"/>
            <a:ext cx="741672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imSun"/>
              </a:rPr>
              <a:t>1]</a:t>
            </a:r>
            <a:r>
              <a:rPr b="1" lang="cs-CZ" sz="3200" spc="-1" strike="noStrike">
                <a:solidFill>
                  <a:srgbClr val="ffffff"/>
                </a:solidFill>
                <a:latin typeface="SimSun"/>
              </a:rPr>
              <a:t>Zajistit si pořád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2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Zlikvidovat konkure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mSun"/>
              </a:rPr>
              <a:t>3]</a:t>
            </a:r>
            <a:r>
              <a:rPr b="0" lang="cs-CZ" sz="3200" spc="-1" strike="noStrike">
                <a:solidFill>
                  <a:srgbClr val="ffffff"/>
                </a:solidFill>
                <a:latin typeface="SimSun"/>
              </a:rPr>
              <a:t>Krýt si zá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komunisti"/>
          <p:cNvPicPr/>
          <p:nvPr/>
        </p:nvPicPr>
        <p:blipFill>
          <a:blip r:embed="rId1"/>
          <a:stretch/>
        </p:blipFill>
        <p:spPr>
          <a:xfrm>
            <a:off x="395280" y="333360"/>
            <a:ext cx="3895560" cy="57056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reichstag fire"/>
          <p:cNvPicPr/>
          <p:nvPr/>
        </p:nvPicPr>
        <p:blipFill>
          <a:blip r:embed="rId2"/>
          <a:stretch/>
        </p:blipFill>
        <p:spPr>
          <a:xfrm>
            <a:off x="4427640" y="333360"/>
            <a:ext cx="4419360" cy="56386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7"/>
          <p:cNvSpPr/>
          <p:nvPr/>
        </p:nvSpPr>
        <p:spPr>
          <a:xfrm>
            <a:off x="2050920" y="621180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žár říšského sněmu – obviněni komunisté, založili sami nacis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komunist Marius van der Lubbe"/>
          <p:cNvPicPr/>
          <p:nvPr/>
        </p:nvPicPr>
        <p:blipFill>
          <a:blip r:embed="rId1"/>
          <a:stretch/>
        </p:blipFill>
        <p:spPr>
          <a:xfrm>
            <a:off x="5148360" y="326880"/>
            <a:ext cx="3309840" cy="525636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7"/>
          <p:cNvSpPr/>
          <p:nvPr/>
        </p:nvSpPr>
        <p:spPr>
          <a:xfrm>
            <a:off x="6012000" y="57276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arius van der Lubbe – hon na konkurenční str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Picture 8" descr="komunis"/>
          <p:cNvPicPr/>
          <p:nvPr/>
        </p:nvPicPr>
        <p:blipFill>
          <a:blip r:embed="rId2"/>
          <a:stretch/>
        </p:blipFill>
        <p:spPr>
          <a:xfrm>
            <a:off x="3419640" y="5151600"/>
            <a:ext cx="1512720" cy="13017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křestane"/>
          <p:cNvPicPr/>
          <p:nvPr/>
        </p:nvPicPr>
        <p:blipFill>
          <a:blip r:embed="rId3"/>
          <a:stretch/>
        </p:blipFill>
        <p:spPr>
          <a:xfrm>
            <a:off x="971640" y="326880"/>
            <a:ext cx="3968640" cy="4697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0:57:26Z</dcterms:created>
  <dc:creator>lazza</dc:creator>
  <dc:description/>
  <dc:language>en-US</dc:language>
  <cp:lastModifiedBy>martin</cp:lastModifiedBy>
  <dcterms:modified xsi:type="dcterms:W3CDTF">2013-01-12T10:05:33Z</dcterms:modified>
  <cp:revision>323</cp:revision>
  <dc:subject/>
  <dc:title>„Nejprve nacisté vystoupili proti Židům. Já ale nebyl Žid, a proto jsem mlčel a neprotestoval. Potom se zaměřili na katolíky. Já nebyl katolík, a tak jsem zase jen mlčel. Na řadu přišli odboráři, ale já nebyl v odborech, proč bych tedy protestoval.  Nakonec si přišli pro mě. Ale nebyl už nikdo, kdo by se jim postavil.“</dc:title>
</cp:coreProperties>
</file>