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2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47B2-B460-4D80-8138-A0BCA2C2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AB86-2BB5-4B4B-811B-EA383ACC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1D589-ADFD-4301-957B-ACB9C41A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18043-5ADE-4EDE-BAD5-A5EE2EFC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A7211-0FC4-41C3-B0C4-A305A546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5F29E-7A99-48EE-8557-E7190216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3AF42-CF17-4E6F-AEBC-23258DE7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50193-8B88-4318-9A24-369D3652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DA44A-E2B0-4BE2-A709-60CA767C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FAE5E-CF7D-46DE-8EFC-BBD46F8E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B0418-C26E-4EBE-B76C-CFE98A13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C8B2E-7E8B-434F-B761-8973970E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53EF-0F7D-4B97-A012-53F00DE0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9D050-9FDD-43FE-8103-F3845817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ECAA2-140F-4D79-980A-E4473F22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72077-9133-4BE2-BE59-220E9AAE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A531A-01C4-4C6B-86ED-F79F7112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70538-936F-494A-B3E0-860BF975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820DB-3921-4DBE-B2BB-5871AC7D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93779-D80E-449C-821B-C371859A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C460D-687F-4196-BC75-3DAAA5CD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7273E-F4DD-49FD-8B25-FF7159E9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28915-9BC8-4C8D-91E9-3F3FE990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8857-12C1-499F-BFF0-FDC05880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D4E8A-AC2B-4A7C-A9E3-B03B9013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2D28B-3CB2-41D8-A1D3-12FE2087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6F9F2-3011-4152-918A-A228DBA8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0BB59-4B5D-47E9-B09D-D9427218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35936-9BF9-4C05-AD22-708184CA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12B28-F194-4C14-9A1C-5156E59D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37EC1-E65C-4016-95FF-6B85740A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803EF-324B-4A0F-B30F-0690015D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063C3-2363-4073-A3C8-F897740E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EC953-89E4-4085-A9AD-BB605CA8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619B-9B6A-471F-93D3-43C72E2F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E2B4E-1ED4-4C13-BDE5-2B3487F8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40CB5-4ED3-41F7-8996-4992CD8E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52EE5-D650-4125-BED6-86FC8A6F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AEBC0-D0FF-4227-9BEF-629879E5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8A19D-CF25-4453-8257-B23B0FBE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BFD77-B209-404F-B2AA-9EFE6E28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44041-7A2B-4B7A-AA43-01F14107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A0B02-9BBE-4602-8B85-F02EF166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3CA48-CD2F-4D08-8AC2-86CA9852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477E2-FF6C-42F1-B071-71CAD214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512E-2B1E-49AF-B03D-B0363340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247D8-BB3D-4B80-82F6-E7DE80C2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015AC-EBE5-4B7C-9F69-B2486D67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355BF-2775-46EE-9ACA-83DBFD1C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17634-1FDE-48D5-B3A5-F49F6818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16E4B-C68C-4242-8B39-3CE8971D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11CA2-D321-4C07-9F25-739C6948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D9557D-B350-4CC1-BD86-355FA8DE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3F47C-0300-4955-B235-325ECBCE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5FFD2-D1A5-4E61-8638-92543967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FD685-2931-4FB2-AEC2-01075355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555A-F17E-49F4-99B2-01227C25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31E714-F97E-470D-84E7-330CBBFA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BC642F-CE0B-402A-A73D-D61771AF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72D28-7E10-4DDF-992D-8A6C2C6B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24E73C-623F-460C-A4C0-A1AAC977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FDAFBC-8721-434A-90DE-0668FC6C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080FE4-F5FF-4CDA-86FA-386224CA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74489-EAA0-4D3B-97BD-AF8B1162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F88BB7-C404-4645-91EC-DF67A781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FE75E-7109-44E8-AE3F-5BAE5BD7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5AC8F-5742-4553-A281-26DFFE4D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5A45-9080-41CC-B2C0-C9BFCAAB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DBC48-BCA9-490D-A672-12648CC2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5F3084-3520-49E2-A207-69214CFD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2D40AA-3147-40B7-862B-DEE8127A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D3A026-D146-489C-B7A1-8E1DB220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96BEA4-3098-4153-B292-CA72B746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FF2D7F-705F-49B6-AB54-B3B5776D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9FEC0-769D-4A2E-A374-1760888D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BF314-3A90-43EB-B93F-37558A7A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9E400A-428B-4132-8064-517A4C96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E6C8-A1BE-4EF0-9500-09727DF1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BBB2-BEC8-4D73-BF6B-5821652E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6086-2939-4F51-8C65-5BB92FA6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A5E-C96B-4019-9A85-CBB07A86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2F8C-862D-42EE-A623-7F08AFA8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15C3-9E18-48BE-9A89-B755F2BC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7878-B2BD-4B21-A46B-DA64168E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9194-CA7A-4F06-BA38-FEECDB68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4C18-12E7-4ED4-9C9C-802D3452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89AAE-707E-437D-9F4A-29581BB5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3EE0E-A118-4B72-9E31-BC777CA5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0F370-F430-4A71-8367-5C3766D2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6A7BC-D632-4ADD-84C0-2C1FF5C7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41950-9674-432F-A7AA-7F2C289E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3A4-2045-4A0E-9DCA-8A56809E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D8B30-694D-4CDE-977B-A29D02F2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4F261-29FB-4399-B57E-6971A82A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18476-49F0-49FC-9237-D75DB7A9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65FA3-62F4-4DCC-A072-A75CB6F7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49928-2772-4023-9819-FDD4DC79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06549-29D6-4EE1-8B39-0372AA0B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3E0F1-8B06-41B1-8AE0-7CF5DEDB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84E36-6863-483D-8699-2AD56B4A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7C73C-8BAC-475B-85FF-67614E35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6AFEF-8EE6-4173-ACF6-E86DF10F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A30-DA61-45B6-9D01-290C1934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AC5B9-BA5C-494F-ADD5-2D51AB02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E5CC9-08BF-4300-B86C-A2C451F2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7C96C-3443-4517-813C-BEC86256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22FBF-FD7B-44A5-B95D-D8D47DB6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C21F1-6598-496C-88A6-15DCEC4D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0A81F-B1E6-45A8-A1ED-0AF9034A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871DB-4782-458E-BC56-835E9F1A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83870-D53E-47ED-86AE-199DB692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EDAB8-1AFA-404B-894E-3978D7FA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C8867-2DB6-4EBA-9410-380DDB47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3AA-1494-4A5F-850C-A7AA5858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17474-6B14-419E-BB81-84603E1E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75800-CE4E-4D7E-AEA5-7052F58B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2D48C-FAF3-4963-8DB4-1152D5DD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51305-3A85-40AD-B6FC-3C6D70BA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CC5BC-B3A2-4CF4-8FC5-92A95B14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F4B80-580B-47C2-8B27-69A13E0C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A68E6-0A35-47E8-942D-CF57573B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D5869-F56F-44FF-9566-73EDDCC9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0E12A-6D9C-4B77-8119-2792D839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D88C0-0571-4FBA-B615-1FACD43C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C9A-4073-45F6-AD44-8F7E61EE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F196F-7A6A-497B-BD43-6DF4B360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2EC77-4424-46E9-99A0-69C65A2E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1E93F-2A9B-4B96-8F5F-2B595AEA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97A6F-7662-460D-A3C2-1FF5AF19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8B350-8584-4C72-B001-F33C9A3D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01054-79D7-48EE-83C1-3B4044F7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38EBA-DFF6-4C7A-9239-23C06F6D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4C7CE-29D8-4991-84F3-DA6550AB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41BC0-4C5A-44A2-B083-6D6D0AF3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07924-2972-4A53-9B18-4D919B5A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874-F14C-4E8D-96EB-8EBD408C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033D1-0086-43F9-8B37-791C57A7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4DA87-B67F-4C36-9C29-4F6E78CA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107F1-E163-4C5A-B021-DD2A60DB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9E588-0576-4D85-BAE4-66CBD26E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24409-AF0F-4CA3-B86C-B7847BD9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8D1C7-6454-4BCC-B745-0F925107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D21ED-F501-4390-B5AF-834D3537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CF6CC-B222-4AA8-B02D-D8D51644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B2849-900B-423A-A265-49953398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1EB51-758C-498B-A65E-76C6E7C5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1A7-AC57-45C9-AE88-01676B63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DE25E-F7CD-4A1B-BD43-F1ACBD5B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A2390-57C3-46C1-B677-20476684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F63DF-4A25-46C6-8B30-39146429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FA9EB-65FA-4741-9EBC-80B26EC8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68D33-E240-4A4A-870B-0FCDC21C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BF18C-D4E7-4FDD-975D-C62A1561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871BB-BA88-4E74-BC1A-30C698A0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A8357-0AD5-4759-B0D5-48ABBBD1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0DBA3-C3F2-4E54-A873-B8F8E1A2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35770-FBA9-46EA-84F3-FE753450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CA4-E1C1-4B0E-AC68-5725596F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8AC15-D85B-40AA-A6E3-9EA13114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AA457-ADF3-4194-8A0B-B3E7670E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E1A91-565A-476B-A1DE-AA30576F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240C3-7E04-4576-9546-410F7F99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AC10B-FE13-4B32-9BF2-C668426D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79E62-B517-4D21-9F51-232C45AF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9241D-4E19-4F5B-9E37-A1F117CD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A39AE-C1EE-4134-BAC5-AA8675C5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62D21-E618-4376-A0F7-4EC3C2EB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90CFB-73F1-4440-B495-6B590FA8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D983-BE36-4B3C-9516-6A04312B64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59E5-D8A7-4196-88CD-9F52299AF7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090E-FF47-42FF-8268-D92E2A4A0A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EF95-091F-4438-B1D2-1DE319DFE6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C664-7CFD-4DD6-868B-10EA168F6C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3BD1-796C-4C28-B24E-4D7893D9D5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3145-223F-4271-93E4-DBF0CEEA31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AF59-8992-45E9-BDFF-D0F869F606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E031-2919-40E7-8475-2E79FEDC6C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93F1-6117-457F-991D-280FF3AE0C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F940-609C-4153-BFEE-330D322FB1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BDDC-ACE7-41B5-AC52-B075958A6C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19E9-AE46-45FA-AB46-8CA54BBC23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29AE-FFD8-4CF7-9C03-EA11985ABA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04_das_ich-von_der_armut.mp3" descr=""/>
          <p:cNvPicPr/>
          <p:nvPr/>
        </p:nvPicPr>
        <p:blipFill>
          <a:blip r:embed="rId1"/>
          <a:stretch/>
        </p:blipFill>
        <p:spPr>
          <a:xfrm>
            <a:off x="954072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10"/>
          <p:cNvSpPr/>
          <p:nvPr/>
        </p:nvSpPr>
        <p:spPr>
          <a:xfrm>
            <a:off x="826920" y="907920"/>
            <a:ext cx="7490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바탕"/>
              </a:rPr>
              <a:t>„</a:t>
            </a:r>
            <a:r>
              <a:rPr b="1" lang="cs-CZ" sz="2400" spc="-1" strike="noStrike">
                <a:solidFill>
                  <a:srgbClr val="ffffff"/>
                </a:solidFill>
                <a:latin typeface="바탕"/>
              </a:rPr>
              <a:t>Nejprve nacisté vystoupili proti Židům. Já ale nebyl Žid, a proto jsem mlčel a neprotestoval. Potom se zaměřili na katolíky. Já nebyl katolík, a tak jsem zase jen mlčel. Na řadu přišli odboráři, ale já nebyl v odborech, proč bych tedy protestoval. 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바탕"/>
              </a:rPr>
              <a:t>Nakonec si přišli pro mě. 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바탕"/>
              </a:rPr>
              <a:t>Ale neb</a:t>
            </a:r>
            <a:r>
              <a:rPr b="1" lang="en-US" sz="2400" spc="-1" strike="noStrike">
                <a:solidFill>
                  <a:srgbClr val="ffffff"/>
                </a:solidFill>
                <a:latin typeface="바탕"/>
                <a:ea typeface="ＭＳ Ｐゴシック"/>
              </a:rPr>
              <a:t>y</a:t>
            </a:r>
            <a:r>
              <a:rPr b="1" lang="cs-CZ" sz="2400" spc="-1" strike="noStrike">
                <a:solidFill>
                  <a:srgbClr val="ffffff"/>
                </a:solidFill>
                <a:latin typeface="바탕"/>
              </a:rPr>
              <a:t>l už nikdo, kdo by se jim postavil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bdélník 5"/>
          <p:cNvSpPr/>
          <p:nvPr/>
        </p:nvSpPr>
        <p:spPr>
          <a:xfrm>
            <a:off x="6459480" y="4365720"/>
            <a:ext cx="2425680" cy="2040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Všechny fotografie a obrázky – není-li výslovně uvedeno jinak – vzhledem k době svého vzniku nepodléhají žádným autorským právům; tyto práva již vypršel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ovéPole 1"/>
          <p:cNvSpPr/>
          <p:nvPr/>
        </p:nvSpPr>
        <p:spPr>
          <a:xfrm>
            <a:off x="3780000" y="320760"/>
            <a:ext cx="5084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0701_prezent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5" descr="himler"/>
          <p:cNvPicPr/>
          <p:nvPr/>
        </p:nvPicPr>
        <p:blipFill>
          <a:blip r:embed="rId1"/>
          <a:srcRect l="0" t="2607" r="0" b="0"/>
          <a:stretch/>
        </p:blipFill>
        <p:spPr>
          <a:xfrm>
            <a:off x="2411280" y="620640"/>
            <a:ext cx="4332600" cy="5394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5" descr="holocaust7"/>
          <p:cNvPicPr/>
          <p:nvPr/>
        </p:nvPicPr>
        <p:blipFill>
          <a:blip r:embed="rId1"/>
          <a:srcRect l="5945" t="7142" r="7559" b="8602"/>
          <a:stretch/>
        </p:blipFill>
        <p:spPr>
          <a:xfrm>
            <a:off x="2050920" y="404640"/>
            <a:ext cx="5097600" cy="5185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4" descr="eichmann"/>
          <p:cNvPicPr/>
          <p:nvPr/>
        </p:nvPicPr>
        <p:blipFill>
          <a:blip r:embed="rId1"/>
          <a:stretch/>
        </p:blipFill>
        <p:spPr>
          <a:xfrm>
            <a:off x="2700360" y="620640"/>
            <a:ext cx="3438360" cy="5400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holocaust10"/>
          <p:cNvPicPr/>
          <p:nvPr/>
        </p:nvPicPr>
        <p:blipFill>
          <a:blip r:embed="rId1"/>
          <a:stretch/>
        </p:blipFill>
        <p:spPr>
          <a:xfrm>
            <a:off x="2627280" y="333360"/>
            <a:ext cx="3686040" cy="56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5" descr="deti1"/>
          <p:cNvPicPr/>
          <p:nvPr/>
        </p:nvPicPr>
        <p:blipFill>
          <a:blip r:embed="rId1"/>
          <a:stretch/>
        </p:blipFill>
        <p:spPr>
          <a:xfrm>
            <a:off x="5564160" y="4076640"/>
            <a:ext cx="1022400" cy="13701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deti2"/>
          <p:cNvPicPr/>
          <p:nvPr/>
        </p:nvPicPr>
        <p:blipFill>
          <a:blip r:embed="rId2"/>
          <a:stretch/>
        </p:blipFill>
        <p:spPr>
          <a:xfrm>
            <a:off x="3908520" y="4076640"/>
            <a:ext cx="1020600" cy="13669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deti3"/>
          <p:cNvPicPr/>
          <p:nvPr/>
        </p:nvPicPr>
        <p:blipFill>
          <a:blip r:embed="rId3"/>
          <a:stretch/>
        </p:blipFill>
        <p:spPr>
          <a:xfrm>
            <a:off x="2251080" y="4076640"/>
            <a:ext cx="1020600" cy="13669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8" descr="deti4"/>
          <p:cNvPicPr/>
          <p:nvPr/>
        </p:nvPicPr>
        <p:blipFill>
          <a:blip r:embed="rId4"/>
          <a:stretch/>
        </p:blipFill>
        <p:spPr>
          <a:xfrm>
            <a:off x="5564160" y="2349360"/>
            <a:ext cx="1020960" cy="13669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9" descr="deti5"/>
          <p:cNvPicPr/>
          <p:nvPr/>
        </p:nvPicPr>
        <p:blipFill>
          <a:blip r:embed="rId5"/>
          <a:stretch/>
        </p:blipFill>
        <p:spPr>
          <a:xfrm>
            <a:off x="2268360" y="692280"/>
            <a:ext cx="1035360" cy="13683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0" descr="deti6"/>
          <p:cNvPicPr/>
          <p:nvPr/>
        </p:nvPicPr>
        <p:blipFill>
          <a:blip r:embed="rId6"/>
          <a:stretch/>
        </p:blipFill>
        <p:spPr>
          <a:xfrm>
            <a:off x="3908520" y="692280"/>
            <a:ext cx="1046160" cy="13683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1" descr="deti7"/>
          <p:cNvPicPr/>
          <p:nvPr/>
        </p:nvPicPr>
        <p:blipFill>
          <a:blip r:embed="rId7"/>
          <a:stretch/>
        </p:blipFill>
        <p:spPr>
          <a:xfrm>
            <a:off x="5564160" y="692280"/>
            <a:ext cx="1022400" cy="13683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2" descr="deti8"/>
          <p:cNvPicPr/>
          <p:nvPr/>
        </p:nvPicPr>
        <p:blipFill>
          <a:blip r:embed="rId8"/>
          <a:stretch/>
        </p:blipFill>
        <p:spPr>
          <a:xfrm>
            <a:off x="3908520" y="2349360"/>
            <a:ext cx="1022400" cy="1368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3" descr="deti9"/>
          <p:cNvPicPr/>
          <p:nvPr/>
        </p:nvPicPr>
        <p:blipFill>
          <a:blip r:embed="rId9"/>
          <a:stretch/>
        </p:blipFill>
        <p:spPr>
          <a:xfrm>
            <a:off x="2251080" y="2349360"/>
            <a:ext cx="1022400" cy="13687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4" descr="holocaust8"/>
          <p:cNvPicPr/>
          <p:nvPr/>
        </p:nvPicPr>
        <p:blipFill>
          <a:blip r:embed="rId1"/>
          <a:stretch/>
        </p:blipFill>
        <p:spPr>
          <a:xfrm>
            <a:off x="2627280" y="333360"/>
            <a:ext cx="3903840" cy="5905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deti1"/>
          <p:cNvPicPr/>
          <p:nvPr/>
        </p:nvPicPr>
        <p:blipFill>
          <a:blip r:embed="rId1"/>
          <a:stretch/>
        </p:blipFill>
        <p:spPr>
          <a:xfrm>
            <a:off x="5364000" y="4076640"/>
            <a:ext cx="1022400" cy="13701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3" descr="deti2"/>
          <p:cNvPicPr/>
          <p:nvPr/>
        </p:nvPicPr>
        <p:blipFill>
          <a:blip r:embed="rId2"/>
          <a:stretch/>
        </p:blipFill>
        <p:spPr>
          <a:xfrm>
            <a:off x="3708360" y="4076640"/>
            <a:ext cx="1020960" cy="13669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4" descr="deti3"/>
          <p:cNvPicPr/>
          <p:nvPr/>
        </p:nvPicPr>
        <p:blipFill>
          <a:blip r:embed="rId3"/>
          <a:stretch/>
        </p:blipFill>
        <p:spPr>
          <a:xfrm>
            <a:off x="2050920" y="4076640"/>
            <a:ext cx="1020960" cy="13669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deti4"/>
          <p:cNvPicPr/>
          <p:nvPr/>
        </p:nvPicPr>
        <p:blipFill>
          <a:blip r:embed="rId4"/>
          <a:stretch/>
        </p:blipFill>
        <p:spPr>
          <a:xfrm>
            <a:off x="5364000" y="2349360"/>
            <a:ext cx="1020960" cy="13669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6" descr="deti5"/>
          <p:cNvPicPr/>
          <p:nvPr/>
        </p:nvPicPr>
        <p:blipFill>
          <a:blip r:embed="rId5"/>
          <a:stretch/>
        </p:blipFill>
        <p:spPr>
          <a:xfrm>
            <a:off x="2068560" y="692280"/>
            <a:ext cx="1035000" cy="13683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7" descr="deti6"/>
          <p:cNvPicPr/>
          <p:nvPr/>
        </p:nvPicPr>
        <p:blipFill>
          <a:blip r:embed="rId6"/>
          <a:stretch/>
        </p:blipFill>
        <p:spPr>
          <a:xfrm>
            <a:off x="3708360" y="692280"/>
            <a:ext cx="1046160" cy="13683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deti7"/>
          <p:cNvPicPr/>
          <p:nvPr/>
        </p:nvPicPr>
        <p:blipFill>
          <a:blip r:embed="rId7"/>
          <a:stretch/>
        </p:blipFill>
        <p:spPr>
          <a:xfrm>
            <a:off x="5364000" y="692280"/>
            <a:ext cx="1022400" cy="13683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9" descr="deti8"/>
          <p:cNvPicPr/>
          <p:nvPr/>
        </p:nvPicPr>
        <p:blipFill>
          <a:blip r:embed="rId8"/>
          <a:stretch/>
        </p:blipFill>
        <p:spPr>
          <a:xfrm>
            <a:off x="3708360" y="2349360"/>
            <a:ext cx="1022400" cy="13687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0" descr="deti9"/>
          <p:cNvPicPr/>
          <p:nvPr/>
        </p:nvPicPr>
        <p:blipFill>
          <a:blip r:embed="rId9"/>
          <a:stretch/>
        </p:blipFill>
        <p:spPr>
          <a:xfrm>
            <a:off x="2050920" y="2349360"/>
            <a:ext cx="1022400" cy="13687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holocaust"/>
          <p:cNvPicPr/>
          <p:nvPr/>
        </p:nvPicPr>
        <p:blipFill>
          <a:blip r:embed="rId1"/>
          <a:stretch/>
        </p:blipFill>
        <p:spPr>
          <a:xfrm>
            <a:off x="971640" y="476280"/>
            <a:ext cx="7273800" cy="5456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deti1"/>
          <p:cNvPicPr/>
          <p:nvPr/>
        </p:nvPicPr>
        <p:blipFill>
          <a:blip r:embed="rId1"/>
          <a:stretch/>
        </p:blipFill>
        <p:spPr>
          <a:xfrm>
            <a:off x="5491080" y="4076640"/>
            <a:ext cx="1022400" cy="13701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" descr="deti2"/>
          <p:cNvPicPr/>
          <p:nvPr/>
        </p:nvPicPr>
        <p:blipFill>
          <a:blip r:embed="rId2"/>
          <a:stretch/>
        </p:blipFill>
        <p:spPr>
          <a:xfrm>
            <a:off x="3835440" y="4076640"/>
            <a:ext cx="1020600" cy="13669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deti3"/>
          <p:cNvPicPr/>
          <p:nvPr/>
        </p:nvPicPr>
        <p:blipFill>
          <a:blip r:embed="rId3"/>
          <a:stretch/>
        </p:blipFill>
        <p:spPr>
          <a:xfrm>
            <a:off x="2178000" y="4076640"/>
            <a:ext cx="1020960" cy="13669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" descr="deti4"/>
          <p:cNvPicPr/>
          <p:nvPr/>
        </p:nvPicPr>
        <p:blipFill>
          <a:blip r:embed="rId4"/>
          <a:stretch/>
        </p:blipFill>
        <p:spPr>
          <a:xfrm>
            <a:off x="5491080" y="2349360"/>
            <a:ext cx="1020960" cy="13669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6" descr="deti5"/>
          <p:cNvPicPr/>
          <p:nvPr/>
        </p:nvPicPr>
        <p:blipFill>
          <a:blip r:embed="rId5"/>
          <a:stretch/>
        </p:blipFill>
        <p:spPr>
          <a:xfrm>
            <a:off x="2195640" y="692280"/>
            <a:ext cx="1035000" cy="13683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7" descr="deti6"/>
          <p:cNvPicPr/>
          <p:nvPr/>
        </p:nvPicPr>
        <p:blipFill>
          <a:blip r:embed="rId6"/>
          <a:stretch/>
        </p:blipFill>
        <p:spPr>
          <a:xfrm>
            <a:off x="3835440" y="692280"/>
            <a:ext cx="1046160" cy="1368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8" descr="deti7"/>
          <p:cNvPicPr/>
          <p:nvPr/>
        </p:nvPicPr>
        <p:blipFill>
          <a:blip r:embed="rId7"/>
          <a:stretch/>
        </p:blipFill>
        <p:spPr>
          <a:xfrm>
            <a:off x="5491080" y="692280"/>
            <a:ext cx="1022400" cy="13683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9" descr="deti8"/>
          <p:cNvPicPr/>
          <p:nvPr/>
        </p:nvPicPr>
        <p:blipFill>
          <a:blip r:embed="rId8"/>
          <a:stretch/>
        </p:blipFill>
        <p:spPr>
          <a:xfrm>
            <a:off x="3835440" y="2349360"/>
            <a:ext cx="1022400" cy="13687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0" descr="deti9"/>
          <p:cNvPicPr/>
          <p:nvPr/>
        </p:nvPicPr>
        <p:blipFill>
          <a:blip r:embed="rId9"/>
          <a:stretch/>
        </p:blipFill>
        <p:spPr>
          <a:xfrm>
            <a:off x="2178000" y="2349360"/>
            <a:ext cx="1022400" cy="13687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4" descr="IMG_2758"/>
          <p:cNvPicPr/>
          <p:nvPr/>
        </p:nvPicPr>
        <p:blipFill>
          <a:blip r:embed="rId1"/>
          <a:stretch/>
        </p:blipFill>
        <p:spPr>
          <a:xfrm>
            <a:off x="1116000" y="404640"/>
            <a:ext cx="7091280" cy="5578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36120" y="476280"/>
            <a:ext cx="78231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ff"/>
                </a:solidFill>
                <a:latin typeface="1942 report"/>
              </a:rPr>
              <a:t>VZESTUP</a:t>
            </a:r>
            <a:r>
              <a:rPr b="1" lang="en-US" sz="7200" spc="-1" strike="noStrike">
                <a:solidFill>
                  <a:srgbClr val="ffffff"/>
                </a:solidFill>
                <a:latin typeface="1942 report"/>
              </a:rPr>
              <a:t> ZL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2482920" y="5529240"/>
            <a:ext cx="417672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1942 report"/>
              </a:rPr>
              <a:t>AUTOKRACIE. DIKTATURA. TOTALI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7" descr="IMG_2666"/>
          <p:cNvPicPr/>
          <p:nvPr/>
        </p:nvPicPr>
        <p:blipFill>
          <a:blip r:embed="rId1"/>
          <a:stretch/>
        </p:blipFill>
        <p:spPr>
          <a:xfrm>
            <a:off x="3660840" y="2762280"/>
            <a:ext cx="1755720" cy="261144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18"/>
          <p:cNvSpPr/>
          <p:nvPr/>
        </p:nvSpPr>
        <p:spPr>
          <a:xfrm>
            <a:off x="666720" y="1773360"/>
            <a:ext cx="7823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1942 report"/>
              </a:rPr>
              <a:t>ADOLFA HIT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deti1"/>
          <p:cNvPicPr/>
          <p:nvPr/>
        </p:nvPicPr>
        <p:blipFill>
          <a:blip r:embed="rId1"/>
          <a:stretch/>
        </p:blipFill>
        <p:spPr>
          <a:xfrm>
            <a:off x="5564160" y="4076640"/>
            <a:ext cx="1022400" cy="137016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" descr="deti2"/>
          <p:cNvPicPr/>
          <p:nvPr/>
        </p:nvPicPr>
        <p:blipFill>
          <a:blip r:embed="rId2"/>
          <a:stretch/>
        </p:blipFill>
        <p:spPr>
          <a:xfrm>
            <a:off x="3908520" y="4076640"/>
            <a:ext cx="1020600" cy="13669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4" descr="deti3"/>
          <p:cNvPicPr/>
          <p:nvPr/>
        </p:nvPicPr>
        <p:blipFill>
          <a:blip r:embed="rId3"/>
          <a:stretch/>
        </p:blipFill>
        <p:spPr>
          <a:xfrm>
            <a:off x="2251080" y="4076640"/>
            <a:ext cx="1020600" cy="13669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deti4"/>
          <p:cNvPicPr/>
          <p:nvPr/>
        </p:nvPicPr>
        <p:blipFill>
          <a:blip r:embed="rId4"/>
          <a:stretch/>
        </p:blipFill>
        <p:spPr>
          <a:xfrm>
            <a:off x="5564160" y="2349360"/>
            <a:ext cx="1020960" cy="13669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deti5"/>
          <p:cNvPicPr/>
          <p:nvPr/>
        </p:nvPicPr>
        <p:blipFill>
          <a:blip r:embed="rId5"/>
          <a:stretch/>
        </p:blipFill>
        <p:spPr>
          <a:xfrm>
            <a:off x="2268360" y="692280"/>
            <a:ext cx="1035360" cy="13683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7" descr="deti6"/>
          <p:cNvPicPr/>
          <p:nvPr/>
        </p:nvPicPr>
        <p:blipFill>
          <a:blip r:embed="rId6"/>
          <a:stretch/>
        </p:blipFill>
        <p:spPr>
          <a:xfrm>
            <a:off x="3908520" y="692280"/>
            <a:ext cx="1046160" cy="13683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8" descr="deti7"/>
          <p:cNvPicPr/>
          <p:nvPr/>
        </p:nvPicPr>
        <p:blipFill>
          <a:blip r:embed="rId7"/>
          <a:stretch/>
        </p:blipFill>
        <p:spPr>
          <a:xfrm>
            <a:off x="5564160" y="692280"/>
            <a:ext cx="1022400" cy="13683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9" descr="deti8"/>
          <p:cNvPicPr/>
          <p:nvPr/>
        </p:nvPicPr>
        <p:blipFill>
          <a:blip r:embed="rId8"/>
          <a:stretch/>
        </p:blipFill>
        <p:spPr>
          <a:xfrm>
            <a:off x="3908520" y="2349360"/>
            <a:ext cx="1022400" cy="13687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0" descr="deti9"/>
          <p:cNvPicPr/>
          <p:nvPr/>
        </p:nvPicPr>
        <p:blipFill>
          <a:blip r:embed="rId9"/>
          <a:stretch/>
        </p:blipFill>
        <p:spPr>
          <a:xfrm>
            <a:off x="2251080" y="2349360"/>
            <a:ext cx="1022400" cy="13687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3" descr="deti"/>
          <p:cNvPicPr/>
          <p:nvPr/>
        </p:nvPicPr>
        <p:blipFill>
          <a:blip r:embed="rId1"/>
          <a:stretch/>
        </p:blipFill>
        <p:spPr>
          <a:xfrm>
            <a:off x="2050920" y="620640"/>
            <a:ext cx="5329440" cy="5311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IMG_2666"/>
          <p:cNvPicPr/>
          <p:nvPr/>
        </p:nvPicPr>
        <p:blipFill>
          <a:blip r:embed="rId1"/>
          <a:stretch/>
        </p:blipFill>
        <p:spPr>
          <a:xfrm>
            <a:off x="2627280" y="404640"/>
            <a:ext cx="3935520" cy="5851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4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4000" y="331560"/>
            <a:ext cx="782316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ffff"/>
                </a:solidFill>
                <a:latin typeface="1942 report"/>
              </a:rPr>
              <a:t>VZESTUP</a:t>
            </a:r>
            <a:r>
              <a:rPr b="1" lang="en-US" sz="7200" spc="-1" strike="noStrike">
                <a:solidFill>
                  <a:srgbClr val="ffffff"/>
                </a:solidFill>
                <a:latin typeface="1942 report"/>
              </a:rPr>
              <a:t> ZLA</a:t>
            </a:r>
            <a:r>
              <a:rPr b="1" lang="cs-CZ" sz="7200" spc="-1" strike="noStrike">
                <a:solidFill>
                  <a:srgbClr val="ffffff"/>
                </a:solidFill>
                <a:latin typeface="1942 report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1942 report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2482920" y="5456160"/>
            <a:ext cx="417672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eorgia"/>
              </a:rPr>
              <a:t>KAPITOLA PRV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eorgia"/>
              </a:rPr>
              <a:t>JAK ZNEUŽÍT SITUACE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IMG_2666"/>
          <p:cNvPicPr/>
          <p:nvPr/>
        </p:nvPicPr>
        <p:blipFill>
          <a:blip r:embed="rId1"/>
          <a:stretch/>
        </p:blipFill>
        <p:spPr>
          <a:xfrm>
            <a:off x="3679920" y="2546280"/>
            <a:ext cx="1755720" cy="261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1258920" y="1052280"/>
            <a:ext cx="7416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1</a:t>
            </a:r>
            <a:r>
              <a:rPr b="0" lang="cs-CZ" sz="3200" spc="-1" strike="noStrike">
                <a:solidFill>
                  <a:srgbClr val="ffffff"/>
                </a:solidFill>
                <a:latin typeface="Georgia"/>
              </a:rPr>
              <a:t>) Zradili nás!(Za válk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2</a:t>
            </a:r>
            <a:r>
              <a:rPr b="0" lang="cs-CZ" sz="3200" spc="-1" strike="noStrike">
                <a:solidFill>
                  <a:srgbClr val="ffffff"/>
                </a:solidFill>
                <a:latin typeface="Georgia"/>
              </a:rPr>
              <a:t>) Okradli nás!(Po vál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3</a:t>
            </a:r>
            <a:r>
              <a:rPr b="0" lang="cs-CZ" sz="3200" spc="-1" strike="noStrike">
                <a:solidFill>
                  <a:srgbClr val="ffffff"/>
                </a:solidFill>
                <a:latin typeface="Georgia"/>
              </a:rPr>
              <a:t>) Zruinovali nás!(V demokrac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5"/>
          <p:cNvSpPr/>
          <p:nvPr/>
        </p:nvSpPr>
        <p:spPr>
          <a:xfrm>
            <a:off x="684360" y="537372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ražené Německo: Němci nedokázali přijmout prohru – vždyť jejich armáda byla v okamžiku kapitulace zakopána na francouzském území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Picture 6" descr="1svetova"/>
          <p:cNvPicPr/>
          <p:nvPr/>
        </p:nvPicPr>
        <p:blipFill>
          <a:blip r:embed="rId1"/>
          <a:stretch/>
        </p:blipFill>
        <p:spPr>
          <a:xfrm>
            <a:off x="826920" y="620640"/>
            <a:ext cx="7620120" cy="4714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258920" y="105228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1</a:t>
            </a:r>
            <a:r>
              <a:rPr b="0" lang="cs-CZ" sz="3200" spc="-1" strike="noStrike">
                <a:solidFill>
                  <a:srgbClr val="ffffff"/>
                </a:solidFill>
                <a:latin typeface="Georgia"/>
              </a:rPr>
              <a:t>) Zradili nás!(Za válk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2</a:t>
            </a:r>
            <a:r>
              <a:rPr b="0" lang="cs-CZ" sz="3200" spc="-1" strike="noStrike">
                <a:solidFill>
                  <a:srgbClr val="ffffff"/>
                </a:solidFill>
                <a:latin typeface="Georgia"/>
              </a:rPr>
              <a:t>) Okradli nás!(Po vál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3</a:t>
            </a:r>
            <a:r>
              <a:rPr b="0" lang="cs-CZ" sz="3200" spc="-1" strike="noStrike">
                <a:solidFill>
                  <a:srgbClr val="ffffff"/>
                </a:solidFill>
                <a:latin typeface="Georgia"/>
              </a:rPr>
              <a:t> )Zruinovali nás!(V demokrac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4" descr="versailles treaty"/>
          <p:cNvPicPr/>
          <p:nvPr/>
        </p:nvPicPr>
        <p:blipFill>
          <a:blip r:embed="rId1"/>
          <a:stretch/>
        </p:blipFill>
        <p:spPr>
          <a:xfrm>
            <a:off x="1332000" y="692280"/>
            <a:ext cx="6626160" cy="4867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49" name="Text Box 5"/>
          <p:cNvSpPr/>
          <p:nvPr/>
        </p:nvSpPr>
        <p:spPr>
          <a:xfrm>
            <a:off x="1332000" y="566100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nížené Německo: Válečné reparace, územní ztráty, vojenské ponížení vyplývající z versailleských úmluv bylo políčkem německé hrdos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1258920" y="1052280"/>
            <a:ext cx="7416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1</a:t>
            </a:r>
            <a:r>
              <a:rPr b="0" lang="cs-CZ" sz="3200" spc="-1" strike="noStrike">
                <a:solidFill>
                  <a:srgbClr val="ffffff"/>
                </a:solidFill>
                <a:latin typeface="Georgia"/>
              </a:rPr>
              <a:t>) Zradili nás!(Za válk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2</a:t>
            </a:r>
            <a:r>
              <a:rPr b="0" lang="cs-CZ" sz="3200" spc="-1" strike="noStrike">
                <a:solidFill>
                  <a:srgbClr val="ffffff"/>
                </a:solidFill>
                <a:latin typeface="Georgia"/>
              </a:rPr>
              <a:t>) Okradli nás!(Po vál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3</a:t>
            </a:r>
            <a:r>
              <a:rPr b="0" lang="cs-CZ" sz="3200" spc="-1" strike="noStrike">
                <a:solidFill>
                  <a:srgbClr val="ffffff"/>
                </a:solidFill>
                <a:latin typeface="Georgia"/>
              </a:rPr>
              <a:t>) Zruinovali nás!(V demokrac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2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5" descr="sturmer"/>
          <p:cNvPicPr/>
          <p:nvPr/>
        </p:nvPicPr>
        <p:blipFill>
          <a:blip r:embed="rId1"/>
          <a:srcRect l="0" t="0" r="0" b="820"/>
          <a:stretch/>
        </p:blipFill>
        <p:spPr>
          <a:xfrm>
            <a:off x="2268360" y="620640"/>
            <a:ext cx="4391280" cy="493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52" name="Text Box 6"/>
          <p:cNvSpPr/>
          <p:nvPr/>
        </p:nvSpPr>
        <p:spPr>
          <a:xfrm>
            <a:off x="1403280" y="580536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awesův a Youngův plán (1924, 1929): po krizi v roce 1929 žádali Američané urychlené splátky a podle německé propagandy stály za bankrotem Německa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4" descr="černý pátek"/>
          <p:cNvPicPr/>
          <p:nvPr/>
        </p:nvPicPr>
        <p:blipFill>
          <a:blip r:embed="rId1"/>
          <a:stretch/>
        </p:blipFill>
        <p:spPr>
          <a:xfrm>
            <a:off x="2556000" y="260280"/>
            <a:ext cx="4039920" cy="5616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654" name="Text Box 5"/>
          <p:cNvSpPr/>
          <p:nvPr/>
        </p:nvSpPr>
        <p:spPr>
          <a:xfrm>
            <a:off x="1835280" y="59500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kradené Německo – krach na NY burze v roce 1929 vrhl svět do hospodářského i existenčního kolap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5" descr="velke deprese"/>
          <p:cNvPicPr/>
          <p:nvPr/>
        </p:nvPicPr>
        <p:blipFill>
          <a:blip r:embed="rId1"/>
          <a:stretch/>
        </p:blipFill>
        <p:spPr>
          <a:xfrm>
            <a:off x="395280" y="404640"/>
            <a:ext cx="4237200" cy="559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56" name="Picture 6" descr="great depression"/>
          <p:cNvPicPr/>
          <p:nvPr/>
        </p:nvPicPr>
        <p:blipFill>
          <a:blip r:embed="rId2"/>
          <a:stretch/>
        </p:blipFill>
        <p:spPr>
          <a:xfrm>
            <a:off x="4859280" y="3546360"/>
            <a:ext cx="3745080" cy="303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57" name="Picture 7" descr="employee agancy"/>
          <p:cNvPicPr/>
          <p:nvPr/>
        </p:nvPicPr>
        <p:blipFill>
          <a:blip r:embed="rId3"/>
          <a:stretch/>
        </p:blipFill>
        <p:spPr>
          <a:xfrm>
            <a:off x="4863960" y="260280"/>
            <a:ext cx="2492640" cy="309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great depression3"/>
          <p:cNvPicPr/>
          <p:nvPr/>
        </p:nvPicPr>
        <p:blipFill>
          <a:blip r:embed="rId1"/>
          <a:stretch/>
        </p:blipFill>
        <p:spPr>
          <a:xfrm>
            <a:off x="4356000" y="692280"/>
            <a:ext cx="4554720" cy="46083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" descr="great depression2"/>
          <p:cNvPicPr/>
          <p:nvPr/>
        </p:nvPicPr>
        <p:blipFill>
          <a:blip r:embed="rId2"/>
          <a:stretch/>
        </p:blipFill>
        <p:spPr>
          <a:xfrm>
            <a:off x="468360" y="1484280"/>
            <a:ext cx="3759120" cy="4660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4"/>
          <p:cNvSpPr/>
          <p:nvPr/>
        </p:nvSpPr>
        <p:spPr>
          <a:xfrm>
            <a:off x="539640" y="333360"/>
            <a:ext cx="8353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eorgia"/>
              </a:rPr>
              <a:t>Březen/červenec  1932</a:t>
            </a: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: volby - vítězství NSDAP 230 mandátů/33%, (nemá však většinu pro vytvoření vlády) = panuje chaos ohledně jmenování vlády a kancléř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eorgia"/>
              </a:rPr>
              <a:t>Listopad 1932</a:t>
            </a: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: volby – vítězství NSDAP 196 mandátů = chaos pokračuje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0000"/>
                </a:solidFill>
                <a:uFillTx/>
                <a:latin typeface="Georgia"/>
              </a:rPr>
              <a:t>Leden 1933:</a:t>
            </a:r>
            <a:r>
              <a:rPr b="0" lang="cs-CZ" sz="2400" spc="-1" strike="noStrike">
                <a:solidFill>
                  <a:srgbClr val="cc0000"/>
                </a:solidFill>
                <a:latin typeface="Georgia"/>
              </a:rPr>
              <a:t> Hitler kvůli zmatku kolem vlády jmenován kancléřem, předpokládá se ukončení chaosu a Hitlerův  brzký pád (Franz von Papen, Paul von Hindenbu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eorgia"/>
              </a:rPr>
              <a:t>Březen 1933</a:t>
            </a: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 – volby, vítězství NSDAP 43%, poslední svobodné volby před II.sv.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0000"/>
                </a:solidFill>
                <a:uFillTx/>
                <a:latin typeface="Georgia"/>
              </a:rPr>
              <a:t>Červenec 1933:</a:t>
            </a:r>
            <a:r>
              <a:rPr b="0" lang="cs-CZ" sz="2400" spc="-1" strike="noStrike">
                <a:solidFill>
                  <a:srgbClr val="cc0000"/>
                </a:solidFill>
                <a:latin typeface="Georgia"/>
              </a:rPr>
              <a:t>  zmocňovací zákony – likvidace opoz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eorgia"/>
              </a:rPr>
              <a:t>Září 1933:</a:t>
            </a: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  spojení funkce kancléře a prezidenta = titulace „F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ű</a:t>
            </a: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hrer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Georgia"/>
              </a:rPr>
              <a:t>Listopad 1933</a:t>
            </a: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 – zmanipulované volby, „vítězství“ NSDAP 92%, (chybí úplně opoz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5"/>
          <p:cNvSpPr/>
          <p:nvPr/>
        </p:nvSpPr>
        <p:spPr>
          <a:xfrm>
            <a:off x="395280" y="558720"/>
            <a:ext cx="7848720" cy="105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užitá literatu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uklík, J.: Dějepis pro gymnázia a SŠ 4 – nejmodernější dějiny, SPN Prah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deti1"/>
          <p:cNvPicPr/>
          <p:nvPr/>
        </p:nvPicPr>
        <p:blipFill>
          <a:blip r:embed="rId1"/>
          <a:stretch/>
        </p:blipFill>
        <p:spPr>
          <a:xfrm>
            <a:off x="5491080" y="4076640"/>
            <a:ext cx="1022400" cy="13701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deti2"/>
          <p:cNvPicPr/>
          <p:nvPr/>
        </p:nvPicPr>
        <p:blipFill>
          <a:blip r:embed="rId2"/>
          <a:stretch/>
        </p:blipFill>
        <p:spPr>
          <a:xfrm>
            <a:off x="3835440" y="4076640"/>
            <a:ext cx="1020600" cy="1366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deti3"/>
          <p:cNvPicPr/>
          <p:nvPr/>
        </p:nvPicPr>
        <p:blipFill>
          <a:blip r:embed="rId3"/>
          <a:stretch/>
        </p:blipFill>
        <p:spPr>
          <a:xfrm>
            <a:off x="2178000" y="4076640"/>
            <a:ext cx="1020960" cy="13669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deti4"/>
          <p:cNvPicPr/>
          <p:nvPr/>
        </p:nvPicPr>
        <p:blipFill>
          <a:blip r:embed="rId4"/>
          <a:stretch/>
        </p:blipFill>
        <p:spPr>
          <a:xfrm>
            <a:off x="5491080" y="2349360"/>
            <a:ext cx="1020960" cy="13669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deti5"/>
          <p:cNvPicPr/>
          <p:nvPr/>
        </p:nvPicPr>
        <p:blipFill>
          <a:blip r:embed="rId5"/>
          <a:stretch/>
        </p:blipFill>
        <p:spPr>
          <a:xfrm>
            <a:off x="2195640" y="692280"/>
            <a:ext cx="1035000" cy="13683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7" descr="deti6"/>
          <p:cNvPicPr/>
          <p:nvPr/>
        </p:nvPicPr>
        <p:blipFill>
          <a:blip r:embed="rId6"/>
          <a:stretch/>
        </p:blipFill>
        <p:spPr>
          <a:xfrm>
            <a:off x="3835440" y="692280"/>
            <a:ext cx="1046160" cy="13683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8" descr="deti7"/>
          <p:cNvPicPr/>
          <p:nvPr/>
        </p:nvPicPr>
        <p:blipFill>
          <a:blip r:embed="rId7"/>
          <a:stretch/>
        </p:blipFill>
        <p:spPr>
          <a:xfrm>
            <a:off x="5491080" y="692280"/>
            <a:ext cx="1022400" cy="13683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9" descr="deti8"/>
          <p:cNvPicPr/>
          <p:nvPr/>
        </p:nvPicPr>
        <p:blipFill>
          <a:blip r:embed="rId8"/>
          <a:stretch/>
        </p:blipFill>
        <p:spPr>
          <a:xfrm>
            <a:off x="3835440" y="2349360"/>
            <a:ext cx="1022400" cy="13687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0" descr="deti9"/>
          <p:cNvPicPr/>
          <p:nvPr/>
        </p:nvPicPr>
        <p:blipFill>
          <a:blip r:embed="rId9"/>
          <a:stretch/>
        </p:blipFill>
        <p:spPr>
          <a:xfrm>
            <a:off x="2178000" y="2349360"/>
            <a:ext cx="1022400" cy="1368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5" descr="ghetto4"/>
          <p:cNvPicPr/>
          <p:nvPr/>
        </p:nvPicPr>
        <p:blipFill>
          <a:blip r:embed="rId1"/>
          <a:stretch/>
        </p:blipFill>
        <p:spPr>
          <a:xfrm>
            <a:off x="1187280" y="907920"/>
            <a:ext cx="6840720" cy="4837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4" descr="goring"/>
          <p:cNvPicPr/>
          <p:nvPr/>
        </p:nvPicPr>
        <p:blipFill>
          <a:blip r:embed="rId1"/>
          <a:stretch/>
        </p:blipFill>
        <p:spPr>
          <a:xfrm>
            <a:off x="2465280" y="476280"/>
            <a:ext cx="4194360" cy="5616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4" descr="children"/>
          <p:cNvPicPr/>
          <p:nvPr/>
        </p:nvPicPr>
        <p:blipFill>
          <a:blip r:embed="rId1"/>
          <a:srcRect l="0" t="0" r="3615" b="13837"/>
          <a:stretch/>
        </p:blipFill>
        <p:spPr>
          <a:xfrm>
            <a:off x="1258920" y="692280"/>
            <a:ext cx="6769080" cy="4654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heydrich"/>
          <p:cNvPicPr/>
          <p:nvPr/>
        </p:nvPicPr>
        <p:blipFill>
          <a:blip r:embed="rId1"/>
          <a:stretch/>
        </p:blipFill>
        <p:spPr>
          <a:xfrm>
            <a:off x="1979640" y="476280"/>
            <a:ext cx="5264280" cy="5473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holocaust5"/>
          <p:cNvPicPr/>
          <p:nvPr/>
        </p:nvPicPr>
        <p:blipFill>
          <a:blip r:embed="rId1"/>
          <a:stretch/>
        </p:blipFill>
        <p:spPr>
          <a:xfrm>
            <a:off x="1187280" y="476280"/>
            <a:ext cx="6913800" cy="5011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0:57:26Z</dcterms:created>
  <dc:creator>lazza</dc:creator>
  <dc:description/>
  <dc:language>en-US</dc:language>
  <cp:lastModifiedBy>martin</cp:lastModifiedBy>
  <dcterms:modified xsi:type="dcterms:W3CDTF">2013-01-12T10:01:03Z</dcterms:modified>
  <cp:revision>319</cp:revision>
  <dc:subject/>
  <dc:title>„Nejprve nacisté vystoupili proti Židům. Já ale nebyl Žid, a proto jsem mlčel a neprotestoval. Potom se zaměřili na katolíky. Já nebyl katolík, a tak jsem zase jen mlčel. Na řadu přišli odboráři, ale já nebyl v odborech, proč bych tedy protestoval.  Nakonec si přišli pro mě. Ale nebyl už nikdo, kdo by se jim postavil.“</dc:title>
</cp:coreProperties>
</file>